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0B80-780A-4683-A653-A93F5B48C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9F2E2-A57A-4105-9E4C-6C9BA4093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A1475-3090-473D-81FA-A0EA07256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7DB5E-D8C7-4061-AA9F-222D047F1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89851-94B0-461D-A4E1-9E8C52655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95EA3-D856-4BFD-982F-19051A27C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51AEC-7266-4CF8-9B79-017FAB634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BD799-A28D-492B-B010-B329410D6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94C77-2D92-4248-B305-5A2340F2C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D175D-C988-4F88-8120-3ECBB57DE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AF7F7-01C6-4CCA-9F20-9160C589D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958F5-67DF-4736-A2A0-8E141BBEF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6A589-5168-4DAF-BA40-5451A0B92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F178A-70E0-4B8D-9ACA-BD99C6038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6F6A6-84F1-4435-A2ED-2F0E24CCD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8A94B-F0C4-4065-937D-7C9506DD0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B66BC-9310-406A-A3BF-3A0EE0109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F1848-C4B9-4521-B602-4A710B904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30729-4B6D-437A-825C-113A57D6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00D71-3295-4951-BBCC-6BC959620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BFC77-897A-458E-9940-1848C0FD5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04BA2-F9D7-4504-8289-65B899E48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51974-6F4A-4442-9940-171A0C72C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A64C-FEA8-4EAD-8888-2063DEF9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DCD64-4199-4236-AAFC-94C92A94D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AF73-0E7E-480F-B2A0-4579AF8A98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C758-9748-4238-9027-96281C111E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sp>
        <p:nvSpPr>
          <p:cNvPr id="90" name=""/>
          <p:cNvSpPr/>
          <p:nvPr/>
        </p:nvSpPr>
        <p:spPr>
          <a:xfrm>
            <a:off x="3048120" y="533412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んにちは。</a:t>
            </a:r>
            <a:endParaRPr b="0" lang="en-US" sz="3600" spc="-1" strike="noStrike">
              <a:solidFill>
                <a:srgbClr val="ffffff"/>
              </a:solidFill>
              <a:latin typeface="Arial"/>
            </a:endParaRPr>
          </a:p>
        </p:txBody>
      </p:sp>
      <p:pic>
        <p:nvPicPr>
          <p:cNvPr id="91" name="" descr=""/>
          <p:cNvPicPr/>
          <p:nvPr/>
        </p:nvPicPr>
        <p:blipFill>
          <a:blip r:embed="rId2"/>
          <a:stretch/>
        </p:blipFill>
        <p:spPr>
          <a:xfrm>
            <a:off x="2743200" y="9907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sp>
        <p:nvSpPr>
          <p:cNvPr id="97"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98" name="" descr=""/>
          <p:cNvPicPr/>
          <p:nvPr/>
        </p:nvPicPr>
        <p:blipFill>
          <a:blip r:embed="rId2"/>
          <a:stretch/>
        </p:blipFill>
        <p:spPr>
          <a:xfrm>
            <a:off x="5257800" y="1676520"/>
            <a:ext cx="2585880" cy="37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572000" y="762120"/>
            <a:ext cx="3581280" cy="50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334120" y="4038480"/>
            <a:ext cx="2554200" cy="2156040"/>
          </a:xfrm>
          <a:prstGeom prst="rect">
            <a:avLst/>
          </a:prstGeom>
          <a:ln w="0">
            <a:noFill/>
          </a:ln>
        </p:spPr>
      </p:pic>
      <p:pic>
        <p:nvPicPr>
          <p:cNvPr id="105" name="" descr=""/>
          <p:cNvPicPr/>
          <p:nvPr/>
        </p:nvPicPr>
        <p:blipFill>
          <a:blip r:embed="rId3"/>
          <a:stretch/>
        </p:blipFill>
        <p:spPr>
          <a:xfrm>
            <a:off x="5029200" y="1676520"/>
            <a:ext cx="30481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800600" y="1600200"/>
            <a:ext cx="3581280" cy="39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1752480" y="1143000"/>
            <a:ext cx="5702400" cy="192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10-01-18T22:51:27Z</dcterms:modified>
  <cp:revision>8</cp:revision>
  <dc:subject/>
  <dc:title>日本ビデオゲーム</dc:title>
</cp:coreProperties>
</file>