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ct" ContentType="image/x-pict"/>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9C01-9FBC-4E7A-9B6B-FF9CB23C0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0B3B9-B22B-400A-B91E-036FB2847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25FD9-9D85-451B-9AAF-2859F3C3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0113C-7A4A-4E98-96A0-0BD3BD90D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565CF-8F01-4276-88A2-1D0D21BB9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9E9FA-3A75-4F21-A4EB-EF5C13AC8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474BC-3FE5-44BF-8A7A-0B44D05B9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F5FA5-2EAE-40FD-B705-171FDA00F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D79D7-1923-4172-8259-A3FB1C440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E9EC6-0233-4CD6-8285-3DB9C29F6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72BCA-E2A2-4005-9097-95DD8FBFF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AD133-FB34-48AE-9453-2EC6AED6E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D3CFD-7BDC-4E86-9621-55C2A3DEA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BB687-07FA-4599-9283-95384E5D1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4B5DD-94E2-4168-A660-DC1B16AA2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AD8F4-2DCD-4C1F-A224-37649F7D7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865D2-31DD-426C-AB5C-23E56D9BB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27F71-5414-489D-8438-65776CFCF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699E-1974-4BB7-9422-11B849EBF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23837-A37C-45D0-BCCD-1770D6114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B9230-276D-420D-AEDC-6CFC8446A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B1F5B-2AA7-4174-9BDE-93562364C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034F2-5454-437F-B170-18D7966EE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8CFD5-3F5C-4D27-9CC8-F57521C48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54196-6C83-48B3-B22F-1F3EA55A2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3AB7-E8B5-464B-BA17-FE851900F1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3A88-4DDC-4876-85AE-85BF16BBA33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sp>
        <p:nvSpPr>
          <p:cNvPr id="90" name=""/>
          <p:cNvSpPr/>
          <p:nvPr/>
        </p:nvSpPr>
        <p:spPr>
          <a:xfrm>
            <a:off x="3048120" y="533412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んにちは。</a:t>
            </a:r>
            <a:endParaRPr b="0" lang="en-US" sz="3600" spc="-1" strike="noStrike">
              <a:solidFill>
                <a:srgbClr val="ffffff"/>
              </a:solidFill>
              <a:latin typeface="Arial"/>
            </a:endParaRPr>
          </a:p>
        </p:txBody>
      </p:sp>
      <p:pic>
        <p:nvPicPr>
          <p:cNvPr id="91" name="" descr=""/>
          <p:cNvPicPr/>
          <p:nvPr/>
        </p:nvPicPr>
        <p:blipFill>
          <a:blip r:embed="rId2"/>
          <a:stretch/>
        </p:blipFill>
        <p:spPr>
          <a:xfrm>
            <a:off x="2743200" y="990720"/>
            <a:ext cx="342900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sp>
        <p:nvSpPr>
          <p:cNvPr id="97"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98" name="" descr=""/>
          <p:cNvPicPr/>
          <p:nvPr/>
        </p:nvPicPr>
        <p:blipFill>
          <a:blip r:embed="rId2"/>
          <a:stretch/>
        </p:blipFill>
        <p:spPr>
          <a:xfrm>
            <a:off x="5257800" y="1676520"/>
            <a:ext cx="2585880" cy="377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572000" y="762120"/>
            <a:ext cx="3581280" cy="508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334120" y="4038480"/>
            <a:ext cx="2554200" cy="2156040"/>
          </a:xfrm>
          <a:prstGeom prst="rect">
            <a:avLst/>
          </a:prstGeom>
          <a:ln w="0">
            <a:noFill/>
          </a:ln>
        </p:spPr>
      </p:pic>
      <p:pic>
        <p:nvPicPr>
          <p:cNvPr id="105" name="" descr=""/>
          <p:cNvPicPr/>
          <p:nvPr/>
        </p:nvPicPr>
        <p:blipFill>
          <a:blip r:embed="rId3"/>
          <a:stretch/>
        </p:blipFill>
        <p:spPr>
          <a:xfrm>
            <a:off x="5029200" y="1676520"/>
            <a:ext cx="30481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800600" y="1600200"/>
            <a:ext cx="3581280" cy="39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1752480" y="1143000"/>
            <a:ext cx="5702400" cy="192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10-01-18T22:51:27Z</dcterms:modified>
  <cp:revision>8</cp:revision>
  <dc:subject/>
  <dc:title>日本ビデオゲーム</dc:title>
</cp:coreProperties>
</file>