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82C5-EA9F-4DD5-89BD-D028AA75A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FF026-0103-4CCF-A40F-2E23DCD14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17BDE-7362-4C91-B039-0586BA9CE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6C6FF-DCEF-4A29-B9A3-29C8BD867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3B8BE-F032-40E6-88B1-60DC3D7FB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13F2B-D947-44E2-9DED-AD87CB60E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44B3F-644D-42D4-803A-C1E4A825C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43204-F504-4FF8-9370-4D346336A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3832B-0520-4939-882C-EF7F8D004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15BFE-9137-4B7E-A177-7CA6B1AC6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0EE17-6D47-4841-B117-38A375D59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255E9-5223-4E39-8C31-05F2C8AD0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94CA7-A5EE-466F-A767-20878E0CF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905B7-45CC-4ED2-B17C-F1189B3CD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2CBE6-47C3-43B9-9D5F-5FF1776EF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EA27B-3B64-4907-BB46-574DFC16E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4B03D-7DBE-4838-BC4F-82993C192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61BB0-7E3D-4815-A664-E4AC0C790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6F830-80CC-495A-914C-F80836339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5D7AD-B506-4755-8B30-3C1CCB310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4F40D-9708-4D2E-BE86-22100ACD1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72C4C-F751-4C32-B6E7-F41A0E539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9EA3A-C7EC-41AA-BEFE-9A1874D38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ECDD-AD28-4B36-8F87-3BC73AAAC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BDB2F-3E94-4E79-AF8F-044C9A537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27EB-8E5C-4AEE-82CB-6AA9A521DF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B3DC-3981-4F03-960D-29CC80C217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sp>
        <p:nvSpPr>
          <p:cNvPr id="90" name=""/>
          <p:cNvSpPr/>
          <p:nvPr/>
        </p:nvSpPr>
        <p:spPr>
          <a:xfrm>
            <a:off x="3048120" y="533412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んにちは。</a:t>
            </a:r>
            <a:endParaRPr b="0" lang="en-US" sz="3600" spc="-1" strike="noStrike">
              <a:solidFill>
                <a:srgbClr val="ffffff"/>
              </a:solidFill>
              <a:latin typeface="Arial"/>
            </a:endParaRPr>
          </a:p>
        </p:txBody>
      </p:sp>
      <p:pic>
        <p:nvPicPr>
          <p:cNvPr id="91" name="" descr=""/>
          <p:cNvPicPr/>
          <p:nvPr/>
        </p:nvPicPr>
        <p:blipFill>
          <a:blip r:embed="rId2"/>
          <a:stretch/>
        </p:blipFill>
        <p:spPr>
          <a:xfrm>
            <a:off x="2743200" y="9907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sp>
        <p:nvSpPr>
          <p:cNvPr id="97"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98" name="" descr=""/>
          <p:cNvPicPr/>
          <p:nvPr/>
        </p:nvPicPr>
        <p:blipFill>
          <a:blip r:embed="rId2"/>
          <a:stretch/>
        </p:blipFill>
        <p:spPr>
          <a:xfrm>
            <a:off x="5257800" y="1676520"/>
            <a:ext cx="2585880" cy="37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572000" y="762120"/>
            <a:ext cx="3581280" cy="50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334120" y="4038480"/>
            <a:ext cx="2554200" cy="2156040"/>
          </a:xfrm>
          <a:prstGeom prst="rect">
            <a:avLst/>
          </a:prstGeom>
          <a:ln w="0">
            <a:noFill/>
          </a:ln>
        </p:spPr>
      </p:pic>
      <p:pic>
        <p:nvPicPr>
          <p:cNvPr id="105" name="" descr=""/>
          <p:cNvPicPr/>
          <p:nvPr/>
        </p:nvPicPr>
        <p:blipFill>
          <a:blip r:embed="rId3"/>
          <a:stretch/>
        </p:blipFill>
        <p:spPr>
          <a:xfrm>
            <a:off x="5029200" y="1676520"/>
            <a:ext cx="3048120" cy="19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800600" y="1600200"/>
            <a:ext cx="3581280" cy="39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1752480" y="1143000"/>
            <a:ext cx="5702400" cy="192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10-01-18T22:51:27Z</dcterms:modified>
  <cp:revision>8</cp:revision>
  <dc:subject/>
  <dc:title>日本ビデオゲーム</dc:title>
</cp:coreProperties>
</file>