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png" ContentType="image/png"/>
  <Override PartName="/ppt/media/image3.jpeg" ContentType="image/jpeg"/>
  <Override PartName="/ppt/media/image4.jpeg" ContentType="image/jpeg"/>
  <Override PartName="/ppt/media/image31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0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DAD9-7BFB-4A91-8734-BFD21FBAE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ECD5-31F3-4A6C-815F-CD641B37A1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6971-E1E9-4CF7-AC4A-21AD75AA0D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DD2A-6342-4F56-A027-7F1FE65D27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A993-37A7-45D1-8B8D-731B8E1A2E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3976-F364-48D9-9C12-13E1114B3D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5012-8049-40BC-BE63-32FE9AA42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8692-D13B-4097-BD4D-942CEFBBEA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43F2-421B-437A-8904-D0D647B57F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C325-46C2-42BC-AA76-4506E32A96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EF3-0ADE-4096-A9D4-1420E994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7F7-FE5D-46C6-A2D2-2AF20AEA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C856-CBBA-414E-89FF-38FD3EE5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8B6-B83C-4542-BAAF-435F29F1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0AAE-6839-4158-8062-78ACACEE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3485-564D-4FFC-9FBC-E5CB2BEC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04A-5958-40E9-B354-C64B5CC6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F70C-D8F4-45A6-87CF-87C6BCE4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A23-FD6A-4AE6-A063-88C12933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675-4A42-4F13-AE4F-07481268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1BC-AF8F-4DE2-9552-87E8619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DBA-A2B9-48F2-8BB2-F79B908B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8280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37592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769040" indent="-19656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42AC-6135-49AC-AD25-D32B7442B8BD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057040"/>
            <a:ext cx="6912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6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日本の　のりもの</a:t>
            </a:r>
            <a:r>
              <a:rPr b="0" lang="ja-JP" sz="44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　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2971800"/>
            <a:ext cx="6476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Khristina &amp; Jack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6705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er ferries are used for shorter ru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igger ferries are used to hop between the four main island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Ferries are slow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comfortable and leisure way to travel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mall fees to bring bik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re significant fee to bring motorized vehicles aboar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45640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7621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248520" y="4495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2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2666880" y="228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Top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4343400" y="11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1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388620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Arial"/>
              </a:rPr>
              <a:t>Lob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6" descr="kktclr"/>
          <p:cNvPicPr/>
          <p:nvPr/>
        </p:nvPicPr>
        <p:blipFill>
          <a:blip r:embed="rId2"/>
          <a:stretch/>
        </p:blipFill>
        <p:spPr>
          <a:xfrm>
            <a:off x="304920" y="0"/>
            <a:ext cx="2361960" cy="16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kklcr"/>
          <p:cNvPicPr/>
          <p:nvPr/>
        </p:nvPicPr>
        <p:blipFill>
          <a:blip r:embed="rId3"/>
          <a:stretch/>
        </p:blipFill>
        <p:spPr>
          <a:xfrm>
            <a:off x="3124080" y="4938840"/>
            <a:ext cx="2438640" cy="19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kk2cmt"/>
          <p:cNvPicPr/>
          <p:nvPr/>
        </p:nvPicPr>
        <p:blipFill>
          <a:blip r:embed="rId4"/>
          <a:stretch/>
        </p:blipFill>
        <p:spPr>
          <a:xfrm>
            <a:off x="6019920" y="497196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kk2cbk"/>
          <p:cNvPicPr/>
          <p:nvPr/>
        </p:nvPicPr>
        <p:blipFill>
          <a:blip r:embed="rId5"/>
          <a:stretch/>
        </p:blipFill>
        <p:spPr>
          <a:xfrm>
            <a:off x="380880" y="4952880"/>
            <a:ext cx="2210040" cy="165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kk1clr"/>
          <p:cNvPicPr/>
          <p:nvPr/>
        </p:nvPicPr>
        <p:blipFill>
          <a:blip r:embed="rId6"/>
          <a:stretch/>
        </p:blipFill>
        <p:spPr>
          <a:xfrm>
            <a:off x="5943600" y="0"/>
            <a:ext cx="22860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28600" y="3049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7777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-76320" y="3276720"/>
          <a:ext cx="9220320" cy="347184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447920"/>
                <a:gridCol w="1371600"/>
                <a:gridCol w="1218960"/>
                <a:gridCol w="1219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Leav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rr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T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1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2nd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2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4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4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0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6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Bepp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2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Matsuya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Koku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2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7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1c1f"/>
                          </a:solidFill>
                          <a:latin typeface="Verdana"/>
                          <a:ea typeface="ＭＳ Ｐゴシック"/>
                        </a:rPr>
                        <a:t>Osak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b090a"/>
                          </a:solidFill>
                          <a:latin typeface="Verdana"/>
                          <a:ea typeface="ＭＳ Ｐゴシック"/>
                        </a:rPr>
                        <a:t>Sak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5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117" descr="kankimaz"/>
          <p:cNvPicPr/>
          <p:nvPr/>
        </p:nvPicPr>
        <p:blipFill>
          <a:blip r:embed="rId2"/>
          <a:stretch/>
        </p:blipFill>
        <p:spPr>
          <a:xfrm>
            <a:off x="4800600" y="304920"/>
            <a:ext cx="4119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フェリー</a:t>
            </a:r>
            <a:r>
              <a:rPr b="0" lang="en-US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r>
              <a:rPr b="0" lang="ja-JP" sz="4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マップ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7" descr="2355_06"/>
          <p:cNvPicPr/>
          <p:nvPr/>
        </p:nvPicPr>
        <p:blipFill>
          <a:blip r:embed="rId2"/>
          <a:srcRect l="1220" t="3706" r="0" b="5669"/>
          <a:stretch/>
        </p:blipFill>
        <p:spPr>
          <a:xfrm>
            <a:off x="2209680" y="4343400"/>
            <a:ext cx="3505320" cy="2292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8" descr="2355_05"/>
          <p:cNvPicPr/>
          <p:nvPr/>
        </p:nvPicPr>
        <p:blipFill>
          <a:blip r:embed="rId3"/>
          <a:stretch/>
        </p:blipFill>
        <p:spPr>
          <a:xfrm>
            <a:off x="4191120" y="228600"/>
            <a:ext cx="3047760" cy="2247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9" descr="2355_03"/>
          <p:cNvPicPr/>
          <p:nvPr/>
        </p:nvPicPr>
        <p:blipFill>
          <a:blip r:embed="rId4"/>
          <a:stretch/>
        </p:blipFill>
        <p:spPr>
          <a:xfrm>
            <a:off x="5943600" y="2610000"/>
            <a:ext cx="3200400" cy="240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0" descr="2355_02_081104"/>
          <p:cNvPicPr/>
          <p:nvPr/>
        </p:nvPicPr>
        <p:blipFill>
          <a:blip r:embed="rId5"/>
          <a:srcRect l="3488" t="1801" r="4874" b="2545"/>
          <a:stretch/>
        </p:blipFill>
        <p:spPr>
          <a:xfrm>
            <a:off x="228600" y="16765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91"/>
          <p:cNvSpPr/>
          <p:nvPr/>
        </p:nvSpPr>
        <p:spPr>
          <a:xfrm>
            <a:off x="2511360" y="223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581280" cy="990720"/>
          </a:xfrm>
          <a:prstGeom prst="rect">
            <a:avLst/>
          </a:prstGeom>
          <a:noFill/>
          <a:ln w="0">
            <a:noFill/>
          </a:ln>
          <a:effectLst>
            <a:outerShdw dist="533393" dir="1681073" blurRad="0" rotWithShape="0">
              <a:srgbClr val="373a3e">
                <a:alpha val="57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じてんしゃ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¥1000 per day to rent a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travel to work by bik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Many cities have no bike lan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Bike parking is a problem in some area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49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Occasionally, the police will go around and collect illegally parked bik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2ddf25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ddf25"/>
                </a:solidFill>
                <a:latin typeface="Verdana"/>
              </a:rPr>
              <a:t>They will give you a large yellow ticket and 24 hrs. notice before taking away your bik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imanami_kaido_cycling_map450"/>
          <p:cNvPicPr/>
          <p:nvPr/>
        </p:nvPicPr>
        <p:blipFill>
          <a:blip r:embed="rId2"/>
          <a:stretch/>
        </p:blipFill>
        <p:spPr>
          <a:xfrm>
            <a:off x="4876920" y="304920"/>
            <a:ext cx="3659040" cy="23810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380880" y="53352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baf5"/>
                </a:solidFill>
                <a:latin typeface="Arial"/>
              </a:rPr>
              <a:t>しまなみ　かい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79280" y="3844800"/>
            <a:ext cx="64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himanami Kaid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’s a highway that spans 6 islands in the Seto Inland Sea</a:t>
            </a:r>
            <a:r>
              <a:rPr b="1" lang="en-CA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It connects Honshu with Shikok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60 km lo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Some segments are more difficult than oth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6961320" cy="46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800" spc="-1" strike="noStrike">
                <a:solidFill>
                  <a:srgbClr val="ffffff"/>
                </a:solidFill>
                <a:latin typeface="Verdana"/>
              </a:rPr>
              <a:t>Questions:</a:t>
            </a:r>
            <a:endParaRPr b="0" lang="en-US" sz="9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520" y="3048120"/>
            <a:ext cx="35049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しんかんせ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くるま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フェリー</a:t>
            </a:r>
            <a:br>
              <a:rPr sz="3400"/>
            </a:br>
            <a:r>
              <a:rPr b="0" lang="ja-JP" sz="3400" spc="-1" strike="noStrike">
                <a:solidFill>
                  <a:srgbClr val="ff43bf"/>
                </a:solidFill>
                <a:latin typeface="Verdana"/>
              </a:rPr>
              <a:t>じてんしゃ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1447920"/>
            <a:ext cx="65530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ヒラギノ角ゴ ProN W3"/>
              </a:rPr>
              <a:t>Q</a:t>
            </a: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1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hat were our four main topics today?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　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（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 Japanese</a:t>
            </a:r>
            <a:r>
              <a:rPr b="0" lang="ja-JP" sz="26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）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361960"/>
            <a:ext cx="662436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447920"/>
            <a:ext cx="701028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ffffff"/>
                </a:solidFill>
                <a:latin typeface="Verdana"/>
              </a:rPr>
              <a:t>Q2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There are at least ____ different types of bullet trains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782960" y="360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038480" y="3733920"/>
            <a:ext cx="762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17524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3 What’s the legal driving age in Jap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3200" y="312372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18 Years ol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1295280"/>
            <a:ext cx="69339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4 How many hours of notice do you get before your bicycle is taken to bike jail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7760" y="411480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24 Hou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33520" y="-360"/>
            <a:ext cx="50292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777777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0" spc="-1" strike="noStrike">
                <a:solidFill>
                  <a:srgbClr val="ffffff"/>
                </a:solidFill>
                <a:latin typeface="Verdana"/>
                <a:ea typeface="ヒラギノ角ゴ Pro W3"/>
              </a:rPr>
              <a:t>しんかんせん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1c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At least 10 different kinds of shinkanse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19051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okaido/ Sanyo Shinkansen connecting Tokyo,   Nagoya, Kyoto and Osaka toge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Runs about 300 km/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d9d9d9"/>
                </a:solidFill>
                <a:latin typeface="Verdana"/>
                <a:ea typeface="ＭＳ Ｐゴシック"/>
              </a:rPr>
              <a:t>The first shinkansen line and the world’s first high speed train service in 196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2944800" y="471960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0" y="3962520"/>
            <a:ext cx="914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Kyushu Shinkansen connecting Yatsushiro with Kagosh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11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21113"/>
                </a:solidFill>
                <a:latin typeface="Arial"/>
              </a:rPr>
              <a:t>Done in March 200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0" y="5105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 Shinkansen, the Tohoku shinkansen from Tokyo to Morioka and the Joetsu Shinkansen to Niigate were completed in 198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5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  <a:ea typeface="Times New Roman"/>
              </a:rPr>
              <a:t>Shimanami Kaido joins ____ and ____ together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80720" y="3733920"/>
            <a:ext cx="4876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  <a:ea typeface="Times New Roman"/>
              </a:rPr>
              <a:t>Honshu and Shikoku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6 Which of these two is higher class on the ferry?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2nd A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2nd B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7920" y="36572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ヒラギノ角ゴ ProN W3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142640"/>
            <a:ext cx="678204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7 Do the Japanese drive on the right or left side of their ca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1280" y="365724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Right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8 What does </a:t>
            </a:r>
            <a:r>
              <a:rPr b="0" lang="ja-JP" sz="3400" spc="-1" strike="noStrike">
                <a:solidFill>
                  <a:srgbClr val="ffffff"/>
                </a:solidFill>
                <a:latin typeface="Verdana"/>
              </a:rPr>
              <a:t>のぞみ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mean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76720" y="3733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Hope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46784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9 How much ¥ does it 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st to rent a bicycle?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) ¥ 15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B) ¥ 9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) ¥1000</a:t>
            </a:r>
            <a:br>
              <a:rPr sz="3400"/>
            </a:b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) ¥1200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514600" y="3886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43bf"/>
                </a:solidFill>
                <a:latin typeface="Arial"/>
              </a:rPr>
              <a:t>---&gt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780240" y="657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665360" y="169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560" y="1447920"/>
            <a:ext cx="647676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Q10 Do you have to pay an extra fee to bring your motorized vehicle aboard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7600" y="4038120"/>
            <a:ext cx="1295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43bf"/>
                </a:solidFill>
                <a:latin typeface="Verdana"/>
              </a:rPr>
              <a:t>Ye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ひかり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3505320"/>
            <a:ext cx="8077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Means “light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he original shinkansen service on the Tokaido/ Sanyo lin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akes about three hours to travel from Tokyo to Osak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f"/>
                </a:solidFill>
                <a:latin typeface="Verdana"/>
              </a:rPr>
              <a:t>Two Hikari trains per hou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" name="Picture 4" descr="02_Hikari"/>
          <p:cNvPicPr/>
          <p:nvPr/>
        </p:nvPicPr>
        <p:blipFill>
          <a:blip r:embed="rId2"/>
          <a:stretch/>
        </p:blipFill>
        <p:spPr>
          <a:xfrm>
            <a:off x="3200400" y="0"/>
            <a:ext cx="373392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04920" y="3045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のぞみ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33523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eans “hop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he fastest bullet train in Japa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Takes about 2.5 hours between Tokyo and Osak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Only make major stops at Nagoya, Kyoto, Okayama, Hiroshi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5" descr="01_Nozomi"/>
          <p:cNvPicPr/>
          <p:nvPr/>
        </p:nvPicPr>
        <p:blipFill>
          <a:blip r:embed="rId2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01_Nozomi"/>
          <p:cNvPicPr/>
          <p:nvPr/>
        </p:nvPicPr>
        <p:blipFill>
          <a:blip r:embed="rId3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01_Nozomi"/>
          <p:cNvPicPr/>
          <p:nvPr/>
        </p:nvPicPr>
        <p:blipFill>
          <a:blip r:embed="rId4"/>
          <a:stretch/>
        </p:blipFill>
        <p:spPr>
          <a:xfrm>
            <a:off x="4551480" y="3414600"/>
            <a:ext cx="41040" cy="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01_Nozomi"/>
          <p:cNvPicPr/>
          <p:nvPr/>
        </p:nvPicPr>
        <p:blipFill>
          <a:blip r:embed="rId5"/>
          <a:stretch/>
        </p:blipFill>
        <p:spPr>
          <a:xfrm>
            <a:off x="3352680" y="0"/>
            <a:ext cx="3429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26672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Verdana"/>
              </a:rPr>
              <a:t>こだま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38858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Local version of the Shinkans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Makes all primary and secondary stop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Is not suitable for long distan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ff1c1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f"/>
                </a:solidFill>
                <a:latin typeface="Verdana"/>
              </a:rPr>
              <a:t>Fully covered by the Japan Rail Pas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Picture 5" descr="03_Kodama"/>
          <p:cNvPicPr/>
          <p:nvPr/>
        </p:nvPicPr>
        <p:blipFill>
          <a:blip r:embed="rId2"/>
          <a:stretch/>
        </p:blipFill>
        <p:spPr>
          <a:xfrm>
            <a:off x="3124080" y="0"/>
            <a:ext cx="3505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3716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Ticket Price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3657600"/>
          <a:ext cx="7848720" cy="1905120"/>
        </p:xfrm>
        <a:graphic>
          <a:graphicData uri="http://schemas.openxmlformats.org/drawingml/2006/table">
            <a:tbl>
              <a:tblPr/>
              <a:tblGrid>
                <a:gridCol w="1676520"/>
                <a:gridCol w="1523880"/>
                <a:gridCol w="160020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Dura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9dcb9"/>
                          </a:solidFill>
                          <a:latin typeface="Verdana"/>
                          <a:ea typeface="ＭＳ Ｐゴシック"/>
                        </a:rPr>
                        <a:t>Chil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7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7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18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14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14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612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45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25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b21113"/>
                          </a:solidFill>
                          <a:latin typeface="Verdana"/>
                          <a:ea typeface="ＭＳ Ｐゴシック"/>
                        </a:rPr>
                        <a:t>21 - Da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79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398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577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Verdana"/>
                          <a:ea typeface="ＭＳ Ｐゴシック"/>
                        </a:rPr>
                        <a:t>¥ 288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3124080"/>
          <a:ext cx="7848720" cy="507960"/>
        </p:xfrm>
        <a:graphic>
          <a:graphicData uri="http://schemas.openxmlformats.org/drawingml/2006/table">
            <a:tbl>
              <a:tblPr/>
              <a:tblGrid>
                <a:gridCol w="1709640"/>
                <a:gridCol w="3090960"/>
                <a:gridCol w="3048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Gre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d71215"/>
                          </a:solidFill>
                          <a:latin typeface="Verdana"/>
                          <a:ea typeface="ＭＳ Ｐゴシック"/>
                        </a:rPr>
                        <a:t>Ordin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00_shinkansen_map"/>
          <p:cNvPicPr/>
          <p:nvPr/>
        </p:nvPicPr>
        <p:blipFill>
          <a:blip r:embed="rId1"/>
          <a:stretch/>
        </p:blipFill>
        <p:spPr>
          <a:xfrm>
            <a:off x="1752480" y="1857240"/>
            <a:ext cx="6096240" cy="500076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1371600" y="609480"/>
            <a:ext cx="6248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47520">
                  <a:solidFill>
                    <a:srgbClr val="d51f24"/>
                  </a:solidFill>
                  <a:miter/>
                </a:ln>
                <a:solidFill>
                  <a:srgbClr val="ffffff"/>
                </a:solidFill>
                <a:latin typeface="ヒラギノ角ゴ Pro W3"/>
              </a:rPr>
              <a:t>しんかんせん　ルート</a:t>
            </a:r>
            <a:endParaRPr b="0" lang="en-US" sz="2400" spc="1" strike="noStrike">
              <a:ln w="47520">
                <a:solidFill>
                  <a:srgbClr val="d51f24"/>
                </a:solidFill>
                <a:miter/>
              </a:ln>
              <a:solidFill>
                <a:srgbClr val="ffffff"/>
              </a:solidFill>
              <a:latin typeface="ヒラギノ角ゴ Pro W3"/>
              <a:ea typeface="ヒラギノ角ゴ Pro W3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6500880" y="10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304920"/>
            <a:ext cx="2514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160aca"/>
                </a:solidFill>
                <a:latin typeface="Verdana"/>
              </a:rPr>
              <a:t>くる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right side of the c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Drive on the left side of the roa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Minimum driving age is 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Go to local driving center and get your license converted into a Japanese licens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Take an eye test and prove that you have been living in your license issuing country for 3 month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5fdc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d5fdc"/>
                </a:solidFill>
                <a:latin typeface="Verdana"/>
              </a:rPr>
              <a:t>You will have to take written and practical exa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5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日本の　くるま</a:t>
            </a:r>
            <a:r>
              <a:rPr b="0" lang="en-US" sz="6000" spc="-1" strike="noStrike">
                <a:solidFill>
                  <a:srgbClr val="777777"/>
                </a:solidFill>
                <a:latin typeface="Verdana"/>
                <a:ea typeface="ヒラギノ角ゴ Pro W3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428640" y="22093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Toyot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Niss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Hon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zuk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Maz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Daihats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Subar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Verdana"/>
              </a:rPr>
              <a:t>Isuz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c3c3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Content Placeholder 6" descr="daihatsu logo.jpg"/>
          <p:cNvPicPr/>
          <p:nvPr/>
        </p:nvPicPr>
        <p:blipFill>
          <a:blip r:embed="rId2"/>
          <a:stretch/>
        </p:blipFill>
        <p:spPr>
          <a:xfrm>
            <a:off x="6084720" y="0"/>
            <a:ext cx="1425600" cy="1187280"/>
          </a:xfrm>
          <a:prstGeom prst="rect">
            <a:avLst/>
          </a:prstGeom>
          <a:ln w="0">
            <a:noFill/>
          </a:ln>
        </p:spPr>
      </p:pic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7" descr="honda logo.jpg"/>
          <p:cNvPicPr/>
          <p:nvPr/>
        </p:nvPicPr>
        <p:blipFill>
          <a:blip r:embed="rId3"/>
          <a:stretch/>
        </p:blipFill>
        <p:spPr>
          <a:xfrm>
            <a:off x="7308720" y="1413000"/>
            <a:ext cx="16002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isuzu logo.jpg"/>
          <p:cNvPicPr/>
          <p:nvPr/>
        </p:nvPicPr>
        <p:blipFill>
          <a:blip r:embed="rId4"/>
          <a:stretch/>
        </p:blipFill>
        <p:spPr>
          <a:xfrm>
            <a:off x="838080" y="1523880"/>
            <a:ext cx="1714680" cy="951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mazda logo.jpg"/>
          <p:cNvPicPr/>
          <p:nvPr/>
        </p:nvPicPr>
        <p:blipFill>
          <a:blip r:embed="rId5"/>
          <a:stretch/>
        </p:blipFill>
        <p:spPr>
          <a:xfrm>
            <a:off x="5940360" y="3284640"/>
            <a:ext cx="1447920" cy="1461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nissan logo.jpg"/>
          <p:cNvPicPr/>
          <p:nvPr/>
        </p:nvPicPr>
        <p:blipFill>
          <a:blip r:embed="rId6"/>
          <a:stretch/>
        </p:blipFill>
        <p:spPr>
          <a:xfrm>
            <a:off x="4500720" y="1052640"/>
            <a:ext cx="1238040" cy="104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ubaru logo.jpg"/>
          <p:cNvPicPr/>
          <p:nvPr/>
        </p:nvPicPr>
        <p:blipFill>
          <a:blip r:embed="rId7"/>
          <a:stretch/>
        </p:blipFill>
        <p:spPr>
          <a:xfrm>
            <a:off x="1187280" y="5229360"/>
            <a:ext cx="1541520" cy="113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suzuki logo.jpg"/>
          <p:cNvPicPr/>
          <p:nvPr/>
        </p:nvPicPr>
        <p:blipFill>
          <a:blip r:embed="rId8"/>
          <a:stretch/>
        </p:blipFill>
        <p:spPr>
          <a:xfrm>
            <a:off x="7451640" y="5373720"/>
            <a:ext cx="1371600" cy="117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oyota logo.jpg"/>
          <p:cNvPicPr/>
          <p:nvPr/>
        </p:nvPicPr>
        <p:blipFill>
          <a:blip r:embed="rId9"/>
          <a:stretch/>
        </p:blipFill>
        <p:spPr>
          <a:xfrm>
            <a:off x="1042920" y="3500280"/>
            <a:ext cx="14479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10:17Z</dcterms:created>
  <dc:creator>SD#34</dc:creator>
  <dc:description/>
  <dc:language>en-US</dc:language>
  <cp:lastModifiedBy>RBSS</cp:lastModifiedBy>
  <dcterms:modified xsi:type="dcterms:W3CDTF">2009-12-10T21:32:21Z</dcterms:modified>
  <cp:revision>32</cp:revision>
  <dc:subject/>
  <dc:title>日本の　のりもの　</dc:title>
</cp:coreProperties>
</file>