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3.jpeg" ContentType="image/jpeg"/>
  <Override PartName="/ppt/media/image4.jpeg" ContentType="image/jpeg"/>
  <Override PartName="/ppt/media/image31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5A1F-F242-42F5-A996-BEF3BDA90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D679-2822-4B1B-8DD7-312075199F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FEBD-818A-4F1A-BF04-239979B31C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713E-110F-40BB-BD4A-49ED071AEA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A6F6-F62C-4771-9EC2-FDD81BFB31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5459-B6F1-422B-9C1C-1A5EDA45DF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97D8-DFDB-4126-B8A8-3C5D4F1AD2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F9D2-FB1F-4CB6-9D32-A456D09879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F077-7A38-4A85-8E9E-8769A8CA65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956A-40FF-402F-BE27-B36A5F9452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7047-5746-4FFE-AA8A-83FDEC92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2F3-2E91-47C7-882A-2FC2ED33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B23-0440-4626-9D84-ECC14C9A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379-0B7C-4B5C-8685-0985D97A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EC2-DC94-4A69-9C98-04D7DEE9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AD3-FB46-45FD-9C61-86C8A99D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166-7531-4194-AB20-7016D057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7E2-22D1-4922-BDBB-56BD3544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BEF-C296-4997-826D-5E364A1A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157C-8F72-48ED-9938-DBDAAFDD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B5E-53FE-43A6-AD04-ACB5D476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CE4-2064-4D18-AE21-39B5777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0147-5C31-42F0-9038-C2FF4B78880D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9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日本の　のりもの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Khristina &amp; Jack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er ferries are used for shorter ru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igger ferries are used to hop between the four main islan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erries are slow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comfortable and leisure way to trav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 fees to bring bik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significant fee to bring motorized vehicl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640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621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2485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26668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Top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4343400" y="1143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1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886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Lob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6" descr="kktclr"/>
          <p:cNvPicPr/>
          <p:nvPr/>
        </p:nvPicPr>
        <p:blipFill>
          <a:blip r:embed="rId2"/>
          <a:stretch/>
        </p:blipFill>
        <p:spPr>
          <a:xfrm>
            <a:off x="304920" y="0"/>
            <a:ext cx="2361960" cy="162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kklcr"/>
          <p:cNvPicPr/>
          <p:nvPr/>
        </p:nvPicPr>
        <p:blipFill>
          <a:blip r:embed="rId3"/>
          <a:stretch/>
        </p:blipFill>
        <p:spPr>
          <a:xfrm>
            <a:off x="3124080" y="4938840"/>
            <a:ext cx="2438640" cy="19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kk2cmt"/>
          <p:cNvPicPr/>
          <p:nvPr/>
        </p:nvPicPr>
        <p:blipFill>
          <a:blip r:embed="rId4"/>
          <a:stretch/>
        </p:blipFill>
        <p:spPr>
          <a:xfrm>
            <a:off x="6019920" y="49719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kk2cbk"/>
          <p:cNvPicPr/>
          <p:nvPr/>
        </p:nvPicPr>
        <p:blipFill>
          <a:blip r:embed="rId5"/>
          <a:stretch/>
        </p:blipFill>
        <p:spPr>
          <a:xfrm>
            <a:off x="380880" y="49528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kk1clr"/>
          <p:cNvPicPr/>
          <p:nvPr/>
        </p:nvPicPr>
        <p:blipFill>
          <a:blip r:embed="rId6"/>
          <a:stretch/>
        </p:blipFill>
        <p:spPr>
          <a:xfrm>
            <a:off x="5943600" y="0"/>
            <a:ext cx="2286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2860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7777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76320" y="3276720"/>
          <a:ext cx="9220320" cy="3471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447920"/>
                <a:gridCol w="137160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Lea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rr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T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1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2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4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0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6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Kok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2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Sak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17" descr="kankimaz"/>
          <p:cNvPicPr/>
          <p:nvPr/>
        </p:nvPicPr>
        <p:blipFill>
          <a:blip r:embed="rId2"/>
          <a:stretch/>
        </p:blipFill>
        <p:spPr>
          <a:xfrm>
            <a:off x="4800600" y="304920"/>
            <a:ext cx="4119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フェリー</a:t>
            </a:r>
            <a:r>
              <a:rPr b="0" lang="en-US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マッ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7" descr="2355_06"/>
          <p:cNvPicPr/>
          <p:nvPr/>
        </p:nvPicPr>
        <p:blipFill>
          <a:blip r:embed="rId2"/>
          <a:srcRect l="1220" t="3706" r="0" b="5669"/>
          <a:stretch/>
        </p:blipFill>
        <p:spPr>
          <a:xfrm>
            <a:off x="2209680" y="4343400"/>
            <a:ext cx="350532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8" descr="2355_05"/>
          <p:cNvPicPr/>
          <p:nvPr/>
        </p:nvPicPr>
        <p:blipFill>
          <a:blip r:embed="rId3"/>
          <a:stretch/>
        </p:blipFill>
        <p:spPr>
          <a:xfrm>
            <a:off x="4191120" y="228600"/>
            <a:ext cx="3047760" cy="224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9" descr="2355_03"/>
          <p:cNvPicPr/>
          <p:nvPr/>
        </p:nvPicPr>
        <p:blipFill>
          <a:blip r:embed="rId4"/>
          <a:stretch/>
        </p:blipFill>
        <p:spPr>
          <a:xfrm>
            <a:off x="5943600" y="2610000"/>
            <a:ext cx="3200400" cy="240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0" descr="2355_02_081104"/>
          <p:cNvPicPr/>
          <p:nvPr/>
        </p:nvPicPr>
        <p:blipFill>
          <a:blip r:embed="rId5"/>
          <a:srcRect l="3488" t="1801" r="4874" b="2545"/>
          <a:stretch/>
        </p:blipFill>
        <p:spPr>
          <a:xfrm>
            <a:off x="228600" y="16765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1"/>
          <p:cNvSpPr/>
          <p:nvPr/>
        </p:nvSpPr>
        <p:spPr>
          <a:xfrm>
            <a:off x="2511360" y="223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81280" cy="990720"/>
          </a:xfrm>
          <a:prstGeom prst="rect">
            <a:avLst/>
          </a:prstGeom>
          <a:noFill/>
          <a:ln w="0">
            <a:noFill/>
          </a:ln>
          <a:effectLst>
            <a:outerShdw dist="533393" dir="1681073" blurRad="0" rotWithShape="0">
              <a:srgbClr val="373a3e">
                <a:alpha val="57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じてんしゃ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¥1000 per day to rent a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travel to work by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cities have no bike lan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Bike parking is a problem in some are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Occasionally, the police will go around and collect illegally parked bik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They will give you a large yellow ticket and 24 hrs. notice before taking away your bik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himanami_kaido_cycling_map450"/>
          <p:cNvPicPr/>
          <p:nvPr/>
        </p:nvPicPr>
        <p:blipFill>
          <a:blip r:embed="rId2"/>
          <a:stretch/>
        </p:blipFill>
        <p:spPr>
          <a:xfrm>
            <a:off x="4876920" y="304920"/>
            <a:ext cx="3659040" cy="2381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0880" y="533520"/>
            <a:ext cx="41911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baf5"/>
                </a:solidFill>
                <a:latin typeface="Arial"/>
              </a:rPr>
              <a:t>しまなみ　かい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9280" y="384480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himanami Kaid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’s a highway that spans 6 islands in the Seto Inland Sea</a:t>
            </a:r>
            <a:r>
              <a:rPr b="1" lang="en-CA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 connects Honshu with Shikok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60 km lo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ome segments are more difficult than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6961320" cy="46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ffffff"/>
                </a:solidFill>
                <a:latin typeface="Verdana"/>
              </a:rPr>
              <a:t>Questions:</a:t>
            </a:r>
            <a:endParaRPr b="0" lang="en-US" sz="9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520" y="3048120"/>
            <a:ext cx="3504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しんかんせ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くるま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フェリー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じてんしゃ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1447920"/>
            <a:ext cx="6553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ヒラギノ角ゴ ProN W3"/>
              </a:rPr>
              <a:t>Q</a:t>
            </a: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at were our four main topics today?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　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（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Japanese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66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447920"/>
            <a:ext cx="7010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Q2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re are at least ____ different types of bullet trains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782960" y="36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038480" y="3733920"/>
            <a:ext cx="7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3 What’s the legal driving age in Jap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43200" y="312372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18 Years ol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295280"/>
            <a:ext cx="6933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4 How many hours of notice do you get before your bicycle is taken to bike jail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7760" y="411480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24 Hou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50292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しんかんせん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1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At least 10 different kinds of shinkanse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19051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okaido/ Sanyo Shinkansen connecting Tokyo,   Nagoya, Kyoto and Osaka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Runs about 300 km/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he first shinkansen line and the world’s first high speed train service in 196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944800" y="471960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0" y="396252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Kyushu Shinkansen connecting Yatsushiro with Kagosh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Done in March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Shinkansen, the Tohoku shinkansen from Tokyo to Morioka and the Joetsu Shinkansen to Niigate were completed in 198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5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Times New Roman"/>
              </a:rPr>
              <a:t>Shimanami Kaido joins ____ and ____ together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37339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  <a:ea typeface="Times New Roman"/>
              </a:rPr>
              <a:t>Honshu and Shikoku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6 Which of these two is higher class on the ferry?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2nd A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2nd B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7920" y="36572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ヒラギノ角ゴ ProN W3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6782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7 Do the Japanese drive on the right or left side of their car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1280" y="36572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Righ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8 What does 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</a:rPr>
              <a:t>のぞみ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me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6720" y="3733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Hope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4678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9 How much ¥ does it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st to rent a bicycle?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¥ 15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¥ 9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) ¥10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) ¥1200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3886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Arial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780240" y="65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665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1447920"/>
            <a:ext cx="647676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10 Do you have to pay an extra fee to bring your motorized vehicle aboard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7600" y="4038120"/>
            <a:ext cx="1295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Y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ひかり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Means “light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he original shinkansen service on the Tokaido/ Sanyo li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akes about three hours to travel from Tokyo to Osak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wo Hikari trains per hou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" name="Picture 4" descr="02_Hikari"/>
          <p:cNvPicPr/>
          <p:nvPr/>
        </p:nvPicPr>
        <p:blipFill>
          <a:blip r:embed="rId2"/>
          <a:stretch/>
        </p:blipFill>
        <p:spPr>
          <a:xfrm>
            <a:off x="3200400" y="0"/>
            <a:ext cx="37339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のぞみ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3352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eans “hop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he fastest bullet trai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akes about 2.5 hours between Tokyo and Osak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Only make major stops at Nagoya, Kyoto, Okayama, Hiroshi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5" descr="01_Nozomi"/>
          <p:cNvPicPr/>
          <p:nvPr/>
        </p:nvPicPr>
        <p:blipFill>
          <a:blip r:embed="rId2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1_Nozomi"/>
          <p:cNvPicPr/>
          <p:nvPr/>
        </p:nvPicPr>
        <p:blipFill>
          <a:blip r:embed="rId3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01_Nozomi"/>
          <p:cNvPicPr/>
          <p:nvPr/>
        </p:nvPicPr>
        <p:blipFill>
          <a:blip r:embed="rId4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01_Nozomi"/>
          <p:cNvPicPr/>
          <p:nvPr/>
        </p:nvPicPr>
        <p:blipFill>
          <a:blip r:embed="rId5"/>
          <a:stretch/>
        </p:blipFill>
        <p:spPr>
          <a:xfrm>
            <a:off x="3352680" y="0"/>
            <a:ext cx="3429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2667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こだ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885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Local version of the Shinkans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akes all primary and secondary stop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Is not suitable for long distan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Fully covered by the Japan Rail Pa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5" descr="03_Kodama"/>
          <p:cNvPicPr/>
          <p:nvPr/>
        </p:nvPicPr>
        <p:blipFill>
          <a:blip r:embed="rId2"/>
          <a:stretch/>
        </p:blipFill>
        <p:spPr>
          <a:xfrm>
            <a:off x="3124080" y="0"/>
            <a:ext cx="3505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3657600"/>
          <a:ext cx="784872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160020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Dur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7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7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8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14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14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6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0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45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21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7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9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5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3124080"/>
          <a:ext cx="7848720" cy="507960"/>
        </p:xfrm>
        <a:graphic>
          <a:graphicData uri="http://schemas.openxmlformats.org/drawingml/2006/table">
            <a:tbl>
              <a:tblPr/>
              <a:tblGrid>
                <a:gridCol w="1709640"/>
                <a:gridCol w="3090960"/>
                <a:gridCol w="3048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Ord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00_shinkansen_map"/>
          <p:cNvPicPr/>
          <p:nvPr/>
        </p:nvPicPr>
        <p:blipFill>
          <a:blip r:embed="rId1"/>
          <a:stretch/>
        </p:blipFill>
        <p:spPr>
          <a:xfrm>
            <a:off x="1752480" y="1857240"/>
            <a:ext cx="609624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371600" y="6094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47520">
                  <a:solidFill>
                    <a:srgbClr val="d51f24"/>
                  </a:solidFill>
                  <a:miter/>
                </a:ln>
                <a:solidFill>
                  <a:srgbClr val="ffffff"/>
                </a:solidFill>
                <a:latin typeface="ヒラギノ角ゴ Pro W3"/>
              </a:rPr>
              <a:t>しんかんせん　ルート</a:t>
            </a:r>
            <a:endParaRPr b="0" lang="en-US" sz="2400" spc="1" strike="noStrike">
              <a:ln w="47520">
                <a:solidFill>
                  <a:srgbClr val="d51f24"/>
                </a:solidFill>
                <a:miter/>
              </a:ln>
              <a:solidFill>
                <a:srgbClr val="ffffff"/>
              </a:solidFill>
              <a:latin typeface="ヒラギノ角ゴ Pro W3"/>
              <a:ea typeface="ヒラギノ角ゴ Pro W3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5008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7760" y="3049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160aca"/>
                </a:solidFill>
                <a:latin typeface="Verdana"/>
              </a:rPr>
              <a:t>くる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3200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right side of the c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left side of the ro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Minimum driving age is 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Go to local driving center and get your license converted into a Japanese lice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Take an eye test and prove that you have been living in your license issuing country for 3 month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You will have to take written and practical exa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4724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日本の　くるま</a:t>
            </a:r>
            <a:r>
              <a:rPr b="0" lang="en-US" sz="6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28640" y="22093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Toyo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Niss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Ho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zuk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Maz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Daihat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ba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Isuz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Content Placeholder 6" descr="daihatsu logo.jpg"/>
          <p:cNvPicPr/>
          <p:nvPr/>
        </p:nvPicPr>
        <p:blipFill>
          <a:blip r:embed="rId2"/>
          <a:stretch/>
        </p:blipFill>
        <p:spPr>
          <a:xfrm>
            <a:off x="6084720" y="0"/>
            <a:ext cx="1425600" cy="118728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honda logo.jpg"/>
          <p:cNvPicPr/>
          <p:nvPr/>
        </p:nvPicPr>
        <p:blipFill>
          <a:blip r:embed="rId3"/>
          <a:stretch/>
        </p:blipFill>
        <p:spPr>
          <a:xfrm>
            <a:off x="7308720" y="1413000"/>
            <a:ext cx="16002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suzu logo.jpg"/>
          <p:cNvPicPr/>
          <p:nvPr/>
        </p:nvPicPr>
        <p:blipFill>
          <a:blip r:embed="rId4"/>
          <a:stretch/>
        </p:blipFill>
        <p:spPr>
          <a:xfrm>
            <a:off x="838080" y="1523880"/>
            <a:ext cx="171468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mazda logo.jpg"/>
          <p:cNvPicPr/>
          <p:nvPr/>
        </p:nvPicPr>
        <p:blipFill>
          <a:blip r:embed="rId5"/>
          <a:stretch/>
        </p:blipFill>
        <p:spPr>
          <a:xfrm>
            <a:off x="5940360" y="3284640"/>
            <a:ext cx="1447920" cy="146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nissan logo.jpg"/>
          <p:cNvPicPr/>
          <p:nvPr/>
        </p:nvPicPr>
        <p:blipFill>
          <a:blip r:embed="rId6"/>
          <a:stretch/>
        </p:blipFill>
        <p:spPr>
          <a:xfrm>
            <a:off x="4500720" y="1052640"/>
            <a:ext cx="1238040" cy="10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ubaru logo.jpg"/>
          <p:cNvPicPr/>
          <p:nvPr/>
        </p:nvPicPr>
        <p:blipFill>
          <a:blip r:embed="rId7"/>
          <a:stretch/>
        </p:blipFill>
        <p:spPr>
          <a:xfrm>
            <a:off x="1187280" y="5229360"/>
            <a:ext cx="154152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uzuki logo.jpg"/>
          <p:cNvPicPr/>
          <p:nvPr/>
        </p:nvPicPr>
        <p:blipFill>
          <a:blip r:embed="rId8"/>
          <a:stretch/>
        </p:blipFill>
        <p:spPr>
          <a:xfrm>
            <a:off x="7451640" y="5373720"/>
            <a:ext cx="1371600" cy="117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oyota logo.jpg"/>
          <p:cNvPicPr/>
          <p:nvPr/>
        </p:nvPicPr>
        <p:blipFill>
          <a:blip r:embed="rId9"/>
          <a:stretch/>
        </p:blipFill>
        <p:spPr>
          <a:xfrm>
            <a:off x="1042920" y="3500280"/>
            <a:ext cx="1447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0:17Z</dcterms:created>
  <dc:creator>SD#34</dc:creator>
  <dc:description/>
  <dc:language>en-US</dc:language>
  <cp:lastModifiedBy>RBSS</cp:lastModifiedBy>
  <dcterms:modified xsi:type="dcterms:W3CDTF">2009-12-10T21:32:21Z</dcterms:modified>
  <cp:revision>32</cp:revision>
  <dc:subject/>
  <dc:title>日本の　のりもの　</dc:title>
</cp:coreProperties>
</file>