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4D62-47DA-46BE-B448-7F822DEF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AF4-82BC-4ECB-9BF7-81C8EC6E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D17-96C7-4C1D-8AA8-A656B7E4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DC8D-41E8-43E0-9E90-C94EF0F7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5364-54E9-4F02-AC7B-574BB2EE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D926-80F0-490B-8840-1D8A84D7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1423-3E40-4621-A619-1CBB9980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74C9-8BB4-42AB-A26D-EDBA141E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A047-F157-4BEF-BB41-268B42FC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2415-6CC6-46DF-9543-28364AEF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8EA9-E61D-468E-A232-A50AEBC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287-D78A-4E93-946E-EB109FBE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7EF5-CA55-45ED-B127-909A765B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160E-0810-4710-8EA7-FDD485D8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77F2-439D-4BB4-9FB3-F9D1937D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CCDD-65C9-403E-B54A-AF0D3FB9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384A-A47D-47CC-8A59-171D4D00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F50-CD46-4684-8B0F-6C3C4A7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1AC-CF0A-4B7C-9E64-B8D2B241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7386-9113-40CC-BEEA-9A363DA4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856-3276-4E64-A083-15059293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7FD-D87C-4195-A65D-E6C8604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312-B2AD-4FCA-ACC1-5278D666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2D5-0235-4BA7-AA2F-50D92D93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3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F82B94-8D06-447F-B93F-CA20923D69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109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8903E-F3F2-4F74-BD6D-7DB0E4015ED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0/05/HONDA_ASIMO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apanese Robotic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: Ethan &amp; Denn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165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tube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ww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ikipedi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or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Types of Japane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bo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umanoid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ustrial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ro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imal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uman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5400" y="1598400"/>
            <a:ext cx="4035240" cy="297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3280" y="1598400"/>
            <a:ext cx="4037040" cy="2973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4724280"/>
            <a:ext cx="82245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umanoid is a type of robot that is made to act like a human. (talk, walk, ec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File:HONDA ASI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1600200"/>
            <a:ext cx="209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48320" y="1820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4035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robots are usually robotic arms that are used to make different types of things like cars, metal parts and other everyday applian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11464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289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r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4647960"/>
            <a:ext cx="82245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droid is a robot or synthetic organism designed to look and act like a human. An android is similar to a humanoi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360880" cy="35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3922200"/>
            <a:ext cx="82245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walk, see its environment through camera, and recognize spoken commands i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日本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, the AIBO robotic pets are considered to be a robot since they are able to learn and mature based on external stimuli from their owner or environme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1940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ard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3962520"/>
            <a:ext cx="82245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robo D1 is a 198-pound robot that guards against intruders, fires and water leaks. It is approximately 3 feet 6 inches tall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cameras and sensors, the Guardrob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1 patrols a preprogrammed route in the building where it operates. It can send camera footage or contact people by radio if there is a fire or a break-in. It is equipped with a fire extinguisher and can also shoot paint bullets at strang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131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cue Rob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4800240"/>
            <a:ext cx="822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s are used for aiding rescue workers in natural disasters, fires, hostage situations, or explosions were it’s to dangerous for humans to g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67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obots have been around since the 1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irst known case of robot homicide occurred in 1981, when a robotic arm crushed a Japanese Kawasaki factory work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ebot, built by Japan’s NEC System Technologies and Mie University, can ID scads of different wines and cheeses. It recently mistook a reporter’s hand for prosciut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FLINT</dc:creator>
  <dc:description/>
  <dc:language>en-US</dc:language>
  <cp:lastModifiedBy>ETHAN FLINT</cp:lastModifiedBy>
  <dcterms:modified xsi:type="dcterms:W3CDTF">2009-12-15T03:01:05Z</dcterms:modified>
  <cp:revision>6</cp:revision>
  <dc:subject/>
  <dc:title>Japanese Robtics </dc:title>
</cp:coreProperties>
</file>