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6278-A807-4FAD-B290-08B54CFA1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4136-4C75-46B2-93F3-8E5572A006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F1B8-1CD8-48D7-B97A-C90D5AB645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78E4-F774-4A58-AB10-E3202484F5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7B77-475A-40FA-92A9-B0B21E9249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3AB6-6F23-4843-BD27-63B862582E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F653-5FD4-4B84-9A2E-104BDDCCFF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1FEE-FEE0-46F7-BCAC-5B1465C902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A878-8935-4BC5-BD44-EFEB8A5E67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BB3F-F8C9-4E3C-A112-2658D3A32E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21B-0901-4C74-B1DF-D8C80C17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759-332C-4EA2-B255-B14B09F9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B8D-A157-4B2D-B33C-F8152574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279-60E8-460F-BA5F-2113A400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A1A-B884-4844-82D3-46FD2147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71F-230F-4CDF-8591-B601D17B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17B-26ED-4CD9-A923-F2AFD0D9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766-2286-4A14-B5D1-0D49DDE5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2D2-3C36-41FB-9AC0-CA8DB6B5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EFF1-A93B-4B48-826D-EB67955E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6DF-2543-4C85-AF28-593044CE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425-2203-4EE6-9621-713CC30F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1442-7D7F-4378-BE96-21BBA93F0B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NarutoShuriken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Traditional </a:t>
            </a: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日本　</a:t>
            </a:r>
            <a:r>
              <a:rPr b="0" lang="en-US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Weapon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80808"/>
                </a:solidFill>
                <a:latin typeface="Arial"/>
              </a:rPr>
              <a:t>クイズ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かたな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Trip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Single 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Doubled Edg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ヌンチャク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ere connected by _____or cha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6858000" y="19810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さい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carri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37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7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8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________ has a sickle on one end and a weight on the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7200" y="1981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c00000"/>
                </a:solidFill>
                <a:latin typeface="Arial"/>
              </a:rPr>
              <a:t>くさりが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ぼう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_ lo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5.6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4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1.28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d) 1.82 c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2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2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しゅりけん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made from 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6934320" y="1981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00000"/>
                </a:solidFill>
                <a:latin typeface="Arial"/>
              </a:rPr>
              <a:t>co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0" lang="ja-JP" sz="3200" spc="-1" strike="noStrike">
                <a:solidFill>
                  <a:srgbClr val="080808"/>
                </a:solidFill>
                <a:latin typeface="Arial"/>
              </a:rPr>
              <a:t>ゆみ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was _____ t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a) 4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b) 2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80808"/>
                </a:solidFill>
                <a:latin typeface="Arial"/>
              </a:rPr>
              <a:t>c) 6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atana-300x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かたな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gle-ed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Han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urved Bl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nunchucks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ヌンチャク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sticks connected by rope or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effic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se-sai-weapon-200X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#궁서체"/>
                <a:ea typeface="#궁서체"/>
              </a:rPr>
              <a:t>さい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ap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rried in 3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b_KUSARIGAM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くさりがま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ckle on one end weight on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ight was swung, sickle used af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hurik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しゅりけん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ost popular in moder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to support main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lso used for other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de from co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ostaf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ぼう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ong wooden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aditionally 1.82m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rd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asn’t originally a weap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ゆみ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by Samur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ver 2m t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2" name="Picture 5" descr="NarutoShurikenBig"/>
            <p:cNvPicPr/>
            <p:nvPr/>
          </p:nvPicPr>
          <p:blipFill>
            <a:blip r:embed="rId1"/>
            <a:stretch/>
          </p:blipFill>
          <p:spPr>
            <a:xfrm>
              <a:off x="2214360" y="1981080"/>
              <a:ext cx="38581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4" descr="shuriken"/>
            <p:cNvPicPr/>
            <p:nvPr/>
          </p:nvPicPr>
          <p:blipFill>
            <a:blip r:embed="rId2"/>
            <a:stretch/>
          </p:blipFill>
          <p:spPr>
            <a:xfrm>
              <a:off x="5760" y="4267080"/>
              <a:ext cx="304596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use-sai-weapon-200X200"/>
            <p:cNvPicPr/>
            <p:nvPr/>
          </p:nvPicPr>
          <p:blipFill>
            <a:blip r:embed="rId3"/>
            <a:stretch/>
          </p:blipFill>
          <p:spPr>
            <a:xfrm>
              <a:off x="3052080" y="4495680"/>
              <a:ext cx="30459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4" descr="nunchucks1"/>
            <p:cNvPicPr/>
            <p:nvPr/>
          </p:nvPicPr>
          <p:blipFill>
            <a:blip r:embed="rId4"/>
            <a:stretch/>
          </p:blipFill>
          <p:spPr>
            <a:xfrm>
              <a:off x="6021720" y="3657600"/>
              <a:ext cx="31222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db_KUSARIGAMA2"/>
            <p:cNvPicPr/>
            <p:nvPr/>
          </p:nvPicPr>
          <p:blipFill>
            <a:blip r:embed="rId5"/>
            <a:stretch/>
          </p:blipFill>
          <p:spPr>
            <a:xfrm>
              <a:off x="5869800" y="0"/>
              <a:ext cx="327420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katana-300x300"/>
            <p:cNvPicPr/>
            <p:nvPr/>
          </p:nvPicPr>
          <p:blipFill>
            <a:blip r:embed="rId6"/>
            <a:stretch/>
          </p:blipFill>
          <p:spPr>
            <a:xfrm>
              <a:off x="3508920" y="0"/>
              <a:ext cx="236052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6" descr=""/>
            <p:cNvPicPr/>
            <p:nvPr/>
          </p:nvPicPr>
          <p:blipFill>
            <a:blip r:embed="rId7"/>
            <a:stretch/>
          </p:blipFill>
          <p:spPr>
            <a:xfrm>
              <a:off x="5760" y="0"/>
              <a:ext cx="350280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" descr="bostaff"/>
            <p:cNvPicPr/>
            <p:nvPr/>
          </p:nvPicPr>
          <p:blipFill>
            <a:blip r:embed="rId8"/>
            <a:stretch/>
          </p:blipFill>
          <p:spPr>
            <a:xfrm>
              <a:off x="0" y="2048040"/>
              <a:ext cx="2680200" cy="222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y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ジェームズ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ja-JP" sz="4400" spc="-1" strike="noStrike">
                <a:solidFill>
                  <a:srgbClr val="ff0000"/>
                </a:solidFill>
                <a:latin typeface="Arial"/>
              </a:rPr>
              <a:t>ライアン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20:09:55Z</dcterms:created>
  <dc:creator>SD#34</dc:creator>
  <dc:description/>
  <dc:language>en-US</dc:language>
  <cp:lastModifiedBy>Owner</cp:lastModifiedBy>
  <dcterms:modified xsi:type="dcterms:W3CDTF">2009-12-11T00:42:01Z</dcterms:modified>
  <cp:revision>16</cp:revision>
  <dc:subject/>
  <dc:title>Traditional 日本　Weapons</dc:title>
</cp:coreProperties>
</file>