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6.png" ContentType="image/png"/>
  <Override PartName="/ppt/media/image3.jpeg" ContentType="image/jpeg"/>
  <Override PartName="/ppt/media/image4.jpeg" ContentType="image/jpeg"/>
  <Override PartName="/ppt/media/image31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20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11.jpeg" ContentType="image/jpe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5F50-367B-4985-B52B-92F820AEE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C7D9-48C5-460A-B0FC-9F87A08DD8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73A6-E65A-48DA-84E6-427E7CEF00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1807-B80C-4982-B8DB-C96B8E168F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92D5-3F90-4ADC-95B9-CF97BD094B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02D8-249A-4FA9-AFE5-39EA9EE4AC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7A5C-1A3B-45D0-A85C-C90F1E1E97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95F4-F73C-467F-93E0-5E841B4650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6128-3130-4CCE-8444-12E5A49141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4BB6-3B7F-4427-B294-9457E6D93F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4AB8-1CDD-4F56-92A3-ADC2B1D9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DA1-2C5C-4932-AC28-D1F6DD25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DFDF-4C12-445F-A382-AF523565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176E-78CB-409D-85CB-EA790FB7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1B77-47B0-4FE0-8899-F6D2B2F0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42F9-1FD9-4EE9-B0C6-C9ED0E2F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EA52-BEBE-4E54-A61B-AEF42681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5514-1D3B-4D76-8E09-6165FBAB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A754-1736-45EB-B1DB-E5D8AC96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D964-6E0F-4841-9757-F4955B3E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7BD9-9520-46D9-B035-565B901D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E5E5-85CD-4392-9EC3-31AA59DA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8280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7592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D4F8-3DFC-40B7-B779-D27DFB28B698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6912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日本の　のりもの</a:t>
            </a:r>
            <a:r>
              <a:rPr b="0" lang="ja-JP" sz="4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360" y="2971800"/>
            <a:ext cx="6476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y Khristina &amp; Jack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42640" y="18284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maller ferries are used for shorter run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igger ferries are used to hop between the four main island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Ferries are slow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re comfortable and leisure way to travel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mall fees to bring bikes aboar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re significant fee to bring motorized vehicles aboar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4564080" y="9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76212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2nd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624852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2nd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2666880" y="228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Top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4"/>
          <p:cNvSpPr/>
          <p:nvPr/>
        </p:nvSpPr>
        <p:spPr>
          <a:xfrm>
            <a:off x="4343400" y="1143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1st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388620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Lob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6" descr="kktclr"/>
          <p:cNvPicPr/>
          <p:nvPr/>
        </p:nvPicPr>
        <p:blipFill>
          <a:blip r:embed="rId2"/>
          <a:stretch/>
        </p:blipFill>
        <p:spPr>
          <a:xfrm>
            <a:off x="304920" y="0"/>
            <a:ext cx="2361960" cy="1628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7" descr="kklcr"/>
          <p:cNvPicPr/>
          <p:nvPr/>
        </p:nvPicPr>
        <p:blipFill>
          <a:blip r:embed="rId3"/>
          <a:stretch/>
        </p:blipFill>
        <p:spPr>
          <a:xfrm>
            <a:off x="3124080" y="4938840"/>
            <a:ext cx="2438640" cy="19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kk2cmt"/>
          <p:cNvPicPr/>
          <p:nvPr/>
        </p:nvPicPr>
        <p:blipFill>
          <a:blip r:embed="rId4"/>
          <a:stretch/>
        </p:blipFill>
        <p:spPr>
          <a:xfrm>
            <a:off x="6019920" y="497196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kk2cbk"/>
          <p:cNvPicPr/>
          <p:nvPr/>
        </p:nvPicPr>
        <p:blipFill>
          <a:blip r:embed="rId5"/>
          <a:stretch/>
        </p:blipFill>
        <p:spPr>
          <a:xfrm>
            <a:off x="380880" y="495288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0" descr="kk1clr"/>
          <p:cNvPicPr/>
          <p:nvPr/>
        </p:nvPicPr>
        <p:blipFill>
          <a:blip r:embed="rId6"/>
          <a:stretch/>
        </p:blipFill>
        <p:spPr>
          <a:xfrm>
            <a:off x="5943600" y="0"/>
            <a:ext cx="2286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22860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7777"/>
                </a:solidFill>
                <a:latin typeface="Verdana"/>
              </a:rPr>
              <a:t>Ticket Price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-76320" y="3276720"/>
          <a:ext cx="9220320" cy="3471840"/>
        </p:xfrm>
        <a:graphic>
          <a:graphicData uri="http://schemas.openxmlformats.org/drawingml/2006/table">
            <a:tbl>
              <a:tblPr/>
              <a:tblGrid>
                <a:gridCol w="1981440"/>
                <a:gridCol w="1981080"/>
                <a:gridCol w="1447920"/>
                <a:gridCol w="1371600"/>
                <a:gridCol w="1218960"/>
                <a:gridCol w="12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Leav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rr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T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1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2nd 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2nd 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Bepp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22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4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9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7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Matsuya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7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0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6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Bepp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9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2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Matsuya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Koku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2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7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Sak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1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117" descr="kankimaz"/>
          <p:cNvPicPr/>
          <p:nvPr/>
        </p:nvPicPr>
        <p:blipFill>
          <a:blip r:embed="rId2"/>
          <a:stretch/>
        </p:blipFill>
        <p:spPr>
          <a:xfrm>
            <a:off x="4800600" y="304920"/>
            <a:ext cx="41194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フェリー</a:t>
            </a:r>
            <a:r>
              <a:rPr b="0" lang="en-US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 </a:t>
            </a:r>
            <a:r>
              <a:rPr b="0" lang="ja-JP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マッ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" name="Picture 87" descr="2355_06"/>
          <p:cNvPicPr/>
          <p:nvPr/>
        </p:nvPicPr>
        <p:blipFill>
          <a:blip r:embed="rId2"/>
          <a:srcRect l="1220" t="3706" r="0" b="5669"/>
          <a:stretch/>
        </p:blipFill>
        <p:spPr>
          <a:xfrm>
            <a:off x="2209680" y="4343400"/>
            <a:ext cx="3505320" cy="2292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8" descr="2355_05"/>
          <p:cNvPicPr/>
          <p:nvPr/>
        </p:nvPicPr>
        <p:blipFill>
          <a:blip r:embed="rId3"/>
          <a:stretch/>
        </p:blipFill>
        <p:spPr>
          <a:xfrm>
            <a:off x="4191120" y="228600"/>
            <a:ext cx="3047760" cy="2247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9" descr="2355_03"/>
          <p:cNvPicPr/>
          <p:nvPr/>
        </p:nvPicPr>
        <p:blipFill>
          <a:blip r:embed="rId4"/>
          <a:stretch/>
        </p:blipFill>
        <p:spPr>
          <a:xfrm>
            <a:off x="5943600" y="2610000"/>
            <a:ext cx="3200400" cy="240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0" descr="2355_02_081104"/>
          <p:cNvPicPr/>
          <p:nvPr/>
        </p:nvPicPr>
        <p:blipFill>
          <a:blip r:embed="rId5"/>
          <a:srcRect l="3488" t="1801" r="4874" b="2545"/>
          <a:stretch/>
        </p:blipFill>
        <p:spPr>
          <a:xfrm>
            <a:off x="228600" y="1676520"/>
            <a:ext cx="3505320" cy="23367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91"/>
          <p:cNvSpPr/>
          <p:nvPr/>
        </p:nvSpPr>
        <p:spPr>
          <a:xfrm>
            <a:off x="2511360" y="223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581280" cy="990720"/>
          </a:xfrm>
          <a:prstGeom prst="rect">
            <a:avLst/>
          </a:prstGeom>
          <a:noFill/>
          <a:ln w="0">
            <a:noFill/>
          </a:ln>
          <a:effectLst>
            <a:outerShdw dist="533393" dir="1681073" blurRad="0" rotWithShape="0">
              <a:srgbClr val="373a3e">
                <a:alpha val="57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じてんしゃ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¥1000 per day to rent a bik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Many travel to work by bik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Many cities have no bike lan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Bike parking is a problem in some area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Occasionally, the police will go around and collect illegally parked bik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They will give you a large yellow ticket and 24 hrs. notice before taking away your bike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shimanami_kaido_cycling_map450"/>
          <p:cNvPicPr/>
          <p:nvPr/>
        </p:nvPicPr>
        <p:blipFill>
          <a:blip r:embed="rId2"/>
          <a:stretch/>
        </p:blipFill>
        <p:spPr>
          <a:xfrm>
            <a:off x="4876920" y="304920"/>
            <a:ext cx="3659040" cy="23810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380880" y="533520"/>
            <a:ext cx="419112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baf5"/>
                </a:solidFill>
                <a:latin typeface="Arial"/>
              </a:rPr>
              <a:t>しまなみ　かい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79280" y="3844800"/>
            <a:ext cx="64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Shimanami Kaid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It’s a highway that spans 6 islands in the Seto Inland Sea</a:t>
            </a:r>
            <a:r>
              <a:rPr b="1" lang="en-CA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It connects Honshu with Shikok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60 km lo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Some segments are more difficult than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6961320" cy="46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ffffff"/>
                </a:solidFill>
                <a:latin typeface="Verdana"/>
              </a:rPr>
              <a:t>Questions:</a:t>
            </a:r>
            <a:endParaRPr b="0" lang="en-US" sz="9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520" y="3048120"/>
            <a:ext cx="35049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しんかんせ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くるま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フェリー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じてんしゃ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19320" y="1447920"/>
            <a:ext cx="655308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ヒラギノ角ゴ ProN W3"/>
              </a:rPr>
              <a:t>Q</a:t>
            </a: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1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hat were our four main topics today?</a:t>
            </a:r>
            <a:r>
              <a:rPr b="0" lang="ja-JP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　</a:t>
            </a:r>
            <a:r>
              <a:rPr b="0" lang="ja-JP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（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 Japanese</a:t>
            </a:r>
            <a:r>
              <a:rPr b="0" lang="ja-JP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）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2361960"/>
            <a:ext cx="66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90720" y="1447920"/>
            <a:ext cx="70102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Q2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re are at least ____ different types of bullet trains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4782960" y="360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038480" y="3733920"/>
            <a:ext cx="762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17524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3 What’s the legal driving age in Japan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43200" y="3123720"/>
            <a:ext cx="31240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18 Years old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1295280"/>
            <a:ext cx="69339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4 How many hours of notice do you get before your bicycle is taken to bike jail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7760" y="4114800"/>
            <a:ext cx="28191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24 Hour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533520" y="-360"/>
            <a:ext cx="502920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777777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しんかんせん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1c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At least 10 different kinds of shinkansen in Jap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0" y="190512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Tokaido/ Sanyo Shinkansen connecting Tokyo,   Nagoya, Kyoto and Osaka togeth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Runs about 300 km/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The first shinkansen line and the world’s first high speed train service in 196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2944800" y="4719600"/>
            <a:ext cx="619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0" y="3962520"/>
            <a:ext cx="91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211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b2111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Kyushu Shinkansen connecting Yatsushiro with Kagosh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11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Done in March 200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0" y="5105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ern Shinkansen, the Tohoku shinkansen from Tokyo to Morioka and the Joetsu Shinkansen to Niigate were completed in 198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69343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5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Times New Roman"/>
              </a:rPr>
              <a:t>Shimanami Kaido joins ____ and ____ together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80720" y="3733920"/>
            <a:ext cx="48769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  <a:ea typeface="Times New Roman"/>
              </a:rPr>
              <a:t>Honshu and Shikoku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693432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6 Which of these two is higher class on the ferry?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A) 2nd A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B) 2nd B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7920" y="36572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43bf"/>
                </a:solidFill>
                <a:latin typeface="ヒラギノ角ゴ ProN W3"/>
              </a:rPr>
              <a:t>---&gt;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1142640"/>
            <a:ext cx="67820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7 Do the Japanese drive on the right or left side of their car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81280" y="365724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Right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8 What does </a:t>
            </a:r>
            <a:r>
              <a:rPr b="0" lang="ja-JP" sz="3400" spc="-1" strike="noStrike">
                <a:solidFill>
                  <a:srgbClr val="ffffff"/>
                </a:solidFill>
                <a:latin typeface="Verdana"/>
              </a:rPr>
              <a:t>のぞみ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mean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76720" y="3733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Hope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46784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9 How much ¥ does it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ost to rent a bicycle?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A) ¥ 15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B) ¥ 9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) ¥10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D) ¥1200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514600" y="3886200"/>
            <a:ext cx="914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43bf"/>
                </a:solidFill>
                <a:latin typeface="Arial"/>
              </a:rPr>
              <a:t>---&gt;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780240" y="657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665360" y="169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560" y="1447920"/>
            <a:ext cx="647676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10 Do you have to pay an extra fee to bring your motorized vehicle aboard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57600" y="4038120"/>
            <a:ext cx="12952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Yes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ひかり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3505320"/>
            <a:ext cx="80773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Means “light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he original shinkansen service on the Tokaido/ Sanyo lin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akes about three hours to travel from Tokyo to Osak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wo Hikari trains per hou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2" name="Picture 4" descr="02_Hikari"/>
          <p:cNvPicPr/>
          <p:nvPr/>
        </p:nvPicPr>
        <p:blipFill>
          <a:blip r:embed="rId2"/>
          <a:stretch/>
        </p:blipFill>
        <p:spPr>
          <a:xfrm>
            <a:off x="3200400" y="0"/>
            <a:ext cx="37339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04920" y="3045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のぞみ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335232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Means “hope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The fastest bullet train in Jap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Takes about 2.5 hours between Tokyo and Osak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Only make major stops at Nagoya, Kyoto, Okayama, Hiroshim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5" descr="01_Nozomi"/>
          <p:cNvPicPr/>
          <p:nvPr/>
        </p:nvPicPr>
        <p:blipFill>
          <a:blip r:embed="rId2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01_Nozomi"/>
          <p:cNvPicPr/>
          <p:nvPr/>
        </p:nvPicPr>
        <p:blipFill>
          <a:blip r:embed="rId3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01_Nozomi"/>
          <p:cNvPicPr/>
          <p:nvPr/>
        </p:nvPicPr>
        <p:blipFill>
          <a:blip r:embed="rId4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01_Nozomi"/>
          <p:cNvPicPr/>
          <p:nvPr/>
        </p:nvPicPr>
        <p:blipFill>
          <a:blip r:embed="rId5"/>
          <a:stretch/>
        </p:blipFill>
        <p:spPr>
          <a:xfrm>
            <a:off x="3352680" y="0"/>
            <a:ext cx="3429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26672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こだ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3885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Local version of the Shinkans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Makes all primary and secondary stop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Is not suitable for long distanc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Fully covered by the Japan Rail Pas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Picture 5" descr="03_Kodama"/>
          <p:cNvPicPr/>
          <p:nvPr/>
        </p:nvPicPr>
        <p:blipFill>
          <a:blip r:embed="rId2"/>
          <a:stretch/>
        </p:blipFill>
        <p:spPr>
          <a:xfrm>
            <a:off x="3124080" y="0"/>
            <a:ext cx="35053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5120" y="1371600"/>
            <a:ext cx="5029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Ticket Price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5800" y="3657600"/>
          <a:ext cx="7848720" cy="190512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1600200"/>
                <a:gridCol w="1523880"/>
                <a:gridCol w="1524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Duratio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Chi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Chi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7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7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8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8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14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14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61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0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45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25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21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79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9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57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88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85800" y="3124080"/>
          <a:ext cx="7848720" cy="507960"/>
        </p:xfrm>
        <a:graphic>
          <a:graphicData uri="http://schemas.openxmlformats.org/drawingml/2006/table">
            <a:tbl>
              <a:tblPr/>
              <a:tblGrid>
                <a:gridCol w="1709640"/>
                <a:gridCol w="3090960"/>
                <a:gridCol w="304812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Gre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Ordin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00_shinkansen_map"/>
          <p:cNvPicPr/>
          <p:nvPr/>
        </p:nvPicPr>
        <p:blipFill>
          <a:blip r:embed="rId1"/>
          <a:stretch/>
        </p:blipFill>
        <p:spPr>
          <a:xfrm>
            <a:off x="1752480" y="1857240"/>
            <a:ext cx="6096240" cy="500076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1371600" y="609480"/>
            <a:ext cx="6248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47520">
                  <a:solidFill>
                    <a:srgbClr val="d51f24"/>
                  </a:solidFill>
                  <a:miter/>
                </a:ln>
                <a:solidFill>
                  <a:srgbClr val="ffffff"/>
                </a:solidFill>
                <a:latin typeface="ヒラギノ角ゴ Pro W3"/>
              </a:rPr>
              <a:t>しんかんせん　ルート</a:t>
            </a:r>
            <a:endParaRPr b="0" lang="en-US" sz="2400" spc="1" strike="noStrike">
              <a:ln w="47520">
                <a:solidFill>
                  <a:srgbClr val="d51f24"/>
                </a:solidFill>
                <a:miter/>
              </a:ln>
              <a:solidFill>
                <a:srgbClr val="ffffff"/>
              </a:solidFill>
              <a:latin typeface="ヒラギノ角ゴ Pro W3"/>
              <a:ea typeface="ヒラギノ角ゴ Pro W3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50088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7760" y="304920"/>
            <a:ext cx="2514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160aca"/>
                </a:solidFill>
                <a:latin typeface="Verdana"/>
              </a:rPr>
              <a:t>くる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3200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Drive on the right side of the car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Drive on the left side of the ro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Minimum driving age is 18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Go to local driving center and get your license converted into a Japanese licen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Take an eye test and prove that you have been living in your license issuing country for 3 month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You will have to take written and practical exa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4724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日本の　くるま</a:t>
            </a:r>
            <a:r>
              <a:rPr b="0" lang="en-US" sz="6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428640" y="2209320"/>
            <a:ext cx="3048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Toyo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Niss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Hon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Suzuk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Maz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Daihats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Subar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Isuz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Content Placeholder 6" descr="daihatsu logo.jpg"/>
          <p:cNvPicPr/>
          <p:nvPr/>
        </p:nvPicPr>
        <p:blipFill>
          <a:blip r:embed="rId2"/>
          <a:stretch/>
        </p:blipFill>
        <p:spPr>
          <a:xfrm>
            <a:off x="6084720" y="0"/>
            <a:ext cx="1425600" cy="1187280"/>
          </a:xfrm>
          <a:prstGeom prst="rect">
            <a:avLst/>
          </a:prstGeom>
          <a:ln w="0">
            <a:noFill/>
          </a:ln>
        </p:spPr>
      </p:pic>
      <p:sp>
        <p:nvSpPr>
          <p:cNvPr id="9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7" descr="honda logo.jpg"/>
          <p:cNvPicPr/>
          <p:nvPr/>
        </p:nvPicPr>
        <p:blipFill>
          <a:blip r:embed="rId3"/>
          <a:stretch/>
        </p:blipFill>
        <p:spPr>
          <a:xfrm>
            <a:off x="7308720" y="1413000"/>
            <a:ext cx="1600200" cy="1189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isuzu logo.jpg"/>
          <p:cNvPicPr/>
          <p:nvPr/>
        </p:nvPicPr>
        <p:blipFill>
          <a:blip r:embed="rId4"/>
          <a:stretch/>
        </p:blipFill>
        <p:spPr>
          <a:xfrm>
            <a:off x="838080" y="1523880"/>
            <a:ext cx="1714680" cy="951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mazda logo.jpg"/>
          <p:cNvPicPr/>
          <p:nvPr/>
        </p:nvPicPr>
        <p:blipFill>
          <a:blip r:embed="rId5"/>
          <a:stretch/>
        </p:blipFill>
        <p:spPr>
          <a:xfrm>
            <a:off x="5940360" y="3284640"/>
            <a:ext cx="1447920" cy="1461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nissan logo.jpg"/>
          <p:cNvPicPr/>
          <p:nvPr/>
        </p:nvPicPr>
        <p:blipFill>
          <a:blip r:embed="rId6"/>
          <a:stretch/>
        </p:blipFill>
        <p:spPr>
          <a:xfrm>
            <a:off x="4500720" y="1052640"/>
            <a:ext cx="1238040" cy="1047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subaru logo.jpg"/>
          <p:cNvPicPr/>
          <p:nvPr/>
        </p:nvPicPr>
        <p:blipFill>
          <a:blip r:embed="rId7"/>
          <a:stretch/>
        </p:blipFill>
        <p:spPr>
          <a:xfrm>
            <a:off x="1187280" y="5229360"/>
            <a:ext cx="1541520" cy="113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suzuki logo.jpg"/>
          <p:cNvPicPr/>
          <p:nvPr/>
        </p:nvPicPr>
        <p:blipFill>
          <a:blip r:embed="rId8"/>
          <a:stretch/>
        </p:blipFill>
        <p:spPr>
          <a:xfrm>
            <a:off x="7451640" y="5373720"/>
            <a:ext cx="1371600" cy="1173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toyota logo.jpg"/>
          <p:cNvPicPr/>
          <p:nvPr/>
        </p:nvPicPr>
        <p:blipFill>
          <a:blip r:embed="rId9"/>
          <a:stretch/>
        </p:blipFill>
        <p:spPr>
          <a:xfrm>
            <a:off x="1042920" y="3500280"/>
            <a:ext cx="144792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10:17Z</dcterms:created>
  <dc:creator>SD#34</dc:creator>
  <dc:description/>
  <dc:language>en-US</dc:language>
  <cp:lastModifiedBy>RBSS</cp:lastModifiedBy>
  <dcterms:modified xsi:type="dcterms:W3CDTF">2009-12-10T21:32:21Z</dcterms:modified>
  <cp:revision>32</cp:revision>
  <dc:subject/>
  <dc:title>日本の　のりもの　</dc:title>
</cp:coreProperties>
</file>