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4415-6B28-4EC0-B08C-ADBE2E25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5765-3A1A-42CA-B371-B4D3F366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1873-8D99-4C28-BE01-B99A9651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B0B8-A28C-4A6A-BEDC-BA093231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FAC4-399C-4720-A99E-922044F3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DDB6-602F-4419-8508-824B6B4E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BC4C-722E-4190-A70C-D29CFBBD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23EC-7781-4A90-862F-BBA6CE2B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E5B5-5FD0-4F77-AC44-B7F2F217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24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AC19-ECCB-4AB9-A269-3E6B5396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B936-BCF4-4909-A0FA-0A6AF86E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CD18-783D-448F-B5ED-DCE44025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1A35-AA48-42F8-B501-D1CDF656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D5C2-2ECB-4ACA-BBA1-5A1178C5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76EB-A6C1-4C48-9DCF-42E6748E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556E-87CC-4D37-83E6-2E77C5BB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99DE-9A36-4EF5-BB2E-29598C9CD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BB6E-EFCF-4C1B-9124-AB1956DB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057B-FFD7-44CD-8362-572A3A35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FB9D-204E-4528-83C8-68AED066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24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FB0D-1E54-4E0D-B395-F17B0496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2102-A293-494D-89B7-47369A93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E3ED-883A-4B93-8CCF-2CBF64CF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892C-DDD4-42A9-B876-9A5C1C13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0400" cy="6854760"/>
              <a:chOff x="0" y="0"/>
              <a:chExt cx="9140400" cy="6854760"/>
            </a:xfrm>
          </p:grpSpPr>
          <p:sp>
            <p:nvSpPr>
              <p:cNvPr id="3" name=""/>
              <p:cNvSpPr/>
              <p:nvPr/>
            </p:nvSpPr>
            <p:spPr>
              <a:xfrm>
                <a:off x="1080" y="1650960"/>
                <a:ext cx="91393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389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389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37160" cy="1657440"/>
                <a:chOff x="0" y="0"/>
                <a:chExt cx="9137160" cy="165744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0880" y="0"/>
                  <a:ext cx="66600" cy="165744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844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120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6000" y="0"/>
                  <a:ext cx="559800" cy="165744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799640" y="0"/>
                  <a:ext cx="713880" cy="165744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2920" y="0"/>
                  <a:ext cx="856800" cy="165744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2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000"/>
                  <a:ext cx="999720" cy="148608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376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664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3840" y="0"/>
                  <a:ext cx="569520" cy="165744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68200" y="0"/>
                  <a:ext cx="712440" cy="165744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09280" y="0"/>
                  <a:ext cx="858240" cy="165744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64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1200" y="75960"/>
                  <a:ext cx="1065960" cy="158112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37160" cy="771480"/>
                <a:chOff x="0" y="885960"/>
                <a:chExt cx="9137160" cy="77148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0640"/>
                  <a:ext cx="485280" cy="67644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5280" y="885960"/>
                  <a:ext cx="551880" cy="77148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8680" y="1649520"/>
                <a:ext cx="8251200" cy="5205240"/>
                <a:chOff x="418680" y="1649520"/>
                <a:chExt cx="8251200" cy="52052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0520" y="1649520"/>
                  <a:ext cx="66600" cy="52052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7840" y="1649520"/>
                  <a:ext cx="636120" cy="52052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748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89600" y="1649520"/>
                  <a:ext cx="1635840" cy="52052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8680" y="1649520"/>
                  <a:ext cx="2093040" cy="52052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3040" y="1649520"/>
                  <a:ext cx="637920" cy="52052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592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4560" y="1649520"/>
                  <a:ext cx="1643760" cy="52052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4240" y="1649520"/>
                  <a:ext cx="2105640" cy="52052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08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44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28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384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2160" y="1649520"/>
                <a:ext cx="202644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0440" y="1649520"/>
                <a:ext cx="156816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5520" y="1649520"/>
                <a:ext cx="106308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89600" y="1649520"/>
                <a:ext cx="54900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D06F8F-B07F-4180-ADC5-3AC40C9C64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0400" cy="6854760"/>
              <a:chOff x="0" y="0"/>
              <a:chExt cx="9140400" cy="6854760"/>
            </a:xfrm>
          </p:grpSpPr>
          <p:sp>
            <p:nvSpPr>
              <p:cNvPr id="109" name=""/>
              <p:cNvSpPr/>
              <p:nvPr/>
            </p:nvSpPr>
            <p:spPr>
              <a:xfrm>
                <a:off x="1080" y="1650960"/>
                <a:ext cx="91393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389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389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37160" cy="1657440"/>
                <a:chOff x="0" y="0"/>
                <a:chExt cx="9137160" cy="16574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0880" y="0"/>
                  <a:ext cx="66600" cy="165744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844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120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6000" y="0"/>
                  <a:ext cx="559800" cy="165744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799640" y="0"/>
                  <a:ext cx="713880" cy="165744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2920" y="0"/>
                  <a:ext cx="856800" cy="165744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2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000"/>
                  <a:ext cx="999720" cy="148608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376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664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3840" y="0"/>
                  <a:ext cx="569520" cy="165744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68200" y="0"/>
                  <a:ext cx="712440" cy="165744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09280" y="0"/>
                  <a:ext cx="858240" cy="165744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64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1200" y="75960"/>
                  <a:ext cx="1065960" cy="158112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37160" cy="771480"/>
                <a:chOff x="0" y="885960"/>
                <a:chExt cx="9137160" cy="7714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0640"/>
                  <a:ext cx="485280" cy="67644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5280" y="885960"/>
                  <a:ext cx="551880" cy="77148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8680" y="1649520"/>
                <a:ext cx="8251200" cy="5205240"/>
                <a:chOff x="418680" y="1649520"/>
                <a:chExt cx="8251200" cy="52052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0520" y="1649520"/>
                  <a:ext cx="66600" cy="52052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7840" y="1649520"/>
                  <a:ext cx="636120" cy="52052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748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89600" y="1649520"/>
                  <a:ext cx="1635840" cy="52052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8680" y="1649520"/>
                  <a:ext cx="2093040" cy="52052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3040" y="1649520"/>
                  <a:ext cx="637920" cy="52052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592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4560" y="1649520"/>
                  <a:ext cx="1643760" cy="52052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4240" y="1649520"/>
                  <a:ext cx="2105640" cy="52052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08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44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28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384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2160" y="1649520"/>
                <a:ext cx="202644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0440" y="1649520"/>
                <a:ext cx="156816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5520" y="1649520"/>
                <a:ext cx="106308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89600" y="1649520"/>
                <a:ext cx="54900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D7B1A-E6C1-49AC-A628-71AD64A07BC4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upload.wikimedia.org/wikipedia/commons/0/05/HONDA_ASIMO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apanese Robotics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295280" y="5638680"/>
            <a:ext cx="6400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: Ethan &amp; Denn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581280" y="2438280"/>
            <a:ext cx="21654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Si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outube.c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ww.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wikipedi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org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Types of Japanes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obo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umanoid robo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dustrial robo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droi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imal robo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uard robo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cue robo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Humanoi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5400" y="1598400"/>
            <a:ext cx="4035240" cy="2973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643280" y="1598400"/>
            <a:ext cx="4037040" cy="29732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760" y="4724280"/>
            <a:ext cx="822456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umanoid is a type of robot that is made to act like a human. (talk, walk, ect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" descr="File:HONDA ASIM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1600200"/>
            <a:ext cx="2092320" cy="2971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4648320" y="1820880"/>
            <a:ext cx="403848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ustrial Rob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676520"/>
            <a:ext cx="4035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 robots are usually robotic arms that are used to make different types of things like cars, metal parts and other everyday applianc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114640" cy="2590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257800" y="4343400"/>
            <a:ext cx="28972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droi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760" y="4647960"/>
            <a:ext cx="82245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droid is a robot or synthetic organism designed to look and act like a human. An android is similar to a humanoid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2360880" cy="3541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886200" y="1523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imal Rob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3922200"/>
            <a:ext cx="822456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able to walk, see its environment through camera, and recognize spoken commands in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日本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ish, the AIBO robotic pets are considered to be a robot since they are able to learn and mature based on external stimuli from their owner or environment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119400" y="15987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uard Rob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3962520"/>
            <a:ext cx="82245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lnSpc>
                <a:spcPct val="8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uardrobo D1 is a 198-pound robot that guards against intruders, fires and water leaks. It is approximately 3 feet 6 inches tall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th cameras and sensors, the Guardrob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1 patrols a preprogrammed route in the building where it operates. It can send camera footage or contact people by radio if there is a fire or a break-in. It is equipped with a fire extinguisher and can also shoot paint bullets at strangers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131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cue Robo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760" y="4800240"/>
            <a:ext cx="822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cue robots are used for aiding rescue workers in natural disasters, fires, hostage situations, or explosions were it’s to dangerous for humans to go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8671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obots have been around since the 18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centu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first known case of robot homicide occurred in 1981, when a robotic arm crushed a Japanese Kawasaki factory worke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nebot, built by Japan’s NEC System Technologies and Mie University, can ID scads of different wines and cheeses. It recently mistook a reporter’s hand for prosciutt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THAN FLINT</dc:creator>
  <dc:description/>
  <dc:language>en-US</dc:language>
  <cp:lastModifiedBy>ETHAN FLINT</cp:lastModifiedBy>
  <dcterms:modified xsi:type="dcterms:W3CDTF">2009-12-15T03:01:05Z</dcterms:modified>
  <cp:revision>6</cp:revision>
  <dc:subject/>
  <dc:title>Japanese Robtics </dc:title>
</cp:coreProperties>
</file>