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E99-0BC4-437C-A40B-2B63B721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A1F-E299-4A40-ACEB-3E995D7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21A-27AC-4793-9245-9F9D4A3C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EC2-D828-4343-BFAD-F6A29E9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5FDD-F5D0-4ABC-843E-AF3622F8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C649-F191-4564-A2B9-EEAA785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1006-BB73-4DF0-9BE2-0F805570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B15E-FC50-44F1-9330-FE50F5BE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F169-E358-4A70-8AD6-F6D99E0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CCA9-DA3E-4F2E-8B9D-ACCB8C2B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F4DD-84A0-4EEF-9667-883B3628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20E-F972-47EA-AFC9-280846EF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801C-89FC-4C02-97B0-A47D2895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7462-1CA2-40A7-9C78-7F7C591B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9B43-F4FA-418A-814F-5917BAB1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DCDF-3C6F-40A0-BAC7-B4EA7AAE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76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3947040"/>
            <a:ext cx="2648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3488-A89C-4CB6-9073-A262B416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8FD-F281-46AE-BE7D-AA82FA95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60A-E5B0-4190-8244-05284B8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799-CCF3-4E9B-A94E-E8231893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24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3FB-2B8C-4A65-A921-5138BCC3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7DD6-BDC8-446C-86C7-826D63CA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394704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7D6-CBEB-41D7-A311-DFFACB35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760"/>
            <a:ext cx="4013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3947040"/>
            <a:ext cx="8224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EFB-AD2B-473A-9FD6-9CE9883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3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A9DA28-55D3-4B9F-AA44-632AFE9F97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0400" cy="6854760"/>
              <a:chOff x="0" y="0"/>
              <a:chExt cx="9140400" cy="6854760"/>
            </a:xfrm>
          </p:grpSpPr>
          <p:sp>
            <p:nvSpPr>
              <p:cNvPr id="109" name=""/>
              <p:cNvSpPr/>
              <p:nvPr/>
            </p:nvSpPr>
            <p:spPr>
              <a:xfrm>
                <a:off x="1080" y="1650960"/>
                <a:ext cx="91393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389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389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389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389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389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389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389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389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389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389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37160" cy="1657440"/>
                <a:chOff x="0" y="0"/>
                <a:chExt cx="9137160" cy="16574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0880" y="0"/>
                  <a:ext cx="66600" cy="16574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844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120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6000" y="0"/>
                  <a:ext cx="559800" cy="16574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799640" y="0"/>
                  <a:ext cx="713880" cy="16574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2920" y="0"/>
                  <a:ext cx="856800" cy="16574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2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000"/>
                  <a:ext cx="999720" cy="148608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3760" y="0"/>
                  <a:ext cx="245880" cy="16574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6640" y="0"/>
                  <a:ext cx="380520" cy="16574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3840" y="0"/>
                  <a:ext cx="569520" cy="16574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68200" y="0"/>
                  <a:ext cx="712440" cy="16574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09280" y="0"/>
                  <a:ext cx="858240" cy="16574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6480" y="0"/>
                  <a:ext cx="1018440" cy="16574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1200" y="75960"/>
                  <a:ext cx="1065960" cy="15811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37160" cy="771480"/>
                <a:chOff x="0" y="885960"/>
                <a:chExt cx="9137160" cy="7714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0640"/>
                  <a:ext cx="485280" cy="67644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5280" y="885960"/>
                  <a:ext cx="551880" cy="7714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8680" y="1649520"/>
                <a:ext cx="8251200" cy="5205240"/>
                <a:chOff x="418680" y="1649520"/>
                <a:chExt cx="8251200" cy="5205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0520" y="1649520"/>
                  <a:ext cx="66600" cy="52052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7840" y="1649520"/>
                  <a:ext cx="636120" cy="52052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748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89600" y="1649520"/>
                  <a:ext cx="1635840" cy="52052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8680" y="1649520"/>
                  <a:ext cx="2093040" cy="52052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3040" y="1649520"/>
                  <a:ext cx="637920" cy="52052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5920" y="1649520"/>
                  <a:ext cx="1073880" cy="52052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4560" y="1649520"/>
                  <a:ext cx="1643760" cy="52052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4240" y="1649520"/>
                  <a:ext cx="2105640" cy="52052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08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44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28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384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1649520"/>
                <a:ext cx="202644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0440" y="1649520"/>
                <a:ext cx="156816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5520" y="1649520"/>
                <a:ext cx="106308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89600" y="1649520"/>
                <a:ext cx="54900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245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286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3720" y="6241680"/>
            <a:ext cx="2894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290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BAA6D-E17C-4C87-BC8A-57F88EA37A07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upload.wikimedia.org/wikipedia/commons/0/05/HONDA_ASIMO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apanese Robotics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95280" y="5638680"/>
            <a:ext cx="64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: Ethan &amp; Denn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1654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i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outube.c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ww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wikipedi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or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ifferent Types of Japanese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bo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umanoid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dustrial robo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dro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imal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 robo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uman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5400" y="1598400"/>
            <a:ext cx="4035240" cy="2973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643280" y="1598400"/>
            <a:ext cx="4037040" cy="29732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760" y="4724280"/>
            <a:ext cx="822456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umanoid is a type of robot that is made to act like a human. (talk, walk, ect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" descr="File:HONDA ASI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1600200"/>
            <a:ext cx="209232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48320" y="1820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676520"/>
            <a:ext cx="403524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robots are usually robotic arms that are used to make different types of things like cars, metal parts and other everyday applianc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211464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257800" y="4343400"/>
            <a:ext cx="28972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760" y="4647960"/>
            <a:ext cx="82245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ndroid is a robot or synthetic organism designed to look and act like a human. An android is similar to a humanoi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360880" cy="35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al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3922200"/>
            <a:ext cx="822456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walk, see its environment through camera, and recognize spoken commands in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日本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, the AIBO robotic pets are considered to be a robot since they are able to learn and mature based on external stimuli from their owner or environmen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1940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uard Rob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3962520"/>
            <a:ext cx="822456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lnSpc>
                <a:spcPct val="8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uardrobo D1 is a 198-pound robot that guards against intruders, fires and water leaks. It is approximately 3 feet 6 inches tall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th cameras and sensors, the Guardrob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1 patrols a preprogrammed route in the building where it operates. It can send camera footage or contact people by radio if there is a fire or a break-in. It is equipped with a fire extinguisher and can also shoot paint bullets at strangers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131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scue Robo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760" y="4800240"/>
            <a:ext cx="8224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cue robots are used for aiding rescue workers in natural disasters, fires, hostage situations, or explosions were it’s to dangerous for humans to g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867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245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4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obots have been around since the 18</a:t>
            </a:r>
            <a:r>
              <a:rPr b="0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irst known case of robot homicide occurred in 1981, when a robotic arm crushed a Japanese Kawasaki factory worke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nebot, built by Japan’s NEC System Technologies and Mie University, can ID scads of different wines and cheeses. It recently mistook a reporter’s hand for prosciut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THAN FLINT</dc:creator>
  <dc:description/>
  <dc:language>en-US</dc:language>
  <cp:lastModifiedBy>ETHAN FLINT</cp:lastModifiedBy>
  <dcterms:modified xsi:type="dcterms:W3CDTF">2009-12-15T03:01:05Z</dcterms:modified>
  <cp:revision>6</cp:revision>
  <dc:subject/>
  <dc:title>Japanese Robtics </dc:title>
</cp:coreProperties>
</file>