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043-62F5-4BC4-8590-6B283FF9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43F-426C-4ADA-9000-A50B5C76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9DF-A566-4376-B7C2-4F12BF5C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08F-F65E-4F84-B8DD-22464D0C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60FB-6E68-4C72-818C-9FD3D43D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7F53-EA00-4F0D-8FA1-C50CD422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C013-320D-4ED6-B614-E505576B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0014-D7AC-4876-8FCE-78259774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7BD8-8962-4CD7-9482-7B3B17AE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6495-F09F-426F-B932-912FF823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2D6A-3E72-4652-A779-16B5E095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6CB-0F57-4A3A-A672-DED6B0D1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C980-A075-4F43-862B-806909B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1122-8AB9-4F86-A743-4452A53F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D25E-BF8C-4E1E-853E-57E93665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6A19-DEE9-4BF4-8196-F8010CA4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9156-75E6-4830-992E-40966303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29B-9677-4A56-BE28-B1358E19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CE4-CB3F-4F40-A9E8-4668DDF5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E46-1C5D-4596-B7DD-692492F5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958-2AEC-4F2F-9EDD-2A1F611A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DDF-EF88-4A78-851C-01D84CA5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57D-61A5-4A34-B853-39B5CC0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760-F9D2-4D8D-BB40-ADEBB6BB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Line 466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C7C3-CE9F-4C4C-8808-BE34EC97F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Group 466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Freeform 467"/>
            <p:cNvSpPr/>
            <p:nvPr/>
          </p:nvSpPr>
          <p:spPr>
            <a:xfrm>
              <a:off x="533520" y="2819520"/>
              <a:ext cx="4103640" cy="1144440"/>
            </a:xfrm>
            <a:prstGeom prst="pie">
              <a:avLst/>
            </a:prstGeom>
            <a:gradFill rotWithShape="0">
              <a:gsLst>
                <a:gs pos="0">
                  <a:srgbClr val="d7add9"/>
                </a:gs>
                <a:gs pos="100000">
                  <a:srgbClr val="efde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Freeform 468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prstGeom prst="pie">
              <a:avLst/>
            </a:prstGeom>
            <a:gradFill rotWithShape="0">
              <a:gsLst>
                <a:gs pos="0">
                  <a:srgbClr val="d1d3e7"/>
                </a:gs>
                <a:gs pos="100000">
                  <a:srgbClr val="8d9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8812-6F03-4449-8300-240B60C7E1A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echnology&amp;Electronics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ransportation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運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is currently worl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s biggest vehicle manufacturer with world famous brands like Toyota and Hond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also has one of the most advanced train system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18" name="Picture 5" descr="http://upload.wikimedia.org/wikipedia/commons/3/31/Shinkansen_500_Kyoto_2005-03-19.jpg"/>
          <p:cNvPicPr/>
          <p:nvPr/>
        </p:nvPicPr>
        <p:blipFill>
          <a:blip r:embed="rId1"/>
          <a:stretch/>
        </p:blipFill>
        <p:spPr>
          <a:xfrm>
            <a:off x="4716360" y="3573360"/>
            <a:ext cx="3803760" cy="251964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6"/>
          <p:cNvSpPr/>
          <p:nvPr/>
        </p:nvSpPr>
        <p:spPr>
          <a:xfrm>
            <a:off x="6000840" y="616572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292929"/>
                </a:solidFill>
                <a:latin typeface="굴림"/>
              </a:rPr>
              <a:t>新幹線 </a:t>
            </a: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ja-JP" sz="18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しんかんせん）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Aeronautics (Space</a:t>
            </a:r>
            <a:r>
              <a:rPr b="0" lang="ja-JP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Research)</a:t>
            </a:r>
            <a:br>
              <a:rPr sz="3600"/>
            </a:b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宇宙研究 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</a:rPr>
              <a:t>(uchu kenkyu)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 has a space agency dedicated to space exploration called JAX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Recently, they created an experiment module for ISS called Kibo which will be used for experiments and research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2" name="Picture 5" descr="http://www.jaxa.jp/projects/iss_human/kibo/img/photo_jem2_e.jpg"/>
          <p:cNvPicPr/>
          <p:nvPr/>
        </p:nvPicPr>
        <p:blipFill>
          <a:blip r:embed="rId1"/>
          <a:stretch/>
        </p:blipFill>
        <p:spPr>
          <a:xfrm>
            <a:off x="5076720" y="4076640"/>
            <a:ext cx="3024360" cy="228780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6"/>
          <p:cNvSpPr/>
          <p:nvPr/>
        </p:nvSpPr>
        <p:spPr>
          <a:xfrm>
            <a:off x="1071720" y="564372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This is the diagram of Kibo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howing the facilities attached to it.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Home Appliances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家電（</a:t>
            </a: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kaden)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rom many cultural and environmental differences, there are unique differences between Japanese and North American Applianc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r example, many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ese family uses air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humidifier in winter time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due to cold dry air in winter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6" name="Picture 5" descr="http://zojirushi.wowshopper.com/pics-inventory/zohumidifier.gif"/>
          <p:cNvPicPr/>
          <p:nvPr/>
        </p:nvPicPr>
        <p:blipFill>
          <a:blip r:embed="rId1"/>
          <a:stretch/>
        </p:blipFill>
        <p:spPr>
          <a:xfrm>
            <a:off x="6143760" y="3214800"/>
            <a:ext cx="285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of Japan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o appeal to different tastes of Japanese customers, Japanese cell phones have unique featur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9" name="Picture 4" descr="C:\Documents and Settings\daniellee\Desktop\931n_nec.jpg"/>
          <p:cNvPicPr/>
          <p:nvPr/>
        </p:nvPicPr>
        <p:blipFill>
          <a:blip r:embed="rId1"/>
          <a:stretch/>
        </p:blipFill>
        <p:spPr>
          <a:xfrm>
            <a:off x="642960" y="300024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030" name="TextBox 7"/>
          <p:cNvSpPr/>
          <p:nvPr/>
        </p:nvSpPr>
        <p:spPr>
          <a:xfrm>
            <a:off x="4286160" y="34290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or example, this cell phone has high quality camera and rotating screen for viewing TV and internet surfing.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contd.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661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ome Japanese cell phones support video telephony allowing callers to see each other’s face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Lots of Japanese teenagers use “emoji”s (</a:t>
            </a:r>
            <a:r>
              <a:rPr b="0" lang="ja-JP" sz="3200" spc="-1" strike="noStrike">
                <a:solidFill>
                  <a:srgbClr val="292929"/>
                </a:solidFill>
                <a:latin typeface="굴림"/>
              </a:rPr>
              <a:t>絵文字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e means picture moji means letter)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3" name="Picture 4" descr="C:\Documents and Settings\daniellee\Desktop\japan3.gif"/>
          <p:cNvPicPr/>
          <p:nvPr/>
        </p:nvPicPr>
        <p:blipFill>
          <a:blip r:embed="rId1"/>
          <a:stretch/>
        </p:blipFill>
        <p:spPr>
          <a:xfrm>
            <a:off x="5286240" y="414324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C:\Documents and Settings\daniellee\Desktop\japan12a.gif"/>
          <p:cNvPicPr/>
          <p:nvPr/>
        </p:nvPicPr>
        <p:blipFill>
          <a:blip r:embed="rId2"/>
          <a:stretch/>
        </p:blipFill>
        <p:spPr>
          <a:xfrm>
            <a:off x="-6480" y="5572080"/>
            <a:ext cx="9150480" cy="214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7" descr="C:\Documents and Settings\daniellee\Desktop\japan13.jpg"/>
          <p:cNvPicPr/>
          <p:nvPr/>
        </p:nvPicPr>
        <p:blipFill>
          <a:blip r:embed="rId3"/>
          <a:stretch/>
        </p:blipFill>
        <p:spPr>
          <a:xfrm>
            <a:off x="7358040" y="1071720"/>
            <a:ext cx="142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Akihabara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秋葉原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Akihabara is the biggest electronics shopping district in Japan with thousands of stores dedicated to computers, games and other electronics related good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8" name="Picture 5" descr="http://insomnia.ac/japan/top_10_akiba_stores_(new_games)/chuo-dori.jpg"/>
          <p:cNvPicPr/>
          <p:nvPr/>
        </p:nvPicPr>
        <p:blipFill>
          <a:blip r:embed="rId1"/>
          <a:stretch/>
        </p:blipFill>
        <p:spPr>
          <a:xfrm>
            <a:off x="179280" y="3500280"/>
            <a:ext cx="4211640" cy="3160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6" descr="C:\Documents and Settings\daniellee\Desktop\akihabara_2_1280x1024.jpg"/>
          <p:cNvPicPr/>
          <p:nvPr/>
        </p:nvPicPr>
        <p:blipFill>
          <a:blip r:embed="rId2"/>
          <a:stretch/>
        </p:blipFill>
        <p:spPr>
          <a:xfrm>
            <a:off x="4572000" y="3357720"/>
            <a:ext cx="400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4:21:32Z</dcterms:created>
  <dc:creator>이동준</dc:creator>
  <dc:description/>
  <dc:language>en-US</dc:language>
  <cp:lastModifiedBy>daniellee</cp:lastModifiedBy>
  <dcterms:modified xsi:type="dcterms:W3CDTF">2010-01-05T19:30:28Z</dcterms:modified>
  <cp:revision>13</cp:revision>
  <dc:subject/>
  <dc:title>슬라이드 1</dc:title>
</cp:coreProperties>
</file>