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417-536C-4AD6-BF70-E2BC45CB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5FB-E38A-4BBA-BC1A-13CCB22E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885-7CFF-47C7-84E7-7031F438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BF4-808E-45EB-AFAB-970861AA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586C-06F2-4717-AAE9-28AD0B37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893C-84CF-4C9F-836B-8023052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3DBA-F4A3-46F6-AF41-252F928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C255-3B94-4C2E-8096-953F775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EB1C-D5C0-47B7-AC9A-7C5F9DB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F753-C645-4312-B1F8-2CF71CE1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273-BA0E-4B03-82FA-8FC8D39D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BA1-94A8-455E-BC4C-B0F4364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ABA-434D-4E7B-8CB6-D88DBB4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8F1C-5E16-400F-8A48-B55C001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73D8-E12F-4911-AE4F-7A200946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D1F7-D779-4934-B644-47DB130A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7FC-C4E8-4A36-852E-A63E2AB9A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FE5-420E-4B88-8701-862FB79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A3A-B98C-43DA-8ECB-040CB9B3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038-09F5-4512-AD3C-FD4DA94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9F7-6290-4C33-B25B-53B75279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8C8-9D47-4356-A49A-24294F93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904-2A17-4C34-91B6-EC1309B9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0BA-036D-48F2-82EF-D7C69552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Line 466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7F0-6EFA-48A4-829A-433ED16D1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Group 3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Rectangle 4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Rectangle 5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Rectangle 6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Rectangle 7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Rectangle 8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Rectangle 9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Rectangle 13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Rectangle 14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Rectangle 16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Rectangle 17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Rectangle 18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Rectangle 19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Rectangle 20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Rectangle 21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Rectangle 22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Rectangle 23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Rectangle 24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Rectangle 25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Rectangle 26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Rectangle 27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Rectangle 28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Rectangle 29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Rectangle 30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Rectangle 31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Rectangle 32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Rectangle 33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Rectangle 34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Rectangle 35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Rectangle 36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Rectangle 37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Rectangle 38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Rectangle 39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Rectangle 40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Rectangle 41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Rectangle 42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Rectangle 43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Group 44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Rectangle 45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Rectangle 46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Rectangle 47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Rectangle 48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Rectangle 49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Rectangle 50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Rectangle 51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Rectangle 52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Rectangle 53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Rectangle 54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Rectangle 55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Rectangle 56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Rectangle 57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Rectangle 58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Rectangle 59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Rectangle 60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Rectangle 61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Rectangle 62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Rectangle 63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Rectangle 64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Rectangle 65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Rectangle 66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Rectangle 67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Rectangle 68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Rectangle 69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Rectangle 70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Rectangle 71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Rectangle 72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Rectangle 73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Rectangle 74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Rectangle 75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Rectangle 76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Rectangle 77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Rectangle 78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Rectangle 79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Rectangle 80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Rectangle 81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Rectangle 82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Rectangle 83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Rectangle 84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Group 85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Rectangle 86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Rectangle 87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Rectangle 88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Rectangle 89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Rectangle 90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Rectangle 91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Rectangle 92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Rectangle 93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Rectangle 94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Rectangle 95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Rectangle 96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Rectangle 97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Rectangle 98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Rectangle 99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Rectangle 100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Rectangle 101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Rectangle 102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Rectangle 103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Rectangle 104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Rectangle 105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Rectangle 106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Rectangle 107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Rectangle 108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Rectangle 109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Rectangle 110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Rectangle 111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Rectangle 112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Rectangle 113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Rectangle 114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Rectangle 115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Rectangle 116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Rectangle 117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Rectangle 118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Rectangle 119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Rectangle 120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Rectangle 121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Rectangle 122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Rectangle 123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Rectangle 124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Rectangle 125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Group 126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Rectangle 127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Rectangle 128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Rectangle 129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Rectangle 130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Rectangle 131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Rectangle 132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Rectangle 133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Rectangle 134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Rectangle 135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Rectangle 136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Rectangle 137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Rectangle 138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Rectangle 139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Rectangle 140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Rectangle 141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Rectangle 142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Rectangle 143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Rectangle 144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Rectangle 145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Rectangle 146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Rectangle 147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Rectangle 148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Rectangle 149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Rectangle 150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Rectangle 151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Rectangle 152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Rectangle 153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Rectangle 154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Rectangle 155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Rectangle 156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Rectangle 157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Rectangle 158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Rectangle 159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Rectangle 160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Rectangle 161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Rectangle 162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Rectangle 163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Rectangle 164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Rectangle 165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Rectangle 166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Group 167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Rectangle 168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Rectangle 169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Rectangle 170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Rectangle 171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Rectangle 172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Rectangle 173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Rectangle 174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Rectangle 175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Rectangle 176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Rectangle 177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Rectangle 178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Rectangle 179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Rectangle 180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Rectangle 181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Rectangle 182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Rectangle 183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Rectangle 184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Rectangle 185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Rectangle 186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Rectangle 187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Rectangle 188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Rectangle 189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Rectangle 190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Rectangle 191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Rectangle 192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Rectangle 193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Rectangle 194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Rectangle 195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Rectangle 196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Rectangle 197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Rectangle 198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Rectangle 199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Rectangle 200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Rectangle 201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Rectangle 202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Rectangle 203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Rectangle 204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Rectangle 205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Rectangle 206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Rectangle 207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Group 208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Rectangle 209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Rectangle 210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Rectangle 211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Rectangle 212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Rectangle 213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Rectangle 214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Rectangle 215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Rectangle 216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Rectangle 217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Rectangle 218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Rectangle 219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Rectangle 220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Rectangle 221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Rectangle 222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Rectangle 223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Rectangle 224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Rectangle 225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Rectangle 226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Rectangle 227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Rectangle 228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Rectangle 229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Rectangle 230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Rectangle 231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Rectangle 232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Rectangle 233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Group 234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Group 235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Rectangle 236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Rectangle 237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Rectangle 238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Rectangle 239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Rectangle 240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Rectangle 241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Rectangle 242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Rectangle 243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Rectangle 244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Rectangle 245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Rectangle 246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Rectangle 247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Rectangle 248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Rectangle 249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Rectangle 250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Rectangle 251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Rectangle 252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Rectangle 253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Rectangle 254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Rectangle 255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Rectangle 256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Rectangle 257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Rectangle 258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Rectangle 259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Rectangle 260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Rectangle 261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Rectangle 262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Rectangle 263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Rectangle 264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Rectangle 265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Rectangle 266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Rectangle 267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Rectangle 268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Rectangle 269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Rectangle 270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Rectangle 271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Rectangle 272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Rectangle 273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Rectangle 274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Rectangle 275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Group 276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Rectangle 277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Rectangle 278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Rectangle 279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Rectangle 280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Rectangle 281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Rectangle 282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Rectangle 283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Rectangle 284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Rectangle 285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Rectangle 286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Rectangle 287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Rectangle 288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Rectangle 289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Rectangle 290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Rectangle 291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Rectangle 292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Rectangle 293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Rectangle 294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Rectangle 295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Rectangle 296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Rectangle 297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Rectangle 298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Rectangle 299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Rectangle 300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Rectangle 301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Rectangle 302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Rectangle 303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Rectangle 304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Rectangle 305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Rectangle 306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Rectangle 307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Rectangle 308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Rectangle 309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Rectangle 310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Rectangle 311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Rectangle 312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Rectangle 313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Rectangle 314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Rectangle 315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Rectangle 316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Group 317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Rectangle 318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Rectangle 319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Rectangle 320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Rectangle 321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Rectangle 322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Rectangle 323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Rectangle 324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Rectangle 325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Rectangle 326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Rectangle 327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Rectangle 328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Rectangle 329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Rectangle 330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Rectangle 331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Rectangle 332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Rectangle 333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Rectangle 334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Rectangle 335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Rectangle 336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Rectangle 337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Rectangle 338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Rectangle 339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Rectangle 340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Rectangle 341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Rectangle 342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Rectangle 343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Rectangle 344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Rectangle 345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Rectangle 346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Rectangle 347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Rectangle 348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Rectangle 349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Rectangle 350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Rectangle 351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Rectangle 352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Rectangle 353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Rectangle 354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Rectangle 355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Rectangle 356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Rectangle 357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Group 358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Rectangle 359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Rectangle 360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Rectangle 361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Rectangle 362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Rectangle 363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Rectangle 364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Rectangle 365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Rectangle 366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Rectangle 367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Rectangle 368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Rectangle 369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Rectangle 370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Rectangle 371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Rectangle 372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Rectangle 373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Rectangle 374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Rectangle 375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Rectangle 376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Rectangle 377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Rectangle 378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Rectangle 379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Rectangle 380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Rectangle 381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Rectangle 382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Rectangle 383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Rectangle 384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Rectangle 385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Rectangle 386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Rectangle 387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Rectangle 388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Rectangle 389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Rectangle 390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Rectangle 391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Rectangle 392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Rectangle 393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Rectangle 394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Rectangle 395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Rectangle 396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Rectangle 397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Rectangle 398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Group 399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Rectangle 400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Rectangle 401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Rectangle 402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Rectangle 403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Rectangle 404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Rectangle 405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Rectangle 406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Rectangle 407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Rectangle 408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Rectangle 409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Rectangle 410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Rectangle 411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Rectangle 412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Rectangle 413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Rectangle 414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Rectangle 415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Rectangle 416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Rectangle 417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Rectangle 418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Rectangle 419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Rectangle 420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Rectangle 421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Rectangle 422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Rectangle 423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Rectangle 424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Rectangle 425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Rectangle 426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Rectangle 427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Rectangle 428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Rectangle 429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Rectangle 430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Rectangle 431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Rectangle 432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Rectangle 433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Rectangle 434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Rectangle 435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Rectangle 436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Rectangle 437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Rectangle 438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Rectangle 439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Group 440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Rectangle 441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Rectangle 442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Rectangle 443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Rectangle 444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Rectangle 445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Rectangle 446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Rectangle 447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Rectangle 448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Rectangle 449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Rectangle 450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Rectangle 451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Rectangle 452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Rectangle 453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Rectangle 454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Rectangle 455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Rectangle 456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Rectangle 457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Rectangle 458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Rectangle 459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Rectangle 460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Rectangle 461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Rectangle 462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Rectangle 463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Rectangle 464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Rectangle 465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Group 466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Freeform 467"/>
            <p:cNvSpPr/>
            <p:nvPr/>
          </p:nvSpPr>
          <p:spPr>
            <a:xfrm>
              <a:off x="533520" y="2819520"/>
              <a:ext cx="4103640" cy="1144440"/>
            </a:xfrm>
            <a:prstGeom prst="pie">
              <a:avLst/>
            </a:prstGeom>
            <a:gradFill rotWithShape="0">
              <a:gsLst>
                <a:gs pos="0">
                  <a:srgbClr val="d7add9"/>
                </a:gs>
                <a:gs pos="100000">
                  <a:srgbClr val="efde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Freeform 468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prstGeom prst="pie">
              <a:avLst/>
            </a:prstGeom>
            <a:gradFill rotWithShape="0">
              <a:gsLst>
                <a:gs pos="0">
                  <a:srgbClr val="d1d3e7"/>
                </a:gs>
                <a:gs pos="100000">
                  <a:srgbClr val="8d9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E5D-021C-4BC9-8091-6085CA1B745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echnology&amp;Electronics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Japanese Transportation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運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is currently world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  <a:ea typeface="ＭＳ Ｐゴシック"/>
              </a:rPr>
              <a:t>’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s biggest vehicle manufacturer with world famous brands like Toyota and Hond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Japan also has one of the most advanced train system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18" name="Picture 5" descr="http://upload.wikimedia.org/wikipedia/commons/3/31/Shinkansen_500_Kyoto_2005-03-19.jpg"/>
          <p:cNvPicPr/>
          <p:nvPr/>
        </p:nvPicPr>
        <p:blipFill>
          <a:blip r:embed="rId1"/>
          <a:stretch/>
        </p:blipFill>
        <p:spPr>
          <a:xfrm>
            <a:off x="4716360" y="3573360"/>
            <a:ext cx="3803760" cy="2519640"/>
          </a:xfrm>
          <a:prstGeom prst="rect">
            <a:avLst/>
          </a:prstGeom>
          <a:ln w="0">
            <a:noFill/>
          </a:ln>
        </p:spPr>
      </p:pic>
      <p:sp>
        <p:nvSpPr>
          <p:cNvPr id="1019" name="Text Box 6"/>
          <p:cNvSpPr/>
          <p:nvPr/>
        </p:nvSpPr>
        <p:spPr>
          <a:xfrm>
            <a:off x="6000840" y="616572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292929"/>
                </a:solidFill>
                <a:latin typeface="굴림"/>
              </a:rPr>
              <a:t>新幹線 </a:t>
            </a: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ja-JP" sz="18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しんかんせん）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Aeronautics (Space</a:t>
            </a:r>
            <a:r>
              <a:rPr b="0" lang="ja-JP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Research)</a:t>
            </a:r>
            <a:br>
              <a:rPr sz="3600"/>
            </a:b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宇宙研究 </a:t>
            </a:r>
            <a:r>
              <a:rPr b="0" lang="en-US" sz="3600" spc="-1" strike="noStrike">
                <a:solidFill>
                  <a:srgbClr val="7882aa"/>
                </a:solidFill>
                <a:latin typeface="굴림"/>
              </a:rPr>
              <a:t>(uchu kenkyu)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 has a space agency dedicated to space exploration called JAXA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Recently, they created an experiment module for ISS called Kibo which will be used for experiments and research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2" name="Picture 5" descr="http://www.jaxa.jp/projects/iss_human/kibo/img/photo_jem2_e.jpg"/>
          <p:cNvPicPr/>
          <p:nvPr/>
        </p:nvPicPr>
        <p:blipFill>
          <a:blip r:embed="rId1"/>
          <a:stretch/>
        </p:blipFill>
        <p:spPr>
          <a:xfrm>
            <a:off x="5076720" y="4076640"/>
            <a:ext cx="3024360" cy="2287800"/>
          </a:xfrm>
          <a:prstGeom prst="rect">
            <a:avLst/>
          </a:prstGeom>
          <a:ln w="0">
            <a:noFill/>
          </a:ln>
        </p:spPr>
      </p:pic>
      <p:sp>
        <p:nvSpPr>
          <p:cNvPr id="1023" name="TextBox 6"/>
          <p:cNvSpPr/>
          <p:nvPr/>
        </p:nvSpPr>
        <p:spPr>
          <a:xfrm>
            <a:off x="1071720" y="5643720"/>
            <a:ext cx="38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This is the diagram of Kibo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howing the facilities attached to it.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Home Appliances 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家電（</a:t>
            </a:r>
            <a:r>
              <a:rPr b="0" lang="en-US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kaden)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rom many cultural and environmental differences, there are unique differences between Japanese and North American Applianc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r example, many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Japanese family uses air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humidifier in winter time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due to cold dry air in winter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6" name="Picture 5" descr="http://zojirushi.wowshopper.com/pics-inventory/zohumidifier.gif"/>
          <p:cNvPicPr/>
          <p:nvPr/>
        </p:nvPicPr>
        <p:blipFill>
          <a:blip r:embed="rId1"/>
          <a:stretch/>
        </p:blipFill>
        <p:spPr>
          <a:xfrm>
            <a:off x="6143760" y="3214800"/>
            <a:ext cx="28573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of Japan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o appeal to different tastes of Japanese customers, Japanese cell phones have unique feature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29" name="Picture 4" descr="C:\Documents and Settings\daniellee\Desktop\931n_nec.jpg"/>
          <p:cNvPicPr/>
          <p:nvPr/>
        </p:nvPicPr>
        <p:blipFill>
          <a:blip r:embed="rId1"/>
          <a:stretch/>
        </p:blipFill>
        <p:spPr>
          <a:xfrm>
            <a:off x="642960" y="3000240"/>
            <a:ext cx="3457440" cy="3457800"/>
          </a:xfrm>
          <a:prstGeom prst="rect">
            <a:avLst/>
          </a:prstGeom>
          <a:ln w="0">
            <a:noFill/>
          </a:ln>
        </p:spPr>
      </p:pic>
      <p:sp>
        <p:nvSpPr>
          <p:cNvPr id="1030" name="TextBox 7"/>
          <p:cNvSpPr/>
          <p:nvPr/>
        </p:nvSpPr>
        <p:spPr>
          <a:xfrm>
            <a:off x="4286160" y="3429000"/>
            <a:ext cx="40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or example, this cell phone has high quality camera and rotating screen for viewing TV and internet surfing. 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ell phones contd.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356840"/>
            <a:ext cx="6615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ome Japanese cell phones support video telephony allowing callers to see each other’s face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Lots of Japanese teenagers use “emoji”s (</a:t>
            </a:r>
            <a:r>
              <a:rPr b="0" lang="ja-JP" sz="3200" spc="-1" strike="noStrike">
                <a:solidFill>
                  <a:srgbClr val="292929"/>
                </a:solidFill>
                <a:latin typeface="굴림"/>
              </a:rPr>
              <a:t>絵文字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e means picture moji means letter)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3" name="Picture 4" descr="C:\Documents and Settings\daniellee\Desktop\japan3.gif"/>
          <p:cNvPicPr/>
          <p:nvPr/>
        </p:nvPicPr>
        <p:blipFill>
          <a:blip r:embed="rId1"/>
          <a:stretch/>
        </p:blipFill>
        <p:spPr>
          <a:xfrm>
            <a:off x="5286240" y="414324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C:\Documents and Settings\daniellee\Desktop\japan12a.gif"/>
          <p:cNvPicPr/>
          <p:nvPr/>
        </p:nvPicPr>
        <p:blipFill>
          <a:blip r:embed="rId2"/>
          <a:stretch/>
        </p:blipFill>
        <p:spPr>
          <a:xfrm>
            <a:off x="-6480" y="5572080"/>
            <a:ext cx="9150480" cy="2142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7" descr="C:\Documents and Settings\daniellee\Desktop\japan13.jpg"/>
          <p:cNvPicPr/>
          <p:nvPr/>
        </p:nvPicPr>
        <p:blipFill>
          <a:blip r:embed="rId3"/>
          <a:stretch/>
        </p:blipFill>
        <p:spPr>
          <a:xfrm>
            <a:off x="7358040" y="1071720"/>
            <a:ext cx="1422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Akihabara</a:t>
            </a:r>
            <a:r>
              <a:rPr b="0" lang="ja-JP" sz="4000" spc="-1" strike="noStrike">
                <a:solidFill>
                  <a:srgbClr val="7882aa"/>
                </a:solidFill>
                <a:latin typeface="굴림"/>
                <a:ea typeface="ＭＳ Ｐゴシック"/>
              </a:rPr>
              <a:t>　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秋葉原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  <a:ea typeface="ＭＳ Ｐゴシック"/>
              </a:rPr>
              <a:t>Akihabara is the biggest electronics shopping district in Japan with thousands of stores dedicated to computers, games and other electronics related goods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038" name="Picture 5" descr="http://insomnia.ac/japan/top_10_akiba_stores_(new_games)/chuo-dori.jpg"/>
          <p:cNvPicPr/>
          <p:nvPr/>
        </p:nvPicPr>
        <p:blipFill>
          <a:blip r:embed="rId1"/>
          <a:stretch/>
        </p:blipFill>
        <p:spPr>
          <a:xfrm>
            <a:off x="179280" y="3500280"/>
            <a:ext cx="4211640" cy="31608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6" descr="C:\Documents and Settings\daniellee\Desktop\akihabara_2_1280x1024.jpg"/>
          <p:cNvPicPr/>
          <p:nvPr/>
        </p:nvPicPr>
        <p:blipFill>
          <a:blip r:embed="rId2"/>
          <a:stretch/>
        </p:blipFill>
        <p:spPr>
          <a:xfrm>
            <a:off x="4572000" y="3357720"/>
            <a:ext cx="4000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4:21:32Z</dcterms:created>
  <dc:creator>이동준</dc:creator>
  <dc:description/>
  <dc:language>en-US</dc:language>
  <cp:lastModifiedBy>daniellee</cp:lastModifiedBy>
  <dcterms:modified xsi:type="dcterms:W3CDTF">2010-01-05T19:30:28Z</dcterms:modified>
  <cp:revision>13</cp:revision>
  <dc:subject/>
  <dc:title>슬라이드 1</dc:title>
</cp:coreProperties>
</file>