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44CD-B74A-479B-B0C0-3ACC92E83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7E6D-5121-4E53-9E1F-9F35FAD48C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DDCB-3D49-4C6C-BD33-01A6C01680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FFD6-180D-4BA8-95E2-E773A6DD34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2A26-3EF2-4A10-8FB3-E2E54DE0A0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2854-2967-49A6-9F01-84C4CF37D5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11CD-921B-427D-A3BD-CB3F20D9D8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EC28-F92D-42C6-A45C-EF10AB7CBB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90B7-A2B4-4B3E-A90C-A6D11B77E8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28D8-9622-4CBD-91A0-C5A8B3E23F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983-B5D6-47B6-BECA-409B1076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45A-06DA-444E-8EB8-684B7C1C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16D-DCB8-410E-8755-8526B68A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E10-B6B6-4B37-B681-703F77B6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808-CF09-4456-AD8B-F2548423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79B6-E88F-4C41-9BB1-E111AE20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D26-7A42-4A37-98B6-0219C75D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F30-AC0D-402D-AC85-89E9ED8C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0B1-149E-4C9C-8C9D-ED21C9E4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3E9-FB22-4C8A-97E1-148501D9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8AF-BDCB-4CD3-A6D3-7BDA3B28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34E-7256-4A9B-AFBA-6589F02A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DA04-9185-48F5-ADAC-1B8FF0D6F5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NarutoShuriken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Traditional </a:t>
            </a:r>
            <a:r>
              <a:rPr b="0" lang="ja-JP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日本　</a:t>
            </a:r>
            <a:r>
              <a:rPr b="0" lang="en-US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Weapon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80808"/>
                </a:solidFill>
                <a:latin typeface="Arial"/>
              </a:rPr>
              <a:t>クイズ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かたな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Triple 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Single 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Doubled Edg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3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ヌンチャク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ere connected by _____or cha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6858000" y="1981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さい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carried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3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2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1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3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________ has a sickle on one end and a weight on the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5720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0000"/>
                </a:solidFill>
                <a:latin typeface="Arial"/>
              </a:rPr>
              <a:t>くさりが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ぼう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______ lo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5.68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4.82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1.28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d) 1.82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しゅりけん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made from 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693432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co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ゆみ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_____ t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4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2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6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katana-300x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かたな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rried by Samur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gle-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ng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rved Bl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nunchucks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ヌンチャク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sticks connected by rope or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use-sai-weapon-200X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さい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ap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rried in 3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b_KUSARIGAM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くさりがま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ckle on one end weight on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ight was swung, sickle used 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hurik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しゅりけん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st popular in moder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d to support main wea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so used for other purp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de from co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bostaf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ぼう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ng wooden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ditionally 1.82m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rd w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asn’t originally a wea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ゆみ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d by Samur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er 2m 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2" name="Picture 5" descr="NarutoShurikenBig"/>
            <p:cNvPicPr/>
            <p:nvPr/>
          </p:nvPicPr>
          <p:blipFill>
            <a:blip r:embed="rId1"/>
            <a:stretch/>
          </p:blipFill>
          <p:spPr>
            <a:xfrm>
              <a:off x="2214360" y="1981080"/>
              <a:ext cx="38581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4" descr="shuriken"/>
            <p:cNvPicPr/>
            <p:nvPr/>
          </p:nvPicPr>
          <p:blipFill>
            <a:blip r:embed="rId2"/>
            <a:stretch/>
          </p:blipFill>
          <p:spPr>
            <a:xfrm>
              <a:off x="5760" y="4267080"/>
              <a:ext cx="304596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" descr="use-sai-weapon-200X200"/>
            <p:cNvPicPr/>
            <p:nvPr/>
          </p:nvPicPr>
          <p:blipFill>
            <a:blip r:embed="rId3"/>
            <a:stretch/>
          </p:blipFill>
          <p:spPr>
            <a:xfrm>
              <a:off x="3052080" y="4495680"/>
              <a:ext cx="304596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nunchucks1"/>
            <p:cNvPicPr/>
            <p:nvPr/>
          </p:nvPicPr>
          <p:blipFill>
            <a:blip r:embed="rId4"/>
            <a:stretch/>
          </p:blipFill>
          <p:spPr>
            <a:xfrm>
              <a:off x="6021720" y="3657600"/>
              <a:ext cx="31222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db_KUSARIGAMA2"/>
            <p:cNvPicPr/>
            <p:nvPr/>
          </p:nvPicPr>
          <p:blipFill>
            <a:blip r:embed="rId5"/>
            <a:stretch/>
          </p:blipFill>
          <p:spPr>
            <a:xfrm>
              <a:off x="5869800" y="0"/>
              <a:ext cx="327420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katana-300x300"/>
            <p:cNvPicPr/>
            <p:nvPr/>
          </p:nvPicPr>
          <p:blipFill>
            <a:blip r:embed="rId6"/>
            <a:stretch/>
          </p:blipFill>
          <p:spPr>
            <a:xfrm>
              <a:off x="3508920" y="0"/>
              <a:ext cx="236052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6" descr=""/>
            <p:cNvPicPr/>
            <p:nvPr/>
          </p:nvPicPr>
          <p:blipFill>
            <a:blip r:embed="rId7"/>
            <a:stretch/>
          </p:blipFill>
          <p:spPr>
            <a:xfrm>
              <a:off x="5760" y="0"/>
              <a:ext cx="3502800" cy="21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5" descr="bostaff"/>
            <p:cNvPicPr/>
            <p:nvPr/>
          </p:nvPicPr>
          <p:blipFill>
            <a:blip r:embed="rId8"/>
            <a:stretch/>
          </p:blipFill>
          <p:spPr>
            <a:xfrm>
              <a:off x="0" y="2048040"/>
              <a:ext cx="2680200" cy="222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y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ジェームズ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ライアン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09:55Z</dcterms:created>
  <dc:creator>SD#34</dc:creator>
  <dc:description/>
  <dc:language>en-US</dc:language>
  <cp:lastModifiedBy>Owner</cp:lastModifiedBy>
  <dcterms:modified xsi:type="dcterms:W3CDTF">2009-12-11T00:42:01Z</dcterms:modified>
  <cp:revision>16</cp:revision>
  <dc:subject/>
  <dc:title>Traditional 日本　Weapons</dc:title>
</cp:coreProperties>
</file>