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BF53-800E-46E1-B998-FC13803BC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CFD9-4647-49D6-80D7-57E50FB0C8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5926-0983-4572-8AEB-331FE7A26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D675-C363-43CF-A0D1-E763151C5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780D-14B0-4784-A134-FC3BBA2FEC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3618-3204-4DDB-8348-B091F21359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C173-7ED8-468F-8F24-9A04AEFFF0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4A3-D38B-4D0F-BA68-42CD7A1426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AA73-1360-4D91-ABF7-EA8DA396A0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9DB1-2D18-4A54-B85A-8834DA9211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CB8-ACB2-43F9-9FE8-05D32FD0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FB2-921E-4583-A8BD-A9C72B29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E82-7F61-4A0F-BAC1-4841C4FA5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ED8-2E54-4BE2-8E97-7D0C6605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78D-B33E-4136-85E7-D2B34202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6BE-CC43-49D9-8BD3-D4DCC929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862-0A5A-4D0C-ACAC-E656F548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944-06CA-403A-B762-2EC95950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4B2F-4038-429B-BFF3-DB615A65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9F1-7C0E-4A96-9619-7C76F441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45D-D149-4877-AF41-E8FF55FE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31C-1920-4323-8162-8E0B21AB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035F-ED81-4E0B-8D70-F7CE71B1D6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NarutoShuriken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Traditional </a:t>
            </a: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日本　</a:t>
            </a: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Weap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80808"/>
                </a:solidFill>
                <a:latin typeface="Arial"/>
              </a:rPr>
              <a:t>クイズ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かたな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Trip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Sing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Doubled Ed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ヌンチャク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ere connected by _____or ch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8580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さい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carri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________ has a sickle on one end and a weight on the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720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0000"/>
                </a:solidFill>
                <a:latin typeface="Arial"/>
              </a:rPr>
              <a:t>くさりが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ぼう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_ lo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5.6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4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.2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d) 1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しゅりけん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made from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934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c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ゆみ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 t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atana-300x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かたな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-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ved Bl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unchucks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ヌンチャク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sticks connected by rope or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se-sai-weapon-200X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さ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ap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in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b_KUSARIGAM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くさりがま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ckle on one end weight on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 was swung, sickle used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hurik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しゅりけ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popular in moder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support main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so used for other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de from co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osta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ぼう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wooden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ditionally 1.82m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d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sn’t originally a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ゆ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 2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 5" descr="NarutoShurikenBig"/>
            <p:cNvPicPr/>
            <p:nvPr/>
          </p:nvPicPr>
          <p:blipFill>
            <a:blip r:embed="rId1"/>
            <a:stretch/>
          </p:blipFill>
          <p:spPr>
            <a:xfrm>
              <a:off x="2214360" y="1981080"/>
              <a:ext cx="3858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shuriken"/>
            <p:cNvPicPr/>
            <p:nvPr/>
          </p:nvPicPr>
          <p:blipFill>
            <a:blip r:embed="rId2"/>
            <a:stretch/>
          </p:blipFill>
          <p:spPr>
            <a:xfrm>
              <a:off x="5760" y="4267080"/>
              <a:ext cx="30459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use-sai-weapon-200X200"/>
            <p:cNvPicPr/>
            <p:nvPr/>
          </p:nvPicPr>
          <p:blipFill>
            <a:blip r:embed="rId3"/>
            <a:stretch/>
          </p:blipFill>
          <p:spPr>
            <a:xfrm>
              <a:off x="3052080" y="4495680"/>
              <a:ext cx="3045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nunchucks1"/>
            <p:cNvPicPr/>
            <p:nvPr/>
          </p:nvPicPr>
          <p:blipFill>
            <a:blip r:embed="rId4"/>
            <a:stretch/>
          </p:blipFill>
          <p:spPr>
            <a:xfrm>
              <a:off x="6021720" y="3657600"/>
              <a:ext cx="3122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db_KUSARIGAMA2"/>
            <p:cNvPicPr/>
            <p:nvPr/>
          </p:nvPicPr>
          <p:blipFill>
            <a:blip r:embed="rId5"/>
            <a:stretch/>
          </p:blipFill>
          <p:spPr>
            <a:xfrm>
              <a:off x="5869800" y="0"/>
              <a:ext cx="32742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katana-300x300"/>
            <p:cNvPicPr/>
            <p:nvPr/>
          </p:nvPicPr>
          <p:blipFill>
            <a:blip r:embed="rId6"/>
            <a:stretch/>
          </p:blipFill>
          <p:spPr>
            <a:xfrm>
              <a:off x="3508920" y="0"/>
              <a:ext cx="23605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"/>
            <p:cNvPicPr/>
            <p:nvPr/>
          </p:nvPicPr>
          <p:blipFill>
            <a:blip r:embed="rId7"/>
            <a:stretch/>
          </p:blipFill>
          <p:spPr>
            <a:xfrm>
              <a:off x="5760" y="0"/>
              <a:ext cx="350280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bostaff"/>
            <p:cNvPicPr/>
            <p:nvPr/>
          </p:nvPicPr>
          <p:blipFill>
            <a:blip r:embed="rId8"/>
            <a:stretch/>
          </p:blipFill>
          <p:spPr>
            <a:xfrm>
              <a:off x="0" y="2048040"/>
              <a:ext cx="2680200" cy="222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ジェーム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ライアン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09:55Z</dcterms:created>
  <dc:creator>SD#34</dc:creator>
  <dc:description/>
  <dc:language>en-US</dc:language>
  <cp:lastModifiedBy>Owner</cp:lastModifiedBy>
  <dcterms:modified xsi:type="dcterms:W3CDTF">2009-12-11T00:42:01Z</dcterms:modified>
  <cp:revision>16</cp:revision>
  <dc:subject/>
  <dc:title>Traditional 日本　Weapons</dc:title>
</cp:coreProperties>
</file>