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C1F7-9CD5-4989-95A4-3D99112A6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97AA-8D6C-4ADC-A9B1-AEDD863433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2E22-102D-4EE4-9F72-67A398115E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9901-DF76-47A1-A79E-E34EA86336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4578-512A-46A6-A858-C93E638636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D95C-684C-4412-817C-DF26627FA6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E8A6-E381-4B95-AAE6-5990A1F102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C431-8D31-446C-B5C5-B26C18196B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4ED0-2C3D-4B6F-BD77-CE2ACAD792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56E9-6FBA-456E-81C0-0B8AD2D4F3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9D0-0954-4285-AF54-FED1EF43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E35-6272-4C76-BBCB-30BA47A1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E92-B8E3-4A59-BDC1-6704E13C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A27-17F9-4F96-AADB-12750FE3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0AF-5E07-49FE-BCC9-BFE40786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E54-C36E-4019-8DF0-ECFEE7FA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791-91A6-4359-8E5F-89AF99A4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258-5500-486B-AF42-03ADC139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27A-B948-4C1C-8801-9679365F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C6B-AA52-4C41-AC97-AFF2299A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DC1-D2DD-4945-91F0-C29A1C4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A93-DF6B-4385-B844-2FCFEE56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8BAE-0E89-4756-A8E9-9226377F95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NarutoShuriken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Traditional </a:t>
            </a: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日本　</a:t>
            </a: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Weap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80808"/>
                </a:solidFill>
                <a:latin typeface="Arial"/>
              </a:rPr>
              <a:t>クイズ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かたな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Trip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Sing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Doubled Edg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ヌンチャク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ere connected by _____or cha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85800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さい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carrie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________ has a sickle on one end and a weight on the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720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0000"/>
                </a:solidFill>
                <a:latin typeface="Arial"/>
              </a:rPr>
              <a:t>くさりが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ぼう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_ lo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5.6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4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.2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d) 1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しゅりけん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made from 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93432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co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ゆみ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 t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4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6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atana-300x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かたな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gle-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rved Bl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nunchucks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ヌンチャク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sticks connected by rope or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se-sai-weapon-200X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さい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ap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in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b_KUSARIGAM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くさりがま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ckle on one end weight on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ght was swung, sickle used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hurik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しゅりけ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 popular in moder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to support main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so used for other purp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de from co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osta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ぼう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wooden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ditionally 1.82m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d 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sn’t originally a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ゆみ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 2m 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Picture 5" descr="NarutoShurikenBig"/>
            <p:cNvPicPr/>
            <p:nvPr/>
          </p:nvPicPr>
          <p:blipFill>
            <a:blip r:embed="rId1"/>
            <a:stretch/>
          </p:blipFill>
          <p:spPr>
            <a:xfrm>
              <a:off x="2214360" y="1981080"/>
              <a:ext cx="38581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shuriken"/>
            <p:cNvPicPr/>
            <p:nvPr/>
          </p:nvPicPr>
          <p:blipFill>
            <a:blip r:embed="rId2"/>
            <a:stretch/>
          </p:blipFill>
          <p:spPr>
            <a:xfrm>
              <a:off x="5760" y="4267080"/>
              <a:ext cx="30459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" descr="use-sai-weapon-200X200"/>
            <p:cNvPicPr/>
            <p:nvPr/>
          </p:nvPicPr>
          <p:blipFill>
            <a:blip r:embed="rId3"/>
            <a:stretch/>
          </p:blipFill>
          <p:spPr>
            <a:xfrm>
              <a:off x="3052080" y="4495680"/>
              <a:ext cx="30459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nunchucks1"/>
            <p:cNvPicPr/>
            <p:nvPr/>
          </p:nvPicPr>
          <p:blipFill>
            <a:blip r:embed="rId4"/>
            <a:stretch/>
          </p:blipFill>
          <p:spPr>
            <a:xfrm>
              <a:off x="6021720" y="3657600"/>
              <a:ext cx="3122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db_KUSARIGAMA2"/>
            <p:cNvPicPr/>
            <p:nvPr/>
          </p:nvPicPr>
          <p:blipFill>
            <a:blip r:embed="rId5"/>
            <a:stretch/>
          </p:blipFill>
          <p:spPr>
            <a:xfrm>
              <a:off x="5869800" y="0"/>
              <a:ext cx="32742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katana-300x300"/>
            <p:cNvPicPr/>
            <p:nvPr/>
          </p:nvPicPr>
          <p:blipFill>
            <a:blip r:embed="rId6"/>
            <a:stretch/>
          </p:blipFill>
          <p:spPr>
            <a:xfrm>
              <a:off x="3508920" y="0"/>
              <a:ext cx="23605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6" descr=""/>
            <p:cNvPicPr/>
            <p:nvPr/>
          </p:nvPicPr>
          <p:blipFill>
            <a:blip r:embed="rId7"/>
            <a:stretch/>
          </p:blipFill>
          <p:spPr>
            <a:xfrm>
              <a:off x="5760" y="0"/>
              <a:ext cx="350280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5" descr="bostaff"/>
            <p:cNvPicPr/>
            <p:nvPr/>
          </p:nvPicPr>
          <p:blipFill>
            <a:blip r:embed="rId8"/>
            <a:stretch/>
          </p:blipFill>
          <p:spPr>
            <a:xfrm>
              <a:off x="0" y="2048040"/>
              <a:ext cx="2680200" cy="222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y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ジェームズ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ライアン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09:55Z</dcterms:created>
  <dc:creator>SD#34</dc:creator>
  <dc:description/>
  <dc:language>en-US</dc:language>
  <cp:lastModifiedBy>Owner</cp:lastModifiedBy>
  <dcterms:modified xsi:type="dcterms:W3CDTF">2009-12-11T00:42:01Z</dcterms:modified>
  <cp:revision>16</cp:revision>
  <dc:subject/>
  <dc:title>Traditional 日本　Weapons</dc:title>
</cp:coreProperties>
</file>