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106B-3716-4549-97BA-55B81711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8AED-ADF2-4A9F-AA73-FDDA2A3FA2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A1EA-2A07-4BD3-A724-D3635B8C21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8961-F7A4-4293-9A8A-80B2B0863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E624-28A1-4D2A-8783-A332774538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F27-1D15-4F3F-B5EC-6A70354E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54D-6CFD-47BD-A252-B4E70010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A2154-2830-47F1-9AF3-EB57E0A0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67964-D002-46E9-8518-C1603208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66BDE-17D0-4ACE-B4DD-C0EDD40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6012E-F166-43EA-AD43-A165331E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C5619-729E-404C-A1C9-CE9173DE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E79BA-E7D3-4738-B6B4-A29201EB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9DBCB-D314-41B3-9947-714DCFE1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220F0-D2C6-4097-9617-C4B8081A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08C6C-2A74-40E4-8FC3-ADA538E6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C0ABC-9D0C-4402-BB1A-E856AB7E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3215-83D2-4031-BCCC-E46B3AA0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4F28A-9417-4387-BBCB-02773D80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31F64-EB16-49E9-A707-4F9BF765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EA883-428B-4094-A5E2-564E7881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D8B8C-A2EC-4B77-9BDF-341BFBE2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BAC72-057A-4B6D-9540-448C4178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39E25-3ECC-44AF-A99C-5432225F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DB1DB-A618-4632-9618-A3AE5FF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F3368-9D30-4DCC-B825-477C544D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DFB4E-3659-42AC-A67C-014D0CF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1D02D-4A49-4D3B-9414-B18AA77D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896-AE6D-4294-AD91-784CF46C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9F9B6-CEC6-47F6-B5A1-EC788FAD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47A70-3C6B-4B56-9D14-3C177A7B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67DCE-6054-4F8E-858C-A6F1247D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6FD0E-1F3C-4B7F-8D35-6E71F97C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03E1A-C267-4284-88A9-92233199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F54FF-EEC9-4D92-A32D-4C0B0DC8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2B53E-2AF1-46E9-AEE1-D7D2EE45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E09D2-C211-439E-97C8-F267C4B7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EBA21-2730-408D-9683-E663C676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C3C9-0AC4-4096-9CDA-879F512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BEAF-47A4-434E-A19B-EE8FCB7A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C7B9A-9CF8-487F-B761-09AE67D5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A799D-9B27-44C3-9A2B-E57680A1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D8742-A3D8-4494-8DB3-0CEF8C27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0C4EF-7AAB-42FA-B397-034CAA8A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DBFE1-D176-479C-B28B-027B36EE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75A2A-A5EE-4CC8-9389-10273AFB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D89FA-978A-4135-B797-D7D79847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CF6FF-4910-4EC0-8F20-7B43D025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5547F-D90D-4C4F-AB79-D1A0028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F1EDB-CC12-449C-84DF-911A25EF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6487-0C32-4265-98C5-25874D87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950AC-452E-4EC7-8816-383A633B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DFD35-F4D3-4347-9609-200C4A01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FF169-2967-41C4-B4F5-E4D5206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9BEB9-C1B4-42F1-A857-5E5CFB76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9F9E9-746E-4DD9-BB64-90DFAC85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3B2C0-0DA2-476C-999B-E40A2CE2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A892E-1A77-48E5-B011-285570E8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62D32-4650-4FA7-9F3A-8325D16C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8B95C-565D-461F-A367-7303C100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72D7CF-C7EB-4278-9635-D58C1079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2FD3-1676-485F-906C-B0F915FD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618B7-2B83-4288-A0EF-5909D230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002B9-7535-47BD-A030-58C0F05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F02C7-B658-45EE-8DEA-C981ED7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D16C3-B9E3-42E3-82E4-3F7868C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F3840-4ADB-459E-BDFA-A36CC6FB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17BBB-88A6-49E0-B6CB-3C0C61B9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EB02A-1FFA-4F98-B79B-5F943CB2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8B827-7D03-459C-91B5-EC140CCD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1EC59-D4B6-4F54-848D-56DD9B89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33962-190D-4195-8872-69DB3C92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624D-BF6F-4572-8CB6-EBC6F2B3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39F94-7AE7-4452-8FFF-C71D27DF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02E88-5126-471E-B588-57658533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9B9EF-EBAC-4FF1-A3F2-14498119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315FA-918C-44FA-8DFB-41FF8A1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2A6ACB-869C-4577-85C8-D426874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193D7F-79F1-461B-9C22-A341142E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F8DCA-4329-4F1D-99EC-5E6A561A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170E4-D4C7-4303-B552-ABD7BD4D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F83EF4-AF4E-42F9-B55A-43738E82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EED8C-8E59-4B51-BBB6-5C4640C9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981B-A24E-4D14-926D-16DFAC78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D4FB5-B6C8-464A-AC2A-A37E2A41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E0F02-8596-444C-9403-4181463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C37BA3-1F08-4B97-A560-51CD5F8D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45888-466D-45D3-A2CE-B72087FE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52EFF-379E-4576-A713-654E8D3B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C7ED9-59A9-4B4E-9500-DCEAB0DD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161C3-1ADF-46B2-BF7C-0C0C4AC8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0AE909-DBA5-4ED6-A50E-3D7A9281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D2348-8DDD-4831-9BE3-1DB9A1B3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09636-F8BE-479D-B7DA-AAEBE8D3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D58C-9CDD-48F4-9D33-35AE0F44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7BDF5-AE40-42D3-9053-E8D8D5EB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95189-88DB-4260-AE71-1B618487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4F8C6-BB71-4AB2-B923-4B34B936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A8173-41AD-4CF8-83E3-73AC05CD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44DC5-E84C-49A1-B92F-0BA483FC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948C7-BB1B-4081-B147-2D1EA6C4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E9DC2-3E3E-49D4-99AD-FD163785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9BF45C-2B0A-479D-868D-3AAA546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D04B3-772F-42D9-BE90-A6409E97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D2811E-774F-4D66-9148-6099B98B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D74E-ECEA-4510-9CF6-EA3EDB1D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319A0-F983-4571-AC4A-ECB8F288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092DBE-BE6C-42CD-8EC1-976F686A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B4457-87BA-40F9-BDE1-EE3D7DE7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9B6-67D1-4ADB-ABD1-1C9755ED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3C32-F201-42AD-8534-D24695B4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1FAA-5397-455D-B824-15E5CC8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156F-7A18-4B75-BF51-7B8E2E72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BFA0-0A21-4600-AAB4-F78056E3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DB93-1C79-4300-A0DA-8BD52B6B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CDE3-4D6B-414C-9C03-0BDD4B086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58B6-4865-41F9-A393-60F0CEA5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1A0DA-9B9B-4082-9764-F3DE8472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82981-C705-4F28-964C-B8CFB0C0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CA16-BC55-4491-A192-E78159D5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F76-CEA2-4489-BB72-415BFF27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DC35-3393-4189-8188-0023C396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AD1CC-4D82-48E8-9627-8D762AB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0907A-85E0-4F54-9548-7A8D2DD7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BA44-3D03-4879-B610-623D3CE2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9ABA-E651-45A5-B5DA-E98347D8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35EA-C567-4979-A0AB-D3A383D2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1B260-7859-413D-9AF2-C22BDD51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1A35-10AA-4FCB-B212-EEAF8C34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113B-CE05-4BBB-8510-3134E0DD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E4D0-40E4-442E-8282-320197E9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886-2CCD-4876-8FA9-D6EF3A1B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DD58D-A838-4B2A-BB75-05D744B5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843FC-7036-41A0-B417-297AFB7C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475DD-C7CC-4C89-AC8F-FA64469A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02B41-41CA-4FEF-BE8E-DD65AAA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91284-B72B-4690-8BBE-FF2B7D7F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C3ACC-342D-4B45-8C39-94F03B73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1667-D555-43CA-831C-3ACC7DDC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7672-6661-46DB-8C61-DF8FE4BD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9817A-A3F6-43CA-B3C4-2915E611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244A6-977F-44DF-B013-09043235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62F-23E7-42F1-BEBD-31C320D0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F090E-BEF6-4762-A0F7-DA341E32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DFF3F-6AFD-495C-82A3-95F28610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9441D-E77E-42F8-8241-FA3A1E9C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5B149-E71D-4915-9292-09F15637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F9E0-8CCD-419B-A46B-17C1B8DE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A80BD-AF98-4316-8060-0B86917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383F8-D28D-42D9-BF28-91FC2BBD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7419-FCCC-44A4-8EE6-EFFE9250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EDB1-5030-4AB1-B49D-A66E992D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ED2A2-1505-4824-BFF8-7B5D5DCF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06D-CB45-437D-A5D4-E076EE0C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C8076-1407-4FB7-861E-3C72DDB3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7C79B-0849-494D-830F-A18B730F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76C5C-51F4-4423-90D5-4F2F93E6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73F8-8C3C-43DF-BD9D-8E545929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A2CA5-6C1A-4C09-BC02-F0386BFA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C4CA-76A8-4234-AF74-28F0C4A3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A5D2E-8C90-4CA8-A800-8E17E749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6DCAC-DDDA-4E86-974C-10184A3A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4971-9158-45F1-B07F-0974B6F2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71F18-BFE2-4975-966F-66764500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7330-D9E0-4F2D-8216-B3C1E95D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60D9-FC06-4593-BC6B-1529E4AF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55D8C-1C39-4633-A34A-6B5AF1DC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2CAEC-3118-41CE-A362-C5226B7E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29943-25FA-43FE-8F5B-A647F984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236C7-BE7E-4CB9-B4E2-9FA7B8B4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0E7E-379F-4436-97D7-997990E5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D83E-36A1-42DA-A599-2BB656C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EF968-DD09-477B-929D-77F6FF1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7AFA7-9356-49C0-AC8F-3B75637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AA842-AC25-44BE-9DDF-536D7E4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A943-FDB4-434D-A948-84AC77B7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B291C-BE48-4BC2-9FAA-405952F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42044-5AE5-4B4B-BCD2-0899A0A5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F2F6C-75AC-4D0E-94B9-0D68839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9AC9A-23E3-4EA1-9524-5E383AE4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BC9E8-974C-4D14-8A86-F7C2E77C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5DF6D-5E9B-431F-A342-FF0075C6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C4ED5-FECA-453E-87BB-D88A6C47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9C910-17D7-4131-AAA9-DC0149CE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BAE9A-E1D5-4E2F-9649-1C411C26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0288D-43A6-4DFF-9370-9B7AD130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029-BF37-4452-A11A-501706A5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5E05-CE9C-4283-920A-02E43A22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DA7A7-B07A-4AB1-BBD0-AF02EAFA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AFEA6-43CF-4E80-86ED-47CB1A49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58BAF-E612-410E-B877-EBAE214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40839-46FE-4103-9E94-E1DA2040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6880-49F9-4E8D-8873-D15E3041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DEAEE-CF11-4C57-8AB6-2053D703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26687-DF9C-4A0A-9673-4E37E4E4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73DFE-6D7F-4DF2-A5BA-4E599130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71364-2BD8-45B2-B924-143D1BBC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9A83-A354-474C-8E67-D2225ECBF0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직사각형 8"/>
          <p:cNvSpPr/>
          <p:nvPr/>
        </p:nvSpPr>
        <p:spPr>
          <a:xfrm rot="21422400">
            <a:off x="609120" y="1000080"/>
            <a:ext cx="4000680" cy="4857840"/>
          </a:xfrm>
          <a:prstGeom prst="rect">
            <a:avLst/>
          </a:prstGeom>
          <a:solidFill>
            <a:srgbClr val="f8f8f8"/>
          </a:solidFill>
          <a:ln cap="sq" w="3240">
            <a:solidFill>
              <a:srgbClr val="c0c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그룹 9"/>
          <p:cNvGrpSpPr/>
          <p:nvPr/>
        </p:nvGrpSpPr>
        <p:grpSpPr>
          <a:xfrm>
            <a:off x="8116920" y="46080"/>
            <a:ext cx="1000080" cy="1036440"/>
            <a:chOff x="8116920" y="46080"/>
            <a:chExt cx="1000080" cy="1036440"/>
          </a:xfrm>
        </p:grpSpPr>
        <p:sp>
          <p:nvSpPr>
            <p:cNvPr id="446" name="자유형 10"/>
            <p:cNvSpPr/>
            <p:nvPr/>
          </p:nvSpPr>
          <p:spPr>
            <a:xfrm>
              <a:off x="8386560" y="460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자유형 11"/>
            <p:cNvSpPr/>
            <p:nvPr/>
          </p:nvSpPr>
          <p:spPr>
            <a:xfrm>
              <a:off x="8116920" y="5936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자유형 12"/>
            <p:cNvSpPr/>
            <p:nvPr/>
          </p:nvSpPr>
          <p:spPr>
            <a:xfrm>
              <a:off x="8119800" y="460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자유형 13"/>
            <p:cNvSpPr/>
            <p:nvPr/>
          </p:nvSpPr>
          <p:spPr>
            <a:xfrm>
              <a:off x="8869320" y="8334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자유형 14"/>
            <p:cNvSpPr/>
            <p:nvPr/>
          </p:nvSpPr>
          <p:spPr>
            <a:xfrm>
              <a:off x="8389800" y="3157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07A8-CFDC-4440-B033-2A9EE36BC2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그룹 8"/>
          <p:cNvGrpSpPr/>
          <p:nvPr/>
        </p:nvGrpSpPr>
        <p:grpSpPr>
          <a:xfrm>
            <a:off x="61920" y="50760"/>
            <a:ext cx="1000080" cy="1036800"/>
            <a:chOff x="61920" y="50760"/>
            <a:chExt cx="1000080" cy="1036800"/>
          </a:xfrm>
        </p:grpSpPr>
        <p:sp>
          <p:nvSpPr>
            <p:cNvPr id="494" name="자유형 9"/>
            <p:cNvSpPr/>
            <p:nvPr/>
          </p:nvSpPr>
          <p:spPr>
            <a:xfrm>
              <a:off x="331560" y="507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자유형 10"/>
            <p:cNvSpPr/>
            <p:nvPr/>
          </p:nvSpPr>
          <p:spPr>
            <a:xfrm>
              <a:off x="61920" y="5986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자유형 11"/>
            <p:cNvSpPr/>
            <p:nvPr/>
          </p:nvSpPr>
          <p:spPr>
            <a:xfrm>
              <a:off x="64800" y="5076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자유형 12"/>
            <p:cNvSpPr/>
            <p:nvPr/>
          </p:nvSpPr>
          <p:spPr>
            <a:xfrm>
              <a:off x="814320" y="8384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자유형 13"/>
            <p:cNvSpPr/>
            <p:nvPr/>
          </p:nvSpPr>
          <p:spPr>
            <a:xfrm>
              <a:off x="334800" y="32076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2402-AB7E-423C-BEBD-4AE7A74DA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542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3A81-B57F-4B97-9869-22AEB5DFF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DDAD-B75B-49E7-913D-BA7C50A922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9741-28C9-4D8D-A187-0B7BA2F7B4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6FC9-5FEC-42D3-9D48-F861738B52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5BAD-26D5-440F-8413-2C63A3FDA1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44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47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0B86-5F43-447E-88E5-B8490CB1B1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95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98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89CF-69F4-4FBD-A352-C658FDC8C3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14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그룹 11"/>
          <p:cNvGrpSpPr/>
          <p:nvPr/>
        </p:nvGrpSpPr>
        <p:grpSpPr>
          <a:xfrm>
            <a:off x="142920" y="1857240"/>
            <a:ext cx="1000080" cy="1036800"/>
            <a:chOff x="142920" y="1857240"/>
            <a:chExt cx="1000080" cy="1036800"/>
          </a:xfrm>
        </p:grpSpPr>
        <p:sp>
          <p:nvSpPr>
            <p:cNvPr id="149" name="자유형 12"/>
            <p:cNvSpPr/>
            <p:nvPr/>
          </p:nvSpPr>
          <p:spPr>
            <a:xfrm>
              <a:off x="412560" y="18572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자유형 13"/>
            <p:cNvSpPr/>
            <p:nvPr/>
          </p:nvSpPr>
          <p:spPr>
            <a:xfrm>
              <a:off x="142920" y="24051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자유형 14"/>
            <p:cNvSpPr/>
            <p:nvPr/>
          </p:nvSpPr>
          <p:spPr>
            <a:xfrm>
              <a:off x="145800" y="185724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자유형 15"/>
            <p:cNvSpPr/>
            <p:nvPr/>
          </p:nvSpPr>
          <p:spPr>
            <a:xfrm>
              <a:off x="895320" y="26449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자유형 16"/>
            <p:cNvSpPr/>
            <p:nvPr/>
          </p:nvSpPr>
          <p:spPr>
            <a:xfrm>
              <a:off x="415800" y="212724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B4DF-3203-4346-B34B-B784E1AA1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그룹 8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197" name="자유형 9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자유형 10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자유형 11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자유형 12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자유형 13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그룹 14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203" name="자유형 15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자유형 16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9F1C-EC89-49F6-A705-3C6CAD414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그룹 8"/>
          <p:cNvGrpSpPr/>
          <p:nvPr/>
        </p:nvGrpSpPr>
        <p:grpSpPr>
          <a:xfrm>
            <a:off x="71280" y="71280"/>
            <a:ext cx="1000440" cy="1036800"/>
            <a:chOff x="71280" y="71280"/>
            <a:chExt cx="1000440" cy="1036800"/>
          </a:xfrm>
        </p:grpSpPr>
        <p:sp>
          <p:nvSpPr>
            <p:cNvPr id="248" name="자유형 9"/>
            <p:cNvSpPr/>
            <p:nvPr/>
          </p:nvSpPr>
          <p:spPr>
            <a:xfrm>
              <a:off x="341280" y="7128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자유형 10"/>
            <p:cNvSpPr/>
            <p:nvPr/>
          </p:nvSpPr>
          <p:spPr>
            <a:xfrm>
              <a:off x="71280" y="61920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자유형 11"/>
            <p:cNvSpPr/>
            <p:nvPr/>
          </p:nvSpPr>
          <p:spPr>
            <a:xfrm>
              <a:off x="74160" y="7128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자유형 12"/>
            <p:cNvSpPr/>
            <p:nvPr/>
          </p:nvSpPr>
          <p:spPr>
            <a:xfrm>
              <a:off x="824040" y="85896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자유형 13"/>
            <p:cNvSpPr/>
            <p:nvPr/>
          </p:nvSpPr>
          <p:spPr>
            <a:xfrm>
              <a:off x="344160" y="341280"/>
              <a:ext cx="479520" cy="517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66CC-8160-4097-A932-3580711A6C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29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299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2C39-AAEA-43FC-A2CA-244BCED9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347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350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AEA3-7ABF-4D50-9665-593993D9D5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자유형 8"/>
          <p:cNvSpPr/>
          <p:nvPr/>
        </p:nvSpPr>
        <p:spPr>
          <a:xfrm>
            <a:off x="341280" y="106200"/>
            <a:ext cx="247680" cy="24948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자유형 9"/>
          <p:cNvSpPr/>
          <p:nvPr/>
        </p:nvSpPr>
        <p:spPr>
          <a:xfrm>
            <a:off x="71280" y="65412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자유형 10"/>
          <p:cNvSpPr/>
          <p:nvPr/>
        </p:nvSpPr>
        <p:spPr>
          <a:xfrm>
            <a:off x="74520" y="106200"/>
            <a:ext cx="247680" cy="249480"/>
          </a:xfrm>
          <a:prstGeom prst="pie">
            <a:avLst/>
          </a:prstGeom>
          <a:solidFill>
            <a:srgbClr val="3f949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자유형 11"/>
          <p:cNvSpPr/>
          <p:nvPr/>
        </p:nvSpPr>
        <p:spPr>
          <a:xfrm>
            <a:off x="824040" y="89388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자유형 12"/>
          <p:cNvSpPr/>
          <p:nvPr/>
        </p:nvSpPr>
        <p:spPr>
          <a:xfrm>
            <a:off x="344520" y="376200"/>
            <a:ext cx="479520" cy="517680"/>
          </a:xfrm>
          <a:prstGeom prst="pie">
            <a:avLst/>
          </a:prstGeom>
          <a:solidFill>
            <a:srgbClr val="3f949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F100-8C10-4A44-BF64-0C560DE273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hyperlink" Target="http://100.naver.com/100.nhn?type=image_list&amp;docid=130078&amp;dir_id=04030106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1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2" action="ppaction://hlinksldjump"/>
              </a:rPr>
              <a:t>Traditional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3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4" action="ppaction://hlinksldjump"/>
              </a:rPr>
              <a:t>Modern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1" name="Rectangle 2" descr=""/>
          <p:cNvPicPr/>
          <p:nvPr/>
        </p:nvPicPr>
        <p:blipFill>
          <a:blip r:embed="rId5"/>
          <a:stretch/>
        </p:blipFill>
        <p:spPr>
          <a:xfrm>
            <a:off x="68256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5"/>
          <p:cNvSpPr/>
          <p:nvPr/>
        </p:nvSpPr>
        <p:spPr>
          <a:xfrm>
            <a:off x="6072120" y="6143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eonghun, E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5" descr="http://dicimg.naver.com/100/400/79/101779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86080" y="1143000"/>
            <a:ext cx="25002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 txBox="1"/>
          <p:nvPr/>
        </p:nvSpPr>
        <p:spPr>
          <a:xfrm>
            <a:off x="1142640" y="6143760"/>
            <a:ext cx="2500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がぃら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428800" y="6000840"/>
            <a:ext cx="25290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セーラーふ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Picture 1" descr="gakuran8"/>
          <p:cNvPicPr/>
          <p:nvPr/>
        </p:nvPicPr>
        <p:blipFill>
          <a:blip r:embed="rId2"/>
          <a:stretch/>
        </p:blipFill>
        <p:spPr>
          <a:xfrm>
            <a:off x="1643040" y="1571760"/>
            <a:ext cx="1368360" cy="44290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Sailor_fuku_girls"/>
          <p:cNvPicPr/>
          <p:nvPr/>
        </p:nvPicPr>
        <p:blipFill>
          <a:blip r:embed="rId3"/>
          <a:stretch/>
        </p:blipFill>
        <p:spPr>
          <a:xfrm>
            <a:off x="4643280" y="2643120"/>
            <a:ext cx="3714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57120" y="2285640"/>
            <a:ext cx="8072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Ganguro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（がんぐろ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et fashion became popular among Japanese girls in the early 2000s, this style consists of bleached hair, a dark tan, fake eyelashes, black and white eyeliner, accessories and platform sh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0" name="제목 1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785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" descr="images"/>
          <p:cNvPicPr/>
          <p:nvPr/>
        </p:nvPicPr>
        <p:blipFill>
          <a:blip r:embed="rId2"/>
          <a:stretch/>
        </p:blipFill>
        <p:spPr>
          <a:xfrm>
            <a:off x="214200" y="3500280"/>
            <a:ext cx="4184640" cy="2857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ganguro"/>
          <p:cNvPicPr/>
          <p:nvPr/>
        </p:nvPicPr>
        <p:blipFill>
          <a:blip r:embed="rId3"/>
          <a:stretch/>
        </p:blipFill>
        <p:spPr>
          <a:xfrm>
            <a:off x="4643280" y="192888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제목 2" descr=""/>
          <p:cNvPicPr/>
          <p:nvPr/>
        </p:nvPicPr>
        <p:blipFill>
          <a:blip r:embed="rId1"/>
          <a:stretch/>
        </p:blipFill>
        <p:spPr>
          <a:xfrm>
            <a:off x="420840" y="73188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428760" y="350028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ゆかた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_eN9tjMgZI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428760" y="4500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uni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8fhgnofgg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0VWK3IQv3S4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500040" y="56437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がんぐ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jnCrz-fBF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Box 7"/>
          <p:cNvSpPr/>
          <p:nvPr/>
        </p:nvSpPr>
        <p:spPr>
          <a:xfrm>
            <a:off x="428760" y="25002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きもの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QsJgPVaNP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68580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The traditional forms of japanese clothing or japanese clothes in general is called wafuku(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わ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). Traditional japanese clothing can be broken down into the following clothing categories.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1" action="ppaction://hlinksldjump"/>
              </a:rPr>
              <a:t>きも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2" action="ppaction://hlinksldjump"/>
              </a:rPr>
              <a:t>ゆかた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3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5" name="Rectangle 2" descr=""/>
          <p:cNvPicPr/>
          <p:nvPr/>
        </p:nvPicPr>
        <p:blipFill>
          <a:blip r:embed="rId4"/>
          <a:stretch/>
        </p:blipFill>
        <p:spPr>
          <a:xfrm>
            <a:off x="237960" y="603360"/>
            <a:ext cx="87408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599"/>
              </a:spcAft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meaning clothing or things to wear is the basic japanese clo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oday, most formal kimono are made of rayon, cotton sateen, cotton, polyester and other synthetic fibers except for the traditional wedding kimon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31431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kimono part"/>
          <p:cNvPicPr/>
          <p:nvPr/>
        </p:nvPicPr>
        <p:blipFill>
          <a:blip r:embed="rId2"/>
          <a:stretch/>
        </p:blipFill>
        <p:spPr>
          <a:xfrm>
            <a:off x="142920" y="1714680"/>
            <a:ext cx="8840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40291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맑은 고딕"/>
              </a:rPr>
              <a:t>Kimono were traditionally worn by men as daily wear clothing, but today they are usually only worn for festivals, ceremonies, special occasions and as kimono rob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3" name="Picture 5" descr="men's kimono"/>
          <p:cNvPicPr/>
          <p:nvPr/>
        </p:nvPicPr>
        <p:blipFill>
          <a:blip r:embed="rId2"/>
          <a:stretch/>
        </p:blipFill>
        <p:spPr>
          <a:xfrm>
            <a:off x="5643720" y="2000160"/>
            <a:ext cx="207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The yukata is a japanese summer kimono worn by both men and women. The name yukata comes from the word ”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ゆ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(bath) and “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かたび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" (under clothing 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1133640" y="328680"/>
            <a:ext cx="748656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09120" y="5181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here are many matching accessories that can be purchased separately when buying a yukata.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7" name="Picture 6" descr="japanese yukat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3433680" cy="46483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yukat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04920"/>
            <a:ext cx="354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HGP明朝E"/>
                <a:hlinkClick r:id="rId1" action="ppaction://hlinksldjump"/>
              </a:rPr>
              <a:t>School Uniform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　　　　（がくらん）、（セーラーふく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Ganguro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んぐろ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제목 1" descr=""/>
          <p:cNvPicPr/>
          <p:nvPr/>
        </p:nvPicPr>
        <p:blipFill>
          <a:blip r:embed="rId2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250020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The Japanese junior and senior high school uniform traditionally consists of a military style uniform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くらん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boys and a sailor dress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セーラー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gir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2" name="제목 1" descr=""/>
          <p:cNvPicPr/>
          <p:nvPr/>
        </p:nvPicPr>
        <p:blipFill>
          <a:blip r:embed="rId1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4:08Z</dcterms:created>
  <dc:creator>SD#34</dc:creator>
  <dc:description/>
  <dc:language>en-US</dc:language>
  <cp:lastModifiedBy>park</cp:lastModifiedBy>
  <dcterms:modified xsi:type="dcterms:W3CDTF">2009-12-11T00:09:54Z</dcterms:modified>
  <cp:revision>19</cp:revision>
  <dc:subject/>
  <dc:title>Japanese Clothing</dc:title>
</cp:coreProperties>
</file>