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dt" idx="4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ftr" idx="5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 type="sldNum" idx="5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D654-FFDF-489B-9DD0-012EA3C6C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B24A-9D1A-4760-81ED-F45AE01FDC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A679-64E1-4447-97D1-7B620E29CD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CE0E-5AC9-4B2B-A76D-866794390E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7B2E-F788-4F32-ABA2-BF532DB8FD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61C-9216-4F6A-8BB4-C85CBE1B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5A9-27FA-4A51-A986-C3B09AA8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43F13-F6AA-4066-A637-9D836996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33BE5-5FA1-4C3F-9612-B8514F75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2B6C0-D6A9-44E8-A58D-76D94F28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7D0FE-0FF2-478D-94FE-A957B8AF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65D92-658B-480C-993C-6063E6E2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AB8E4-E949-4AE5-AFFC-F670221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409E7D-4370-4C10-8F7C-73C9705E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8B630-5B63-4E4E-ADB5-47216EE2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38AE8-B96A-44BE-808D-98AE506B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F6318-31D3-4879-A3D4-95DDB75C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FA8-3DF0-437C-ADBB-EDC626EF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4D15E-1117-4AFA-B761-2B2A4323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FD66F-9FD6-4242-B4BB-99957E4D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56094-2BCF-4282-BB4C-DC0C80C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00630-E2F1-40EA-BD12-29F3423D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4F2E6-113D-4FE0-B4FD-3A5C44E6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008EC-C7C1-4C0F-B96A-9A0FCE59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80E24-5789-43D2-A505-BF2047BA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CD13D-9A74-4BE0-B9A7-9013656D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67510-1662-4DDC-9F63-55D3A087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61BCD-9933-4CCB-8148-87B7FA87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5BC-F82B-45BA-AC07-E3DBC0CD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C723E-CFD4-486F-823D-4880FDDD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FA744-25F7-4A00-B947-CFEF249A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12EB6-4B54-4013-A38B-D21D90BB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87731-FED9-4D95-8811-226BE537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D881F-EAE9-4ACF-A5D3-B0580F95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15B5E-F79E-435B-960B-32B8BFD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90A96-14D2-48DA-8EC1-DF371F0E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6F55B-ECA5-4B66-AA91-93ACE2C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FFE87-E724-4493-9E88-39815486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D13DF-461B-4210-AF2D-EF50EF5C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1D80-5CA1-4325-AD83-951DE553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1BDE0-6E0F-44F4-81FF-FF7390C5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DA59F-1562-48D1-91D5-C4692638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75BD8-2F50-4F0D-8208-9B1CC28F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1E5A0-AC83-403B-80E2-47230D46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FA245-05B2-4E2D-A74A-DDA5D721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F8372-7516-4CFB-8624-89FF0AD0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9019F-6810-4028-B72D-6F115F21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217D9-5CE2-47CD-B26E-7DD68EA0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29618-4E59-473A-85A5-2F16F3E2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49452-741F-418F-ACB2-CA709553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B6B6-C970-457D-9ECC-A696ABC1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32FEB-899C-4F76-8E6E-28EFD70B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80F3D-1CB7-4872-BB76-9997C08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751B2-6D0A-45C9-91BE-F4CF84A0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DF84F-268E-46D1-A1B8-B4998B03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91960-AC40-4AAC-8CD9-BB5D9316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A1626-A80F-47C7-A5AD-E6C7B4F1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EE393-1D8D-4F54-AB80-2F4F071A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93B16-5B24-4269-B9A4-D94D6BBF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29C5B-5DD7-4A5D-8721-7361191D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66808-2968-4E70-A6B5-50EAC248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9A13-F412-4E6C-ABBA-AFBF3CDF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9BD38-FB5B-41B4-986C-B22F7903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D8DD5-15DC-4616-9772-E35BF5B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FBFD0-068A-4619-9782-EC801E85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3642A-2C57-48C1-B3AB-00A04798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6279B-AC83-462F-99BC-3F298BD1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41472-327D-434D-B000-76753B0C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C0B67-A56D-484D-BEE7-C74DD631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A397F-6617-4171-A92E-88B4003D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A34EA-B6EB-4344-9150-5C379A33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99D99F-FBCE-4453-91FF-836A61A2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1143-107B-4FD2-8694-5F916A45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8CA31-1D49-4CBB-AE9C-44F8E5AB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82DD7-5C5D-4015-BA3D-AB5D167C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11804-929C-46FA-B48F-26F260F9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55595-2970-4E59-9476-6EAE3858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BCE77-835D-4D04-AE5D-47B5D893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38826-3165-4221-A978-6090F75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0111E-A5D7-41E2-9E47-0E5E6106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5D0D12-B83D-46D4-97FC-2BD8209A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B1478-8269-4225-8921-28188080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C8B7E-5238-4F1C-B0AC-7CD45CBA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CE00-CD60-42F9-B235-68C1C85D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EDF43A-C2B9-4657-B86F-C0218C2C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D89C0-EFB0-4CDF-86BC-0FC0EF93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682F4-AF22-4CA4-9A44-E030B0E6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26BE7-87A5-4AED-9641-6F1CE12A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F7D25-8BFE-471A-B965-B678A5AF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44F164-CE14-4CC4-96DE-49054166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27ED5-B13C-48DC-A302-F360EFF9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2338FC-B709-43F5-A623-17D3818B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362C5-8070-41CC-B869-458707DD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3DAA1-0364-4667-AF76-4B76D683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D68F-5C37-4F6D-A677-5E73B732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F16B1-F4A6-4054-840A-26C5BA8E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8EAFE-F572-4A89-AE60-0171B505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22734-9AE2-4EC8-BC6D-516D6F9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4EF36-C7B3-4DFE-9FF9-49C99A14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FFE4D-8620-4D3E-8979-B4A24949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62216-82BA-48D8-9A51-19C6C42B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2A4CF5-734B-466F-B86A-9B56B4A1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00EB3-4E34-4C67-929C-C63831BF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12A59-B65E-409B-AC6D-BFFFBCA1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6A0B5-DCC5-4DB1-9968-6192CE8B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2706-B85E-460C-8892-1E895361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3D5F8-CC03-4683-8CCA-2A4F54C6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DB9BEF-6BA3-492A-A887-8260B635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AA863-DFBB-4695-AB9D-D2A39499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B1E8-17BD-4D5B-9009-76DC8AAF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A6B3-D27C-4B24-9E0F-61288D27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526C-56BA-4FF2-A80A-B3592447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443D-6289-42D5-B5FE-43A169A2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E406-574B-49AC-85BE-B2EBC46C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0B64-7F30-4355-9F52-ECF6D30E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6ECF-A7AC-40B7-8127-E8D00752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E22B7-C98A-43DC-A716-4E586CE0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DE2F6-BB84-4926-A2FF-44F6B3E9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1EC8-30F5-4152-BE9A-C07627A5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028C-9E6E-41BF-AB92-52309167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1DC-461F-496B-B4F5-34A39F3C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A1506-8B2A-4777-80D7-8658BDDB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5DB8C-F5D6-4911-8AE8-918B5910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A527-62CB-4B84-A07B-08B5D0C2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9AF8-3079-46C8-A38A-608BF616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2A54-16C5-46A7-BBEB-EF0C94C5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B2B0-EBAE-4EE3-96C7-45012439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48C38-C4CE-49C3-9859-91E1CE91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09789-0BA1-4DFA-90B8-3067B1AF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AB3A-FF64-42B9-9E4F-15E4D099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DAE24-D067-48C5-A022-F20D17C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225-034D-4C17-ACE2-4CEAC5ED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08A5-A546-4170-B79B-24ACF96E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7EA17-8B1F-4E0B-A5ED-A8182E8B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FA02C-55C2-4111-A47C-123B6D4A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10F7A-7FAF-4FBA-A82D-A277B837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1412A-DAD0-4B4C-8B07-94D57677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04701-2762-42D5-9B72-0FEFD129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C69AA-1312-4618-BE8A-177DB315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0F36-6A99-4211-B182-EC97180B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61EB6-12A6-4F60-8E61-AED5E2D7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15518-F21B-4566-BC8B-154C44D1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071-F9E3-4279-B581-FB6C283A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757B0-DE4D-4985-8FBB-6DDB8585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4BF6C-2C08-43E1-95B9-D919A10F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0F493-09AD-4C2D-B562-F8297A6C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67C9-AF29-4D7A-B48C-0141D0BC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B2CE-7C8B-4645-A0FC-51908E7E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2360F-C9DE-4959-9690-89B2FA54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AFD3A-C6E4-4BDE-A703-FE4DD211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FE84B-7F1A-4002-9D33-6463B22C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813E5-9209-464B-9ECA-634455E9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78196-51B3-4510-A171-5553E948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891-6F2E-4D08-AE5F-9DF9B168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EBFB1-2DE0-4CD8-A923-F211F959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ACA0B-BD76-43CB-A8A1-DA27FDAD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0D594-426E-478E-BC1A-9EFB5860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1AD02-D2EC-4A9D-8718-AAC6B0A3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6136C-FAF2-4BE1-86EB-11F55F08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20F72-9F8F-456F-8E0A-F64FE501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2D5E5-0E5D-4A82-BC93-72B977D1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AC2B5-F0B8-43A5-BA0E-D6267A26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13B81-7988-4890-AB20-8A638B74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FA400-AF8A-492C-9506-8DDA311D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BF8-2CC8-498D-862A-7153C786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580F9-5A05-4E89-8786-069B7CB8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1C6F7-7B8D-4AD2-8DB2-6421A878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2772D-C2E9-47AA-AC36-9C6E1FF3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C0457-D5AD-41F8-9594-390A09AF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4AB6-CFDA-487D-A8E1-789E1D15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16122-4C26-4F25-BD94-159C2396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C4809-B0EE-4B4F-B0DC-04CE4107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FED39-BE93-4E71-97F4-1AD147B8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F8337-EF5B-4B27-AC82-8F17495C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4BA4A-D4B2-49BD-AC59-37D24A74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875-E8A1-4A0A-B045-2CF31C91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6180E-E3BF-45AC-9DAF-19059A9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CE752-95F1-4296-8E4D-520CECCC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5721-2093-4652-8F31-A60514DB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7A2C-B34B-4165-A557-A07706C2D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47B28-3761-4020-810A-19A46242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8F330-4034-4CBA-8819-7ECD97F18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33223-0CCA-4020-B368-9CC4B96D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C52BC-73AF-46A0-AC35-3712C183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40F83-5970-4766-AC57-462DF793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1D0DE-8915-4C7D-A248-931A48A3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70B-9315-4130-8BD3-ECFDE8C8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A7453-5137-41FB-A949-AFCFB18A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AAB49-EB15-467C-B16A-5711CF4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35FFB-5113-47EC-AB04-DC65A611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3822C-AF5B-49E8-82C0-BCD934ED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F3FA2-57C7-4901-A5B4-1BFCF72D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2479D-2E66-4952-BC0B-9F875EFE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7BD99-C8C6-43E2-85CF-912A88FD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C0C6B-4185-4843-84A2-633A8C4E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50D4A-A1D0-4ADA-A5F8-8AD972B9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BF11F-B682-400F-B5F6-6064FEBF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ACF-7A8B-43EC-AE16-82B64D4BF8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직사각형 8"/>
          <p:cNvSpPr/>
          <p:nvPr/>
        </p:nvSpPr>
        <p:spPr>
          <a:xfrm rot="21422400">
            <a:off x="609120" y="1000080"/>
            <a:ext cx="4000680" cy="4857840"/>
          </a:xfrm>
          <a:prstGeom prst="rect">
            <a:avLst/>
          </a:prstGeom>
          <a:solidFill>
            <a:srgbClr val="f8f8f8"/>
          </a:solidFill>
          <a:ln cap="sq" w="3240">
            <a:solidFill>
              <a:srgbClr val="c0c0c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그룹 9"/>
          <p:cNvGrpSpPr/>
          <p:nvPr/>
        </p:nvGrpSpPr>
        <p:grpSpPr>
          <a:xfrm>
            <a:off x="8116920" y="46080"/>
            <a:ext cx="1000080" cy="1036440"/>
            <a:chOff x="8116920" y="46080"/>
            <a:chExt cx="1000080" cy="1036440"/>
          </a:xfrm>
        </p:grpSpPr>
        <p:sp>
          <p:nvSpPr>
            <p:cNvPr id="446" name="자유형 10"/>
            <p:cNvSpPr/>
            <p:nvPr/>
          </p:nvSpPr>
          <p:spPr>
            <a:xfrm>
              <a:off x="8386560" y="460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자유형 11"/>
            <p:cNvSpPr/>
            <p:nvPr/>
          </p:nvSpPr>
          <p:spPr>
            <a:xfrm>
              <a:off x="8116920" y="5936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자유형 12"/>
            <p:cNvSpPr/>
            <p:nvPr/>
          </p:nvSpPr>
          <p:spPr>
            <a:xfrm>
              <a:off x="8119800" y="460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자유형 13"/>
            <p:cNvSpPr/>
            <p:nvPr/>
          </p:nvSpPr>
          <p:spPr>
            <a:xfrm>
              <a:off x="8869320" y="8334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자유형 14"/>
            <p:cNvSpPr/>
            <p:nvPr/>
          </p:nvSpPr>
          <p:spPr>
            <a:xfrm>
              <a:off x="8389800" y="3157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E6EE-3C77-49CD-9DD8-C414C63296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그룹 8"/>
          <p:cNvGrpSpPr/>
          <p:nvPr/>
        </p:nvGrpSpPr>
        <p:grpSpPr>
          <a:xfrm>
            <a:off x="61920" y="50760"/>
            <a:ext cx="1000080" cy="1036800"/>
            <a:chOff x="61920" y="50760"/>
            <a:chExt cx="1000080" cy="1036800"/>
          </a:xfrm>
        </p:grpSpPr>
        <p:sp>
          <p:nvSpPr>
            <p:cNvPr id="494" name="자유형 9"/>
            <p:cNvSpPr/>
            <p:nvPr/>
          </p:nvSpPr>
          <p:spPr>
            <a:xfrm>
              <a:off x="331560" y="507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자유형 10"/>
            <p:cNvSpPr/>
            <p:nvPr/>
          </p:nvSpPr>
          <p:spPr>
            <a:xfrm>
              <a:off x="61920" y="5986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자유형 11"/>
            <p:cNvSpPr/>
            <p:nvPr/>
          </p:nvSpPr>
          <p:spPr>
            <a:xfrm>
              <a:off x="64800" y="5076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자유형 12"/>
            <p:cNvSpPr/>
            <p:nvPr/>
          </p:nvSpPr>
          <p:spPr>
            <a:xfrm>
              <a:off x="814320" y="8384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자유형 13"/>
            <p:cNvSpPr/>
            <p:nvPr/>
          </p:nvSpPr>
          <p:spPr>
            <a:xfrm>
              <a:off x="334800" y="32076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920D-F4D5-4F6D-8FF1-8DB6A0BA9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542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70D0-E66D-4C91-AEC2-EB9F654511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DCA-DCC9-438E-AF30-DBC6B16E03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BFFD-1CEC-4A81-A300-C1E9CE0591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5A5E-4542-4A1E-AF6A-A38801A678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D8D3-417C-41C9-B138-087C8284A9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44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47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B917-EAF3-4B7F-874C-40C5156A4A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그룹 8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95" name="자유형 9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자유형 10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98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D800-D2E4-4BFA-8BAA-35D480A509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14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그룹 11"/>
          <p:cNvGrpSpPr/>
          <p:nvPr/>
        </p:nvGrpSpPr>
        <p:grpSpPr>
          <a:xfrm>
            <a:off x="142920" y="1857240"/>
            <a:ext cx="1000080" cy="1036800"/>
            <a:chOff x="142920" y="1857240"/>
            <a:chExt cx="1000080" cy="1036800"/>
          </a:xfrm>
        </p:grpSpPr>
        <p:sp>
          <p:nvSpPr>
            <p:cNvPr id="149" name="자유형 12"/>
            <p:cNvSpPr/>
            <p:nvPr/>
          </p:nvSpPr>
          <p:spPr>
            <a:xfrm>
              <a:off x="412560" y="18572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자유형 13"/>
            <p:cNvSpPr/>
            <p:nvPr/>
          </p:nvSpPr>
          <p:spPr>
            <a:xfrm>
              <a:off x="142920" y="240516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자유형 14"/>
            <p:cNvSpPr/>
            <p:nvPr/>
          </p:nvSpPr>
          <p:spPr>
            <a:xfrm>
              <a:off x="145800" y="185724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자유형 15"/>
            <p:cNvSpPr/>
            <p:nvPr/>
          </p:nvSpPr>
          <p:spPr>
            <a:xfrm>
              <a:off x="895320" y="26449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자유형 16"/>
            <p:cNvSpPr/>
            <p:nvPr/>
          </p:nvSpPr>
          <p:spPr>
            <a:xfrm>
              <a:off x="415800" y="212724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6C65-3ADF-4D21-B450-A83C45BD5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그룹 8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197" name="자유형 9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자유형 10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자유형 11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자유형 12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자유형 13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그룹 14"/>
          <p:cNvGrpSpPr/>
          <p:nvPr/>
        </p:nvGrpSpPr>
        <p:grpSpPr>
          <a:xfrm>
            <a:off x="0" y="4933800"/>
            <a:ext cx="9144000" cy="1928880"/>
            <a:chOff x="0" y="4933800"/>
            <a:chExt cx="9144000" cy="1928880"/>
          </a:xfrm>
        </p:grpSpPr>
        <p:sp>
          <p:nvSpPr>
            <p:cNvPr id="203" name="자유형 15"/>
            <p:cNvSpPr/>
            <p:nvPr/>
          </p:nvSpPr>
          <p:spPr>
            <a:xfrm>
              <a:off x="0" y="493380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자유형 16"/>
            <p:cNvSpPr/>
            <p:nvPr/>
          </p:nvSpPr>
          <p:spPr>
            <a:xfrm>
              <a:off x="0" y="536220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BC8A-3384-4582-BEAD-AEC9BF5F6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그룹 8"/>
          <p:cNvGrpSpPr/>
          <p:nvPr/>
        </p:nvGrpSpPr>
        <p:grpSpPr>
          <a:xfrm>
            <a:off x="71280" y="71280"/>
            <a:ext cx="1000440" cy="1036800"/>
            <a:chOff x="71280" y="71280"/>
            <a:chExt cx="1000440" cy="1036800"/>
          </a:xfrm>
        </p:grpSpPr>
        <p:sp>
          <p:nvSpPr>
            <p:cNvPr id="248" name="자유형 9"/>
            <p:cNvSpPr/>
            <p:nvPr/>
          </p:nvSpPr>
          <p:spPr>
            <a:xfrm>
              <a:off x="341280" y="7128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자유형 10"/>
            <p:cNvSpPr/>
            <p:nvPr/>
          </p:nvSpPr>
          <p:spPr>
            <a:xfrm>
              <a:off x="71280" y="619200"/>
              <a:ext cx="247680" cy="249120"/>
            </a:xfrm>
            <a:prstGeom prst="pi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자유형 11"/>
            <p:cNvSpPr/>
            <p:nvPr/>
          </p:nvSpPr>
          <p:spPr>
            <a:xfrm>
              <a:off x="74160" y="7128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자유형 12"/>
            <p:cNvSpPr/>
            <p:nvPr/>
          </p:nvSpPr>
          <p:spPr>
            <a:xfrm>
              <a:off x="824040" y="858960"/>
              <a:ext cx="247680" cy="24912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자유형 13"/>
            <p:cNvSpPr/>
            <p:nvPr/>
          </p:nvSpPr>
          <p:spPr>
            <a:xfrm>
              <a:off x="344160" y="341280"/>
              <a:ext cx="479520" cy="517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B86B-2363-4745-91CA-E83F1E67E2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3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9f3f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296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005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그룹 11"/>
          <p:cNvGrpSpPr/>
          <p:nvPr/>
        </p:nvGrpSpPr>
        <p:grpSpPr>
          <a:xfrm>
            <a:off x="71280" y="106200"/>
            <a:ext cx="1000440" cy="1036800"/>
            <a:chOff x="71280" y="106200"/>
            <a:chExt cx="1000440" cy="1036800"/>
          </a:xfrm>
        </p:grpSpPr>
        <p:sp>
          <p:nvSpPr>
            <p:cNvPr id="299" name="자유형 12"/>
            <p:cNvSpPr/>
            <p:nvPr/>
          </p:nvSpPr>
          <p:spPr>
            <a:xfrm>
              <a:off x="341280" y="1062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자유형 13"/>
            <p:cNvSpPr/>
            <p:nvPr/>
          </p:nvSpPr>
          <p:spPr>
            <a:xfrm>
              <a:off x="71280" y="65412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자유형 14"/>
            <p:cNvSpPr/>
            <p:nvPr/>
          </p:nvSpPr>
          <p:spPr>
            <a:xfrm>
              <a:off x="74160" y="10620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자유형 15"/>
            <p:cNvSpPr/>
            <p:nvPr/>
          </p:nvSpPr>
          <p:spPr>
            <a:xfrm>
              <a:off x="824040" y="8938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자유형 16"/>
            <p:cNvSpPr/>
            <p:nvPr/>
          </p:nvSpPr>
          <p:spPr>
            <a:xfrm>
              <a:off x="344160" y="376200"/>
              <a:ext cx="479520" cy="51768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00C0-159D-4886-8BFD-45EB0015E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그룹 8"/>
          <p:cNvGrpSpPr/>
          <p:nvPr/>
        </p:nvGrpSpPr>
        <p:grpSpPr>
          <a:xfrm>
            <a:off x="0" y="4929120"/>
            <a:ext cx="9144000" cy="1928880"/>
            <a:chOff x="0" y="4929120"/>
            <a:chExt cx="9144000" cy="1928880"/>
          </a:xfrm>
        </p:grpSpPr>
        <p:sp>
          <p:nvSpPr>
            <p:cNvPr id="347" name="자유형 9"/>
            <p:cNvSpPr/>
            <p:nvPr/>
          </p:nvSpPr>
          <p:spPr>
            <a:xfrm>
              <a:off x="0" y="4929120"/>
              <a:ext cx="9144000" cy="1928880"/>
            </a:xfrm>
            <a:prstGeom prst="pie">
              <a:avLst/>
            </a:prstGeom>
            <a:solidFill>
              <a:srgbClr val="d9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자유형 10"/>
            <p:cNvSpPr/>
            <p:nvPr/>
          </p:nvSpPr>
          <p:spPr>
            <a:xfrm>
              <a:off x="0" y="5357520"/>
              <a:ext cx="9144000" cy="1500480"/>
            </a:xfrm>
            <a:prstGeom prst="pie">
              <a:avLst/>
            </a:prstGeom>
            <a:solidFill>
              <a:srgbClr val="3f94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그룹 11"/>
          <p:cNvGrpSpPr/>
          <p:nvPr/>
        </p:nvGrpSpPr>
        <p:grpSpPr>
          <a:xfrm>
            <a:off x="71280" y="87480"/>
            <a:ext cx="1000440" cy="1036440"/>
            <a:chOff x="71280" y="87480"/>
            <a:chExt cx="1000440" cy="1036440"/>
          </a:xfrm>
        </p:grpSpPr>
        <p:sp>
          <p:nvSpPr>
            <p:cNvPr id="350" name="자유형 12"/>
            <p:cNvSpPr/>
            <p:nvPr/>
          </p:nvSpPr>
          <p:spPr>
            <a:xfrm>
              <a:off x="341280" y="8748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자유형 13"/>
            <p:cNvSpPr/>
            <p:nvPr/>
          </p:nvSpPr>
          <p:spPr>
            <a:xfrm>
              <a:off x="71280" y="63504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자유형 14"/>
            <p:cNvSpPr/>
            <p:nvPr/>
          </p:nvSpPr>
          <p:spPr>
            <a:xfrm>
              <a:off x="74160" y="87480"/>
              <a:ext cx="247680" cy="249120"/>
            </a:xfrm>
            <a:prstGeom prst="pie">
              <a:avLst/>
            </a:prstGeom>
            <a:solidFill>
              <a:srgbClr val="3f949a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자유형 15"/>
            <p:cNvSpPr/>
            <p:nvPr/>
          </p:nvSpPr>
          <p:spPr>
            <a:xfrm>
              <a:off x="824040" y="874800"/>
              <a:ext cx="247680" cy="249120"/>
            </a:xfrm>
            <a:prstGeom prst="pie">
              <a:avLst/>
            </a:prstGeom>
            <a:solidFill>
              <a:srgbClr val="3f949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자유형 16"/>
            <p:cNvSpPr/>
            <p:nvPr/>
          </p:nvSpPr>
          <p:spPr>
            <a:xfrm>
              <a:off x="344160" y="357120"/>
              <a:ext cx="479520" cy="517320"/>
            </a:xfrm>
            <a:prstGeom prst="pie">
              <a:avLst/>
            </a:prstGeom>
            <a:solidFill>
              <a:srgbClr val="3f949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CA90-9E7B-431D-BCF6-BE1562514A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4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직사각형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5466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자유형 8"/>
          <p:cNvSpPr/>
          <p:nvPr/>
        </p:nvSpPr>
        <p:spPr>
          <a:xfrm>
            <a:off x="341280" y="106200"/>
            <a:ext cx="247680" cy="24948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자유형 9"/>
          <p:cNvSpPr/>
          <p:nvPr/>
        </p:nvSpPr>
        <p:spPr>
          <a:xfrm>
            <a:off x="71280" y="65412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자유형 10"/>
          <p:cNvSpPr/>
          <p:nvPr/>
        </p:nvSpPr>
        <p:spPr>
          <a:xfrm>
            <a:off x="74520" y="106200"/>
            <a:ext cx="247680" cy="249480"/>
          </a:xfrm>
          <a:prstGeom prst="pie">
            <a:avLst/>
          </a:prstGeom>
          <a:solidFill>
            <a:srgbClr val="3f949a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자유형 11"/>
          <p:cNvSpPr/>
          <p:nvPr/>
        </p:nvSpPr>
        <p:spPr>
          <a:xfrm>
            <a:off x="824040" y="893880"/>
            <a:ext cx="247680" cy="249120"/>
          </a:xfrm>
          <a:prstGeom prst="pie">
            <a:avLst/>
          </a:prstGeom>
          <a:solidFill>
            <a:srgbClr val="3f949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자유형 12"/>
          <p:cNvSpPr/>
          <p:nvPr/>
        </p:nvSpPr>
        <p:spPr>
          <a:xfrm>
            <a:off x="344520" y="376200"/>
            <a:ext cx="479520" cy="517680"/>
          </a:xfrm>
          <a:prstGeom prst="pie">
            <a:avLst/>
          </a:prstGeom>
          <a:solidFill>
            <a:srgbClr val="3f949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add1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5b692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b94e2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19bab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DD89-6340-416B-BA6F-3DFCC66AA1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hyperlink" Target="http://100.naver.com/100.nhn?type=image_list&amp;docid=130078&amp;dir_id=04030106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jpeg"/><Relationship Id="rId3" Type="http://schemas.openxmlformats.org/officeDocument/2006/relationships/slide" Target="slide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1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2" action="ppaction://hlinksldjump"/>
              </a:rPr>
              <a:t>Traditional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3" action="ppaction://hlinksldjump"/>
              </a:rPr>
              <a:t>▶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맑은 고딕"/>
                <a:hlinkClick r:id="rId4" action="ppaction://hlinksldjump"/>
              </a:rPr>
              <a:t>Modern Clot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1" name="Rectangle 2" descr=""/>
          <p:cNvPicPr/>
          <p:nvPr/>
        </p:nvPicPr>
        <p:blipFill>
          <a:blip r:embed="rId5"/>
          <a:stretch/>
        </p:blipFill>
        <p:spPr>
          <a:xfrm>
            <a:off x="68256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2" name="TextBox 5"/>
          <p:cNvSpPr/>
          <p:nvPr/>
        </p:nvSpPr>
        <p:spPr>
          <a:xfrm>
            <a:off x="6072120" y="6143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eonghun, Em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3" name="Picture 5" descr="http://dicimg.naver.com/100/400/79/101779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86080" y="1143000"/>
            <a:ext cx="250020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 txBox="1"/>
          <p:nvPr/>
        </p:nvSpPr>
        <p:spPr>
          <a:xfrm>
            <a:off x="1142640" y="6143760"/>
            <a:ext cx="25002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がぃら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5428800" y="6000840"/>
            <a:ext cx="252900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  <a:ea typeface="HGP明朝E"/>
              </a:rPr>
              <a:t>セーラーふ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Picture 1" descr="gakuran8"/>
          <p:cNvPicPr/>
          <p:nvPr/>
        </p:nvPicPr>
        <p:blipFill>
          <a:blip r:embed="rId2"/>
          <a:stretch/>
        </p:blipFill>
        <p:spPr>
          <a:xfrm>
            <a:off x="1643040" y="1571760"/>
            <a:ext cx="1368360" cy="44290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" descr="Sailor_fuku_girls"/>
          <p:cNvPicPr/>
          <p:nvPr/>
        </p:nvPicPr>
        <p:blipFill>
          <a:blip r:embed="rId3"/>
          <a:stretch/>
        </p:blipFill>
        <p:spPr>
          <a:xfrm>
            <a:off x="4643280" y="2643120"/>
            <a:ext cx="37148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357120" y="2285640"/>
            <a:ext cx="80726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Ganguro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（がんぐろ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et fashion became popular among Japanese girls in the early 2000s, this style consists of bleached hair, a dark tan, fake eyelashes, black and white eyeliner, accessories and platform sh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0" name="제목 1" descr=""/>
          <p:cNvPicPr/>
          <p:nvPr/>
        </p:nvPicPr>
        <p:blipFill>
          <a:blip r:embed="rId1"/>
          <a:stretch/>
        </p:blipFill>
        <p:spPr>
          <a:xfrm>
            <a:off x="633240" y="566640"/>
            <a:ext cx="7785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제목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2" descr="images"/>
          <p:cNvPicPr/>
          <p:nvPr/>
        </p:nvPicPr>
        <p:blipFill>
          <a:blip r:embed="rId2"/>
          <a:stretch/>
        </p:blipFill>
        <p:spPr>
          <a:xfrm>
            <a:off x="214200" y="3500280"/>
            <a:ext cx="4184640" cy="285768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ganguro"/>
          <p:cNvPicPr/>
          <p:nvPr/>
        </p:nvPicPr>
        <p:blipFill>
          <a:blip r:embed="rId3"/>
          <a:stretch/>
        </p:blipFill>
        <p:spPr>
          <a:xfrm>
            <a:off x="4643280" y="1928880"/>
            <a:ext cx="42865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제목 2" descr=""/>
          <p:cNvPicPr/>
          <p:nvPr/>
        </p:nvPicPr>
        <p:blipFill>
          <a:blip r:embed="rId1"/>
          <a:stretch/>
        </p:blipFill>
        <p:spPr>
          <a:xfrm>
            <a:off x="420840" y="731880"/>
            <a:ext cx="8242200" cy="1457280"/>
          </a:xfrm>
          <a:prstGeom prst="rect">
            <a:avLst/>
          </a:prstGeom>
          <a:ln w="0">
            <a:noFill/>
          </a:ln>
        </p:spPr>
      </p:pic>
      <p:sp>
        <p:nvSpPr>
          <p:cNvPr id="795" name="TextBox 4"/>
          <p:cNvSpPr/>
          <p:nvPr/>
        </p:nvSpPr>
        <p:spPr>
          <a:xfrm>
            <a:off x="428760" y="350028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ゆかた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_eN9tjMgZI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Box 6"/>
          <p:cNvSpPr/>
          <p:nvPr/>
        </p:nvSpPr>
        <p:spPr>
          <a:xfrm>
            <a:off x="428760" y="45007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uni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8fhgnofgg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0VWK3IQv3S4&amp;NR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500040" y="564372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がんぐ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MjnCrz-fBF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Box 7"/>
          <p:cNvSpPr/>
          <p:nvPr/>
        </p:nvSpPr>
        <p:spPr>
          <a:xfrm>
            <a:off x="428760" y="25002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きもの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youtube.com/watch?v=QsJgPVaNP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685800" y="1571760"/>
            <a:ext cx="7772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The traditional forms of japanese clothing or japanese clothes in general is called wafuku(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わ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). Traditional japanese clothing can be broken down into the following clothing categories.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1" action="ppaction://hlinksldjump"/>
              </a:rPr>
              <a:t>きも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2" action="ppaction://hlinksldjump"/>
              </a:rPr>
              <a:t>ゆかた</a:t>
            </a: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ヒラギノ角ゴ Pro W3"/>
                <a:hlinkClick r:id="rId3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5" name="Rectangle 2" descr=""/>
          <p:cNvPicPr/>
          <p:nvPr/>
        </p:nvPicPr>
        <p:blipFill>
          <a:blip r:embed="rId4"/>
          <a:stretch/>
        </p:blipFill>
        <p:spPr>
          <a:xfrm>
            <a:off x="237960" y="603360"/>
            <a:ext cx="874080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2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599"/>
              </a:spcAft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meaning clothing or things to wear is the basic japanese clo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oday, most formal kimono are made of rayon, cotton sateen, cotton, polyester and other synthetic fibers except for the traditional wedding kimon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8" name="Picture 5" descr=""/>
          <p:cNvPicPr/>
          <p:nvPr/>
        </p:nvPicPr>
        <p:blipFill>
          <a:blip r:embed="rId2"/>
          <a:stretch/>
        </p:blipFill>
        <p:spPr>
          <a:xfrm>
            <a:off x="5143680" y="1928880"/>
            <a:ext cx="314316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Rectangle 2" descr=""/>
          <p:cNvPicPr/>
          <p:nvPr/>
        </p:nvPicPr>
        <p:blipFill>
          <a:blip r:embed="rId1"/>
          <a:stretch/>
        </p:blipFill>
        <p:spPr>
          <a:xfrm>
            <a:off x="682560" y="29844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" descr="kimono part"/>
          <p:cNvPicPr/>
          <p:nvPr/>
        </p:nvPicPr>
        <p:blipFill>
          <a:blip r:embed="rId2"/>
          <a:stretch/>
        </p:blipFill>
        <p:spPr>
          <a:xfrm>
            <a:off x="142920" y="1714680"/>
            <a:ext cx="88408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Rectangle 2" descr=""/>
          <p:cNvPicPr/>
          <p:nvPr/>
        </p:nvPicPr>
        <p:blipFill>
          <a:blip r:embed="rId1"/>
          <a:stretch/>
        </p:blipFill>
        <p:spPr>
          <a:xfrm>
            <a:off x="682560" y="60336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4029120" cy="41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맑은 고딕"/>
              </a:rPr>
              <a:t>Kimono were traditionally worn by men as daily wear clothing, but today they are usually only worn for festivals, ceremonies, special occasions and as kimono rob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3" name="Picture 5" descr="men's kimono"/>
          <p:cNvPicPr/>
          <p:nvPr/>
        </p:nvPicPr>
        <p:blipFill>
          <a:blip r:embed="rId2"/>
          <a:stretch/>
        </p:blipFill>
        <p:spPr>
          <a:xfrm>
            <a:off x="5643720" y="2000160"/>
            <a:ext cx="20714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The yukata is a japanese summer kimono worn by both men and women. The name yukata comes from the word ”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ゆ</a:t>
            </a:r>
            <a:r>
              <a:rPr b="0" lang="ko-KR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”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(bath) and “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かたびら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맑은 고딕"/>
              </a:rPr>
              <a:t>" (under clothing 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5" name="Rectangle 2" descr=""/>
          <p:cNvPicPr/>
          <p:nvPr/>
        </p:nvPicPr>
        <p:blipFill>
          <a:blip r:embed="rId1"/>
          <a:stretch/>
        </p:blipFill>
        <p:spPr>
          <a:xfrm>
            <a:off x="1133640" y="328680"/>
            <a:ext cx="748656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09120" y="518148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맑은 고딕"/>
              </a:rPr>
              <a:t>there are many matching accessories that can be purchased separately when buying a yukata.</a:t>
            </a:r>
            <a:r>
              <a:rPr b="0" lang="ja-JP" sz="28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7" name="Picture 6" descr="japanese yukat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380880"/>
            <a:ext cx="3433680" cy="46483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7" descr="yukat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304920"/>
            <a:ext cx="354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2840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c0808"/>
                </a:solidFill>
                <a:uFillTx/>
                <a:latin typeface="Verdana"/>
                <a:ea typeface="HGP明朝E"/>
                <a:hlinkClick r:id="rId1" action="ppaction://hlinksldjump"/>
              </a:rPr>
              <a:t>School Uniform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　　　　　　　　　　（がくらん）、（セーラーふく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Ganguro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んぐろ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HGP明朝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제목 1" descr=""/>
          <p:cNvPicPr/>
          <p:nvPr/>
        </p:nvPicPr>
        <p:blipFill>
          <a:blip r:embed="rId2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685800" y="2500200"/>
            <a:ext cx="77724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764b0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The Japanese junior and senior high school uniform traditionally consists of a military style uniform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がくらん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boys and a sailor dress (</a:t>
            </a:r>
            <a:r>
              <a:rPr b="0" lang="ja-JP" sz="3200" spc="-1" strike="noStrike">
                <a:solidFill>
                  <a:srgbClr val="ffffff"/>
                </a:solidFill>
                <a:latin typeface="Verdana"/>
                <a:ea typeface="HGP明朝E"/>
              </a:rPr>
              <a:t>セーラーふく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) for gir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2" name="제목 1" descr=""/>
          <p:cNvPicPr/>
          <p:nvPr/>
        </p:nvPicPr>
        <p:blipFill>
          <a:blip r:embed="rId1"/>
          <a:stretch/>
        </p:blipFill>
        <p:spPr>
          <a:xfrm>
            <a:off x="1133640" y="353880"/>
            <a:ext cx="74865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7:54:08Z</dcterms:created>
  <dc:creator>SD#34</dc:creator>
  <dc:description/>
  <dc:language>en-US</dc:language>
  <cp:lastModifiedBy>park</cp:lastModifiedBy>
  <dcterms:modified xsi:type="dcterms:W3CDTF">2009-12-11T00:09:54Z</dcterms:modified>
  <cp:revision>19</cp:revision>
  <dc:subject/>
  <dc:title>Japanese Clothing</dc:title>
</cp:coreProperties>
</file>