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E245-ABC8-4110-8A72-417561CF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7166-6323-448E-B933-83C835259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B10-532C-4405-8C1D-BDA4F39FB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EC1-695D-4EB7-8BAC-E6DEBEED02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03CF-4A6B-46E1-9915-A60BA297E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9F7-B51A-41F3-908C-14889476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1DC-F45C-4B6E-8BDC-EF4637B3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31FE-FB51-418A-8198-CE9A7DCE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CE55E-A903-4113-9EBD-9D68F4F8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0BE20-44E5-4103-83A8-234D9697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9BDA8-06D8-4AEE-A397-5FBB04C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B82F9-01A9-424C-A99B-CD5237D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B63ED-9602-4669-88EE-B764D58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E56FC-2325-49B9-9E83-E0786031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450F4-81A7-4040-A288-E9EB0D8E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2FB16-FB95-42D4-994C-45CA5678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DC98F-D4F5-42BE-9759-BA97D318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299-0189-482E-85E1-86739394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A023B-5723-4619-B59B-BB665A2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0C6DA-0550-4367-BC84-2E849597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CBA54-6D4B-4009-A67C-C0F73C4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9DB1D-E7F2-4CC6-9B37-C8DB2C47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CFDC9-2D0C-4DD3-B97F-877766D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FDA02-6E40-4974-A016-BD24845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E3AE4-8A08-4B99-94EF-65A0C5D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539BB-40EC-40C4-8151-CE8F3485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042F8-5D9F-45F3-A314-205587B2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454C9-2CA1-4C97-86D9-30DA2EC1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45D-9EA7-4A57-82B9-C8C618DB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7125-F95B-457D-8623-9736CF52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C1B99-C093-4462-8E81-2EDA15CE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EF605-718E-4733-9987-2828A68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E22AD-C8D8-4218-B336-BE18D87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1D3D2-A782-4258-8F42-C069E91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CE33-63AC-4B52-9C98-CFD2BFA0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ABC83-1A42-4D48-A567-195DA160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872E1-AD58-46A8-9EE7-D161276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F7EC-D9B1-482C-AE7A-FAA93A5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822E6-315F-464D-83B3-DCF2CDC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0950-F9FA-4EFF-BC81-C7A31DC3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4B9F4-4FB7-444B-B816-EF91824E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599FB-820B-4292-877E-EA4E8105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9CF69-76F8-4724-AF53-2B3511C5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E2FC-43A0-4B16-BD60-A27DA01F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E4F81-F851-4662-91CE-7AC9F130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469A1-9A11-4427-87B3-4FA2288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B45BA-A9CF-4445-A044-2F61E453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7CF67-64F0-4AEE-8ED2-503A909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7D0B2-211C-44E0-A808-D7559DB1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680EA-D453-4E78-AA2D-8FE76E8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4B52-700F-4D33-AFD9-AB2E081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42F24-A4F0-479B-9389-7CBFAF87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F5AF6-60D1-4C89-956E-5579A3B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10784-F066-402F-8503-319AA0DB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F175-A327-4770-AA3A-81F57002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EB7A1-6FC0-4248-B95D-B9D04205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5B35A-B188-4136-9489-1E2CE293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65303-53DA-4715-B9B2-0A28F266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0FFE7-24BB-427B-848D-E29DCF9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3BA99-A938-4C18-BA77-6E9861CD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E3E87-DB7D-4B29-AB67-B5CE31D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40B-07DD-4888-B4FB-988BF49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AC408-4820-42DD-A6F9-FAFD79A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3C0AE-E8B6-4E77-B0DB-DD0E07E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B3BC8-0157-427C-A2E5-C5BD2769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03466-5AEC-4E92-AE19-DF2EC19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0C04F-26EE-4D19-A48D-CAE1738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B0131-0C90-441F-BD3E-2113E62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777B1-8D28-43C1-9A87-48C278AD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557A2-D522-4EB3-8F27-A0B3D57B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3F621-7CC8-4ED7-9E05-63EDB8E0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15ECC-1F31-45E5-BC68-570EFB0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5D30-3E18-43C5-935E-443F66A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444FA-A81E-49C5-9047-FF045A9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91D79-080F-4BCC-97B2-63FD1EE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BB8D1-A6E0-44AA-9FB6-43B9AEB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AAE89-273C-4EFA-8ED9-3D41087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3ECC0-5110-4DD1-BC19-8FA0F09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72DF1-05F8-45C5-837D-EBFA234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E9C54-8296-4C2A-96D1-0E79A768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5F49C-DFED-4DA2-AA98-6072E7F7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5B6F7-B616-459E-8B27-08D77A9F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EDCD3-AE24-4238-9D6A-00AF5374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CEDD-2102-46A6-A504-AC31541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7EF6C-2991-4B02-ACE9-F450A18B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FF376-E8C8-46CE-A22B-EA879849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95EC2-FD94-4B60-BBF7-4CE8EAA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8FC48-513B-45F6-9633-B33DAAC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18586-14BF-408A-B6C5-E67B953B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31E64-4BD1-4EDF-92D8-995A3B4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AD5DD-BFC1-459F-AE64-17FA70B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2A03E-8E70-4B75-B673-4D386BD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90421-321D-4E63-A48B-F205BE52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A30B3-5FB8-49BC-9900-7F4EAE8D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688-4A00-4417-853E-9FD0AD47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A2559-C857-4984-B766-738D5DC1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CFE02-93C6-4240-8AEF-E32BA2B6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5043F-F2C4-4416-ADDD-A458DBAD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030A4-9AD1-46F0-A1B8-317E7696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9C44C-9092-4F37-A97D-56CDCF3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4BDDE-0C51-4E22-8EC9-173FCD7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DEFE9-E4AB-4DE3-AD15-015F857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1CF49-2C90-4E4F-A83E-7FA4C7D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45B87-2ACC-4137-B25A-608CEE2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031CB-4B82-42FF-9AA6-6D3D5EB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217-DDCB-4920-8311-DA3AA9A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344BB-7D14-44BE-90A8-84B1EE9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F4468-FDCD-4963-AD97-E0689A22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1D5CF-D786-4989-B6C7-B6330789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311-DC54-41E4-BCC4-35DF140F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6A1F-669D-420A-8BF3-DCA1916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35AF-7704-4DDF-91FE-B244070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448-C18B-4816-BBD0-B670A062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66A3-E1BE-4C01-9016-3FD281AC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9FE0-341D-409F-A59D-E7818842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6FEA-D775-4A58-BE41-36D22126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6FCF-0865-4017-823A-7CC8B3D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F4F9-C318-4CE9-A120-D72AF348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1D30-3CFB-4059-BCBA-39532B61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152C-DE47-444A-9D00-55B59BA6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6FC-26E6-4D45-BC1A-2EF34D4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5A68-57EA-4690-89C3-B2A29FBE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0ABB-80B4-4DBD-85E6-AD76084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C821-8B36-409C-8FF3-5489558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40EE-EDE7-4E9E-AD0D-02578B9B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02C6-FF54-4CC4-BA78-7E820A3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926A-7369-4AE7-8D9D-E01D708C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C43A-4148-4E4B-99D8-944C89D4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70EF-60F1-4E58-8D8B-19BDB0EC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049F-7A9A-41FB-8C22-E079B0C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1023-21A9-4C73-AB04-FAB3D5BB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AF4-39C1-4FF1-B703-4D2BF36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F7E1-26C4-493C-8053-F7EC7A94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E43C-27AD-4853-B09B-D6F4F3A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A5BB-F558-4248-A186-801EA7B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9D57-8243-4789-AED7-1257DC2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6BD4-D57A-48B8-A5A2-65E7435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7B32-65BD-4456-89D3-FCCA39C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6EB0-DBF9-4E73-A17E-B239D09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7CFD-1DA4-4DF4-A424-82F1B083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2B94-931F-4B67-ABC0-719792DC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4813-9D3B-459D-9955-CDB3DE69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C21-6A89-4935-B0A3-EC73A93D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F7CC-2E3A-4584-B383-BD11D114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7DD9-27AD-4A47-9BCA-413E2869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C38B4-7407-4383-9595-867C07E8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7F71-7432-4AF8-921E-44A1B24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B0CD-B80A-40E1-98BB-C1675F0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BA45-0588-4411-8BB8-A27DB95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FF15-AA9A-4A2A-8598-0F978689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1372-E221-4991-9363-010AFA0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7AEC0-653A-4A87-AF84-F4F576C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E7C6-55D1-4D81-9976-80AEBF97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099-E2F7-416F-9B6D-517AB108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DF1C-CCF5-4F00-83CE-491CB4A1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D1033-B7E3-49EE-AF41-C55081E5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F3E1-B408-4292-A416-E6CE821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8A1C-A8FE-4C38-83FB-9F8ECB0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9E785-248E-47A0-B068-9A378102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1A0C6-F6A6-472B-AACE-48BA2CE8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E5D3B-82C2-45EA-A5D8-E9574693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4138D-8CE0-4281-9BE1-D90DA6D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139DC-4E40-4A72-91BD-65429B8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E7C4-22DC-4163-A473-7A38BD6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ED3-193A-4886-BAC3-2B828B7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474D-83DF-4B03-B131-ECB9FD5B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1BBC-F8CB-4312-94EF-9C373E49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BFCA8-B96F-4630-9729-CC1D8C57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0870-14AC-4608-B734-C018FB58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7F99-8039-45A5-81AD-264F8E4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5A21-A6ED-4586-AA1D-E22EF1EF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76B8-72A4-4F7F-B3EF-06A5523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BEB14-339B-449F-8FCE-212864C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9D8A4-592D-461E-BA02-8400CF1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EF4A-BC82-4BC0-A73A-5F1EB8B8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50E-D38C-4603-B96D-FDFE50AF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50559-6272-442C-8912-34C0C0F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623C2-BF21-47BD-9484-2CD99E6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F419-A4F0-4141-9D81-182E878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1512-D382-48CD-AA65-867E6792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6306-FA47-4C7E-AC7D-51F8CBC8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7B71B-EC5D-476C-87F8-053B4F67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99544-D425-4C65-AB18-4FACC2A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BF902-CF23-451E-87C9-C5F36485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3A534-C1D6-44F1-8F84-14E786D0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6AB71-B050-43F3-A64B-36D99E5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599-510C-4AAC-B943-0979601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FCBAB-6089-4216-92CA-C27A96F2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DBDB9-1950-495E-A9B5-2F0F20A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0B799-DA9E-4971-AE6C-F5AF95E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3D28F-D362-4D0C-BF12-FB4AECA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18408-06B5-4263-AD29-37BE7FF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B48C-20AA-4976-A45F-1C282668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A9FC-F3EF-4CAC-956A-67F627D0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A34E-EAA5-4E29-B2FD-36F7646F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46373-6F27-497C-B4EF-84CDA44F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8B10-338F-422E-8A86-7D8DE601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84B9-0540-44BC-87D5-20C265D321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직사각형 8"/>
          <p:cNvSpPr/>
          <p:nvPr/>
        </p:nvSpPr>
        <p:spPr>
          <a:xfrm rot="21422400">
            <a:off x="609120" y="1000080"/>
            <a:ext cx="4000680" cy="4857840"/>
          </a:xfrm>
          <a:prstGeom prst="rect">
            <a:avLst/>
          </a:prstGeom>
          <a:solidFill>
            <a:srgbClr val="f8f8f8"/>
          </a:solidFill>
          <a:ln cap="sq" w="3240">
            <a:solidFill>
              <a:srgbClr val="c0c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그룹 9"/>
          <p:cNvGrpSpPr/>
          <p:nvPr/>
        </p:nvGrpSpPr>
        <p:grpSpPr>
          <a:xfrm>
            <a:off x="8116920" y="46080"/>
            <a:ext cx="1000080" cy="1036440"/>
            <a:chOff x="8116920" y="46080"/>
            <a:chExt cx="1000080" cy="1036440"/>
          </a:xfrm>
        </p:grpSpPr>
        <p:sp>
          <p:nvSpPr>
            <p:cNvPr id="446" name="자유형 10"/>
            <p:cNvSpPr/>
            <p:nvPr/>
          </p:nvSpPr>
          <p:spPr>
            <a:xfrm>
              <a:off x="8386560" y="460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자유형 11"/>
            <p:cNvSpPr/>
            <p:nvPr/>
          </p:nvSpPr>
          <p:spPr>
            <a:xfrm>
              <a:off x="8116920" y="5936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자유형 12"/>
            <p:cNvSpPr/>
            <p:nvPr/>
          </p:nvSpPr>
          <p:spPr>
            <a:xfrm>
              <a:off x="8119800" y="460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자유형 13"/>
            <p:cNvSpPr/>
            <p:nvPr/>
          </p:nvSpPr>
          <p:spPr>
            <a:xfrm>
              <a:off x="8869320" y="8334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자유형 14"/>
            <p:cNvSpPr/>
            <p:nvPr/>
          </p:nvSpPr>
          <p:spPr>
            <a:xfrm>
              <a:off x="8389800" y="3157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692-027C-433D-830F-15E9AAE81A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그룹 8"/>
          <p:cNvGrpSpPr/>
          <p:nvPr/>
        </p:nvGrpSpPr>
        <p:grpSpPr>
          <a:xfrm>
            <a:off x="61920" y="50760"/>
            <a:ext cx="1000080" cy="1036800"/>
            <a:chOff x="61920" y="50760"/>
            <a:chExt cx="1000080" cy="1036800"/>
          </a:xfrm>
        </p:grpSpPr>
        <p:sp>
          <p:nvSpPr>
            <p:cNvPr id="494" name="자유형 9"/>
            <p:cNvSpPr/>
            <p:nvPr/>
          </p:nvSpPr>
          <p:spPr>
            <a:xfrm>
              <a:off x="331560" y="507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자유형 10"/>
            <p:cNvSpPr/>
            <p:nvPr/>
          </p:nvSpPr>
          <p:spPr>
            <a:xfrm>
              <a:off x="61920" y="5986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자유형 11"/>
            <p:cNvSpPr/>
            <p:nvPr/>
          </p:nvSpPr>
          <p:spPr>
            <a:xfrm>
              <a:off x="64800" y="5076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자유형 12"/>
            <p:cNvSpPr/>
            <p:nvPr/>
          </p:nvSpPr>
          <p:spPr>
            <a:xfrm>
              <a:off x="814320" y="8384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자유형 13"/>
            <p:cNvSpPr/>
            <p:nvPr/>
          </p:nvSpPr>
          <p:spPr>
            <a:xfrm>
              <a:off x="334800" y="32076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4BF2-F03F-4737-B46C-324A97F7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542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6EC-DD13-440B-BE0B-E1228C3989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7E06-C48E-4E81-937D-B3364DCB9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744-B120-40DE-8686-D1965D0A2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912E-1D62-4EF2-8CC9-0A519F88F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5C46-72E5-4146-A566-8558370D8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44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47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9BD6-0281-4FC5-9D4C-313EF0745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95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98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3814-24E5-4FA3-AA78-74FBBA00D0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14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그룹 11"/>
          <p:cNvGrpSpPr/>
          <p:nvPr/>
        </p:nvGrpSpPr>
        <p:grpSpPr>
          <a:xfrm>
            <a:off x="142920" y="1857240"/>
            <a:ext cx="1000080" cy="1036800"/>
            <a:chOff x="142920" y="1857240"/>
            <a:chExt cx="1000080" cy="1036800"/>
          </a:xfrm>
        </p:grpSpPr>
        <p:sp>
          <p:nvSpPr>
            <p:cNvPr id="149" name="자유형 12"/>
            <p:cNvSpPr/>
            <p:nvPr/>
          </p:nvSpPr>
          <p:spPr>
            <a:xfrm>
              <a:off x="412560" y="18572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자유형 13"/>
            <p:cNvSpPr/>
            <p:nvPr/>
          </p:nvSpPr>
          <p:spPr>
            <a:xfrm>
              <a:off x="142920" y="24051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자유형 14"/>
            <p:cNvSpPr/>
            <p:nvPr/>
          </p:nvSpPr>
          <p:spPr>
            <a:xfrm>
              <a:off x="145800" y="185724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자유형 15"/>
            <p:cNvSpPr/>
            <p:nvPr/>
          </p:nvSpPr>
          <p:spPr>
            <a:xfrm>
              <a:off x="895320" y="26449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자유형 16"/>
            <p:cNvSpPr/>
            <p:nvPr/>
          </p:nvSpPr>
          <p:spPr>
            <a:xfrm>
              <a:off x="415800" y="212724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978-43D4-4451-9521-8784F92C9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그룹 8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197" name="자유형 9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자유형 10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자유형 11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자유형 12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자유형 13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그룹 14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203" name="자유형 15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자유형 16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BE8-4BF6-4970-B590-CA3B22B9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그룹 8"/>
          <p:cNvGrpSpPr/>
          <p:nvPr/>
        </p:nvGrpSpPr>
        <p:grpSpPr>
          <a:xfrm>
            <a:off x="71280" y="71280"/>
            <a:ext cx="1000440" cy="1036800"/>
            <a:chOff x="71280" y="71280"/>
            <a:chExt cx="1000440" cy="1036800"/>
          </a:xfrm>
        </p:grpSpPr>
        <p:sp>
          <p:nvSpPr>
            <p:cNvPr id="248" name="자유형 9"/>
            <p:cNvSpPr/>
            <p:nvPr/>
          </p:nvSpPr>
          <p:spPr>
            <a:xfrm>
              <a:off x="341280" y="7128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자유형 10"/>
            <p:cNvSpPr/>
            <p:nvPr/>
          </p:nvSpPr>
          <p:spPr>
            <a:xfrm>
              <a:off x="71280" y="61920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자유형 11"/>
            <p:cNvSpPr/>
            <p:nvPr/>
          </p:nvSpPr>
          <p:spPr>
            <a:xfrm>
              <a:off x="74160" y="7128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자유형 12"/>
            <p:cNvSpPr/>
            <p:nvPr/>
          </p:nvSpPr>
          <p:spPr>
            <a:xfrm>
              <a:off x="824040" y="85896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자유형 13"/>
            <p:cNvSpPr/>
            <p:nvPr/>
          </p:nvSpPr>
          <p:spPr>
            <a:xfrm>
              <a:off x="344160" y="341280"/>
              <a:ext cx="479520" cy="517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4B37-0535-4B48-B394-B13701B613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29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299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AEE1-3386-40CE-BD1C-AAB76BF1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347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350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164-B71F-4D72-B036-B1992E606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자유형 8"/>
          <p:cNvSpPr/>
          <p:nvPr/>
        </p:nvSpPr>
        <p:spPr>
          <a:xfrm>
            <a:off x="341280" y="106200"/>
            <a:ext cx="247680" cy="24948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자유형 9"/>
          <p:cNvSpPr/>
          <p:nvPr/>
        </p:nvSpPr>
        <p:spPr>
          <a:xfrm>
            <a:off x="71280" y="65412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자유형 10"/>
          <p:cNvSpPr/>
          <p:nvPr/>
        </p:nvSpPr>
        <p:spPr>
          <a:xfrm>
            <a:off x="74520" y="106200"/>
            <a:ext cx="247680" cy="249480"/>
          </a:xfrm>
          <a:prstGeom prst="pie">
            <a:avLst/>
          </a:prstGeom>
          <a:solidFill>
            <a:srgbClr val="3f949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자유형 11"/>
          <p:cNvSpPr/>
          <p:nvPr/>
        </p:nvSpPr>
        <p:spPr>
          <a:xfrm>
            <a:off x="824040" y="89388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자유형 12"/>
          <p:cNvSpPr/>
          <p:nvPr/>
        </p:nvSpPr>
        <p:spPr>
          <a:xfrm>
            <a:off x="344520" y="376200"/>
            <a:ext cx="479520" cy="517680"/>
          </a:xfrm>
          <a:prstGeom prst="pie">
            <a:avLst/>
          </a:prstGeom>
          <a:solidFill>
            <a:srgbClr val="3f949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0CE-6963-448E-9547-718F43A58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hyperlink" Target="http://100.naver.com/100.nhn?type=image_list&amp;docid=130078&amp;dir_id=04030106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1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2" action="ppaction://hlinksldjump"/>
              </a:rPr>
              <a:t>Traditional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3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4" action="ppaction://hlinksldjump"/>
              </a:rPr>
              <a:t>Modern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5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6072120" y="6143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eonghun, E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5" descr="http://dicimg.naver.com/100/400/79/10177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86080" y="1143000"/>
            <a:ext cx="25002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42640" y="61437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がぃら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428800" y="6000840"/>
            <a:ext cx="25290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セーラーふ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1" descr="gakuran8"/>
          <p:cNvPicPr/>
          <p:nvPr/>
        </p:nvPicPr>
        <p:blipFill>
          <a:blip r:embed="rId2"/>
          <a:stretch/>
        </p:blipFill>
        <p:spPr>
          <a:xfrm>
            <a:off x="1643040" y="1571760"/>
            <a:ext cx="1368360" cy="4429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ailor_fuku_girls"/>
          <p:cNvPicPr/>
          <p:nvPr/>
        </p:nvPicPr>
        <p:blipFill>
          <a:blip r:embed="rId3"/>
          <a:stretch/>
        </p:blipFill>
        <p:spPr>
          <a:xfrm>
            <a:off x="4643280" y="2643120"/>
            <a:ext cx="3714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57120" y="22856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nguro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（がんぐろ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et fashion became popular among Japanese girls in the early 2000s, this style consists of bleached hair, a dark tan, fake eyelashes, black and white eyeliner, accessories and platform sh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0" name="제목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785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images"/>
          <p:cNvPicPr/>
          <p:nvPr/>
        </p:nvPicPr>
        <p:blipFill>
          <a:blip r:embed="rId2"/>
          <a:stretch/>
        </p:blipFill>
        <p:spPr>
          <a:xfrm>
            <a:off x="214200" y="3500280"/>
            <a:ext cx="4184640" cy="2857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ganguro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제목 2" descr=""/>
          <p:cNvPicPr/>
          <p:nvPr/>
        </p:nvPicPr>
        <p:blipFill>
          <a:blip r:embed="rId1"/>
          <a:stretch/>
        </p:blipFill>
        <p:spPr>
          <a:xfrm>
            <a:off x="420840" y="73188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28760" y="350028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ゆかた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_eN9tjMgZI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428760" y="4500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8fhgnofgg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0VWK3IQv3S4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500040" y="56437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んぐ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jnCrz-fBF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7"/>
          <p:cNvSpPr/>
          <p:nvPr/>
        </p:nvSpPr>
        <p:spPr>
          <a:xfrm>
            <a:off x="428760" y="25002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きも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QsJgPVaNP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The traditional forms of japanese clothing or japanese clothes in general is called wafuku(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わ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). Traditional japanese clothing can be broken down into the following clothing categories.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1" action="ppaction://hlinksldjump"/>
              </a:rPr>
              <a:t>きも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2" action="ppaction://hlinksldjump"/>
              </a:rPr>
              <a:t>ゆかた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3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5" name="Rectangle 2" descr=""/>
          <p:cNvPicPr/>
          <p:nvPr/>
        </p:nvPicPr>
        <p:blipFill>
          <a:blip r:embed="rId4"/>
          <a:stretch/>
        </p:blipFill>
        <p:spPr>
          <a:xfrm>
            <a:off x="237960" y="60336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599"/>
              </a:spcAft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meaning clothing or things to wear is the basic japanese 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oday, most formal kimono are made of rayon, cotton sateen, cotton, polyester and other synthetic fibers except for the traditional wedding kimo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31431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kimono part"/>
          <p:cNvPicPr/>
          <p:nvPr/>
        </p:nvPicPr>
        <p:blipFill>
          <a:blip r:embed="rId2"/>
          <a:stretch/>
        </p:blipFill>
        <p:spPr>
          <a:xfrm>
            <a:off x="142920" y="1714680"/>
            <a:ext cx="8840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40291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맑은 고딕"/>
              </a:rPr>
              <a:t>Kimono were traditionally worn by men as daily wear clothing, but today they are usually only worn for festivals, ceremonies, special occasions and as kimono rob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3" name="Picture 5" descr="men's kimono"/>
          <p:cNvPicPr/>
          <p:nvPr/>
        </p:nvPicPr>
        <p:blipFill>
          <a:blip r:embed="rId2"/>
          <a:stretch/>
        </p:blipFill>
        <p:spPr>
          <a:xfrm>
            <a:off x="5643720" y="2000160"/>
            <a:ext cx="207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The yukata is a japanese summer kimono worn by both men and women. The name yukata comes from the word ”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ゆ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(bath) and “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かたび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" (under cloth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1133640" y="328680"/>
            <a:ext cx="7486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09120" y="5181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here are many matching accessories that can be purchased separately when buying a yukata.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7" name="Picture 6" descr="japanese yukat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433680" cy="4648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yukat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04920"/>
            <a:ext cx="354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HGP明朝E"/>
                <a:hlinkClick r:id="rId1" action="ppaction://hlinksldjump"/>
              </a:rPr>
              <a:t>School Uniform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　　　　（がくらん）、（セーラーふく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Ganguro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んぐ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제목 1" descr=""/>
          <p:cNvPicPr/>
          <p:nvPr/>
        </p:nvPicPr>
        <p:blipFill>
          <a:blip r:embed="rId2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he Japanese junior and senior high school uniform traditionally consists of a military style uniform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くらん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boys and a sailor dress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セーラー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gir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2" name="제목 1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4:08Z</dcterms:created>
  <dc:creator>SD#34</dc:creator>
  <dc:description/>
  <dc:language>en-US</dc:language>
  <cp:lastModifiedBy>park</cp:lastModifiedBy>
  <dcterms:modified xsi:type="dcterms:W3CDTF">2009-12-11T00:09:54Z</dcterms:modified>
  <cp:revision>19</cp:revision>
  <dc:subject/>
  <dc:title>Japanese Clothing</dc:title>
</cp:coreProperties>
</file>