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59934-5CB7-4CFD-A95F-CDC48F966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9880" y="1066680"/>
            <a:ext cx="4648320" cy="236232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190760" y="3885840"/>
            <a:ext cx="426708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190760" y="4761720"/>
            <a:ext cx="426708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E02E2-CDA2-45C4-8DBE-BD625423B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9880" y="1066680"/>
            <a:ext cx="4648320" cy="236232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190760" y="3885840"/>
            <a:ext cx="20822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377400" y="3885840"/>
            <a:ext cx="20822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190760" y="4761720"/>
            <a:ext cx="20822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377400" y="4761720"/>
            <a:ext cx="20822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26F9B-D977-41C3-9538-7086437F6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9880" y="1066680"/>
            <a:ext cx="4648320" cy="236232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190760" y="3885840"/>
            <a:ext cx="13737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633640" y="3885840"/>
            <a:ext cx="13737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076520" y="3885840"/>
            <a:ext cx="13737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190760" y="4761720"/>
            <a:ext cx="13737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5633640" y="4761720"/>
            <a:ext cx="13737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076520" y="4761720"/>
            <a:ext cx="13737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047B4-E765-46A6-A458-CFC590DB6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F378A-2F30-4710-9106-EC22FA569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9880" y="1066680"/>
            <a:ext cx="4648320" cy="236232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190760" y="3885840"/>
            <a:ext cx="4267080" cy="167652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57D79-FB1B-4A5F-9AF1-3774DC415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9880" y="1066680"/>
            <a:ext cx="4648320" cy="236232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190760" y="3885840"/>
            <a:ext cx="426708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9B0B5-02EB-4D26-95A5-AED0797E7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9880" y="1066680"/>
            <a:ext cx="4648320" cy="236232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190760" y="3885840"/>
            <a:ext cx="208224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377400" y="3885840"/>
            <a:ext cx="208224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071CD-AE77-441E-B3F2-33A63432C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9880" y="1066680"/>
            <a:ext cx="4648320" cy="236232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EDF2E-6EB4-41CF-A96C-6888F8756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809880" y="1066680"/>
            <a:ext cx="4648320" cy="1095156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74506-D263-4854-8198-C1B2AE79B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9880" y="1066680"/>
            <a:ext cx="4648320" cy="236232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190760" y="3885840"/>
            <a:ext cx="20822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377400" y="3885840"/>
            <a:ext cx="208224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190760" y="4761720"/>
            <a:ext cx="20822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DF592-BA86-4C04-A3B9-00B6B64BE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9880" y="1066680"/>
            <a:ext cx="4648320" cy="236232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190760" y="3885840"/>
            <a:ext cx="4267080" cy="167652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9718D-3F3E-46F6-82E1-8FB881831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9880" y="1066680"/>
            <a:ext cx="4648320" cy="236232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190760" y="3885840"/>
            <a:ext cx="208224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377400" y="3885840"/>
            <a:ext cx="20822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377400" y="4761720"/>
            <a:ext cx="20822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359CE-B1A0-47EA-B7C6-A25B4A511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9880" y="1066680"/>
            <a:ext cx="4648320" cy="236232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190760" y="3885840"/>
            <a:ext cx="20822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377400" y="3885840"/>
            <a:ext cx="20822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190760" y="4761720"/>
            <a:ext cx="426708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DFD84-9131-4CFF-A056-9CFF51083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9880" y="1066680"/>
            <a:ext cx="4648320" cy="236232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190760" y="3885840"/>
            <a:ext cx="426708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190760" y="4761720"/>
            <a:ext cx="426708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09A18-A0A7-4B3E-ABEA-7314199D2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9880" y="1066680"/>
            <a:ext cx="4648320" cy="236232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190760" y="3885840"/>
            <a:ext cx="20822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377400" y="3885840"/>
            <a:ext cx="20822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190760" y="4761720"/>
            <a:ext cx="20822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377400" y="4761720"/>
            <a:ext cx="20822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3923C-3CF9-4AC0-A642-C125E3675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9880" y="1066680"/>
            <a:ext cx="4648320" cy="236232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190760" y="3885840"/>
            <a:ext cx="13737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633640" y="3885840"/>
            <a:ext cx="13737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076520" y="3885840"/>
            <a:ext cx="13737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190760" y="4761720"/>
            <a:ext cx="13737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5633640" y="4761720"/>
            <a:ext cx="13737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076520" y="4761720"/>
            <a:ext cx="13737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A3725-A3E3-480D-ABDD-477823F9A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9880" y="1066680"/>
            <a:ext cx="4648320" cy="236232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190760" y="3885840"/>
            <a:ext cx="426708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F6D49-C88A-429A-96EB-77A97818C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9880" y="1066680"/>
            <a:ext cx="4648320" cy="236232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190760" y="3885840"/>
            <a:ext cx="208224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377400" y="3885840"/>
            <a:ext cx="208224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17437-FCB8-4895-8E1B-4C71C4C30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9880" y="1066680"/>
            <a:ext cx="4648320" cy="236232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72487-8A68-4CBE-BE1D-C780DBBA5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9880" y="1066680"/>
            <a:ext cx="4648320" cy="1095156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F20E0-BAA8-42F3-919A-CAC48B0FD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9880" y="1066680"/>
            <a:ext cx="4648320" cy="236232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190760" y="3885840"/>
            <a:ext cx="20822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377400" y="3885840"/>
            <a:ext cx="208224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190760" y="4761720"/>
            <a:ext cx="20822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11066-51E2-4FAD-B434-E86081DE5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9880" y="1066680"/>
            <a:ext cx="4648320" cy="236232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190760" y="3885840"/>
            <a:ext cx="208224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377400" y="3885840"/>
            <a:ext cx="20822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377400" y="4761720"/>
            <a:ext cx="20822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27D37-BA4F-4AFC-B006-D84BC534B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9880" y="1066680"/>
            <a:ext cx="4648320" cy="236232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190760" y="3885840"/>
            <a:ext cx="20822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377400" y="3885840"/>
            <a:ext cx="20822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190760" y="4761720"/>
            <a:ext cx="426708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69D13-5509-4C55-A908-B97122629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660960" indent="-25416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017000" indent="-2034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424160" indent="-2034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1830960" indent="-203400">
              <a:spcBef>
                <a:spcPts val="799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1830960" indent="-203400">
              <a:spcBef>
                <a:spcPts val="799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1830960" indent="-203400">
              <a:spcBef>
                <a:spcPts val="799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EB95D-332E-42A6-97DC-1B92A11AFC87}" type="slidenum">
              <a:rPr b="0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9880" y="1066680"/>
            <a:ext cx="4648320" cy="236232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BA13A-B996-4930-BF78-EC9F92284AA0}" type="slidenum">
              <a:rPr b="0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9880" y="1066680"/>
            <a:ext cx="4648320" cy="236232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Japanese Animat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ja-JP" sz="4400" spc="-1" strike="noStrike">
                <a:solidFill>
                  <a:srgbClr val="ffffff"/>
                </a:solidFill>
                <a:latin typeface="Verdana"/>
                <a:ea typeface="ヒラギノ角ゴ ProN W3"/>
              </a:rPr>
              <a:t>アニメ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190760" y="3885840"/>
            <a:ext cx="4267080" cy="167652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y:Luke Gardne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avid Potyondi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Feudal Anime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eudal anime are based on feudal times and Japanese history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15360" indent="-31536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ost of these anime have demons in them or as main character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2" name="inuyasha" descr=""/>
          <p:cNvPicPr/>
          <p:nvPr/>
        </p:nvPicPr>
        <p:blipFill>
          <a:blip r:embed="rId2"/>
          <a:stretch/>
        </p:blipFill>
        <p:spPr>
          <a:xfrm>
            <a:off x="4648320" y="1752480"/>
            <a:ext cx="38862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School Anime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chool anime are based in or around school life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ost of these anime are comedic with a hint of romance in some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6" name="luckystar" descr=""/>
          <p:cNvPicPr/>
          <p:nvPr/>
        </p:nvPicPr>
        <p:blipFill>
          <a:blip r:embed="rId2"/>
          <a:stretch/>
        </p:blipFill>
        <p:spPr>
          <a:xfrm>
            <a:off x="4572000" y="1981080"/>
            <a:ext cx="44197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Fantasy Anime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antasy anime is the most wide open type of anime due to the imagination of the producer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ey range from pirate ships to spirit world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20" name="onepiece" descr=""/>
          <p:cNvPicPr/>
          <p:nvPr/>
        </p:nvPicPr>
        <p:blipFill>
          <a:blip r:embed="rId2"/>
          <a:stretch/>
        </p:blipFill>
        <p:spPr>
          <a:xfrm>
            <a:off x="4572000" y="1905120"/>
            <a:ext cx="426708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809880" y="1066680"/>
            <a:ext cx="4648320" cy="236232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Credits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190760" y="3581280"/>
            <a:ext cx="4267080" cy="236232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roducer/designer: Luke Gardne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dea people: Luke Gardner/David Potyondi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What is Anime?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nime is Japanese animation. The word anime is an abbreviation of the English word animation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You can tell if what you are watching is anime by the drawing style of the show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How does anime effect modern culture?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nime has an effect on some of the fashion trends that flow through the main stream mainly in Japa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nime has a large effect on events for anime fans known as anime conventions. Thousands of participants attend every year dressing in costumes of there favorite character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What Anime is best for Ages?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re are Anime for Young children to adult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ost anime that are shown on T.V are appropriate for most ages. Some anime shown one day a week are the more gory anime that are appropriate for teenager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What is chibi?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hibi are mini child look alike anime. They are smaller and have more </a:t>
            </a:r>
            <a:r>
              <a:rPr b="0" lang="ja-JP" sz="2800" spc="-1" strike="noStrike">
                <a:solidFill>
                  <a:srgbClr val="ffffff"/>
                </a:solidFill>
                <a:latin typeface="Verdana"/>
              </a:rPr>
              <a:t>かわいい　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xpressions/face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93" name="Inuaysha%20chibi" descr=""/>
          <p:cNvPicPr/>
          <p:nvPr/>
        </p:nvPicPr>
        <p:blipFill>
          <a:blip r:embed="rId2"/>
          <a:stretch/>
        </p:blipFill>
        <p:spPr>
          <a:xfrm>
            <a:off x="4572000" y="1905120"/>
            <a:ext cx="441972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Young Children Anime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ome examples of young children anime are Pokemon, Bakugan and Digimon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nime like these are the tame anime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97" name="pikachu1" descr=""/>
          <p:cNvPicPr/>
          <p:nvPr/>
        </p:nvPicPr>
        <p:blipFill>
          <a:blip r:embed="rId2"/>
          <a:stretch/>
        </p:blipFill>
        <p:spPr>
          <a:xfrm>
            <a:off x="4648320" y="1981080"/>
            <a:ext cx="3809880" cy="412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Teenage Anime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ome examples of Teenage anime are Hellsing, Guyver and Gurren Laggan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nime like these are the more gory and mild language one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01" name="Hellsing" descr=""/>
          <p:cNvPicPr/>
          <p:nvPr/>
        </p:nvPicPr>
        <p:blipFill>
          <a:blip r:embed="rId2"/>
          <a:stretch/>
        </p:blipFill>
        <p:spPr>
          <a:xfrm>
            <a:off x="4572000" y="1905120"/>
            <a:ext cx="441972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Adult Anime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dult anime is comparable to an “R” rated American </a:t>
            </a:r>
            <a:r>
              <a:rPr b="0" lang="ja-JP" sz="2800" spc="-1" strike="noStrike">
                <a:solidFill>
                  <a:srgbClr val="ffffff"/>
                </a:solidFill>
                <a:latin typeface="Verdana"/>
              </a:rPr>
              <a:t>えいが</a:t>
            </a:r>
            <a:r>
              <a:rPr b="0" lang="ja-JP" sz="28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No picture available!!!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Sci-fi Anime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ci-fi anime are based on space adventures and giant robot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12120" indent="-31212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ome Sci-fi anime are totally based in space or on a certain planet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08" name="gundam_seed_3_1280" descr=""/>
          <p:cNvPicPr/>
          <p:nvPr/>
        </p:nvPicPr>
        <p:blipFill>
          <a:blip r:embed="rId2"/>
          <a:stretch/>
        </p:blipFill>
        <p:spPr>
          <a:xfrm>
            <a:off x="4572000" y="1828800"/>
            <a:ext cx="441972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4T21:27:38Z</dcterms:created>
  <dc:creator>SD#34</dc:creator>
  <dc:description/>
  <dc:language>en-US</dc:language>
  <cp:lastModifiedBy>Natural</cp:lastModifiedBy>
  <dcterms:modified xsi:type="dcterms:W3CDTF">2009-12-11T06:17:06Z</dcterms:modified>
  <cp:revision>12</cp:revision>
  <dc:subject/>
  <dc:title>Japanese Animation &amp; Cosplay アニメ　ト　コスプレ</dc:title>
</cp:coreProperties>
</file>