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888-F7C3-433B-8466-9DB1EA27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E0B-E06F-4812-B21B-68994E65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254-2C20-4D09-B385-F0FCE839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999-24B5-4B86-AEF0-434B8817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EA29-892A-4640-99F7-7B122921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1EBB-B19F-4743-BE9E-0BB77169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80EA-9A09-446E-BA41-42E52686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A367-BC5D-4F5F-8E9B-6D076065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4A03-D8D5-413C-9C50-04CDA1B3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F8EF-A47A-48C5-A880-DB02CC18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7C3B-4F5D-4FBA-B2C0-0CC876C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443-6FFA-485B-BD5D-2E58C669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4CFE-F301-48C9-B168-9B277CF2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7941-6F4C-4D58-B8A7-544980DC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3125-E84B-421E-9673-7D477CDB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2685-C197-497D-8D6F-ABF020E1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C815-A5A2-4BF0-974F-62994DF1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960-EBD3-41E9-992D-2A2CFE96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1AF-07C4-4F67-B05E-5737A341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402-E1C2-4802-A86B-9E3CE1E4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408-1D9D-4538-B3C0-E36E4059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11E6-C3EE-4827-9A67-B2766A19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4E2-65E2-4EA5-AC1B-D1883AF8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2B1-F6A6-42D3-AB81-3B9865AF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D540-B089-4045-897A-B152561BD1B1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12DB-E195-4897-A026-465D1F2FC4A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panese Anim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N W3"/>
              </a:rPr>
              <a:t>アニ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: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euda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udal anime are based on feudal times and Japanese histor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have demons in them or as main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inuyasha" descr=""/>
          <p:cNvPicPr/>
          <p:nvPr/>
        </p:nvPicPr>
        <p:blipFill>
          <a:blip r:embed="rId2"/>
          <a:stretch/>
        </p:blipFill>
        <p:spPr>
          <a:xfrm>
            <a:off x="4648320" y="17524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hool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anime are based in or around school lif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st of these anime are comedic with a hint of romance in som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luckystar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Fantasy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ntasy anime is the most wide open type of anime due to the imagination of the produc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y range from pirate ships to spirit worl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onepiece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190760" y="3581280"/>
            <a:ext cx="426708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ducer/designer: Luke Gardn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a people: Luke Gardner/David Potyond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Anim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e is Japanese animation. The word anime is an abbreviation of the English word anim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tell if what you are watching is anime by the drawing style of the sh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How does anime effect modern culture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n effect on some of the fashion trends that flow through the main stream mainly in Jap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has a large effect on events for anime fans known as anime conventions. Thousands of participants attend every year dressing in costumes of there favorite charact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Anime is best for Ages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are Anime for Young children to adul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st anime that are shown on T.V are appropriate for most ages. Some anime shown one day a week are the more gory anime that are appropriate for teenag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at is chibi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bi are mini child look alike anime. They are smaller and have more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かわいい　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ressions/fa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Inuaysha%20chibi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Young Children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young children anime are Pokemon, Bakugan and Digim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tame anim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pikachu1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eenage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examples of Teenage anime are Hellsing, Guyver and Gurren Lagg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 like these are the more gory and mild language on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Hellsing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dult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ult anime is comparable to an “R” rated American 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えいが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o picture available!!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ci-fi Anim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i-fi anime are based on space adventures and giant robo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Sci-fi anime are totally based in space or on a certain plane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gundam_seed_3_1280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1:27:38Z</dcterms:created>
  <dc:creator>SD#34</dc:creator>
  <dc:description/>
  <dc:language>en-US</dc:language>
  <cp:lastModifiedBy>Natural</cp:lastModifiedBy>
  <dcterms:modified xsi:type="dcterms:W3CDTF">2009-12-11T06:17:06Z</dcterms:modified>
  <cp:revision>12</cp:revision>
  <dc:subject/>
  <dc:title>Japanese Animation &amp; Cosplay アニメ　ト　コスプレ</dc:title>
</cp:coreProperties>
</file>