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5474-CB12-4972-848F-3936A954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6B19-ED89-4B9F-8D27-0822F110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40AA-ADB5-4ECB-83FD-2B76DCEB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3644-36C3-4EF1-B6FF-E76726C1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91DC-29E0-4273-B091-7986F124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DF65-0FBC-4746-8A3B-D87C5FE0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FA5A-77CB-4CB5-AE11-BD0AE7AC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C901-E67B-4C77-BED7-2154B855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90B3-8BE7-443B-9BEF-3F259E4A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2FA5-FBBA-4426-B4EF-58D2869F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B023-9EB0-45CD-B69F-28520114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7FE0-7854-4DE6-92AD-C6851AE0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4398-4F69-4062-8C43-D53FC7CF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159E-2100-4199-BAA1-79A35169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209B-EADB-43C4-A524-FE605B61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F976-9B92-43B0-AF7C-2C319A97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EC16-51A3-4FF2-9F95-45939147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0900-8993-4178-8842-86F177EB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19B9-8829-4810-B401-29293547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7AE-D487-43BC-A7E2-1473B998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E85E-1C01-4723-BAB6-E45457E8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C11-665E-45FC-88FA-D7F2CAE3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7DF-F3D3-4796-8DC7-A2AF3FBE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2D2C-BB91-4229-BFD0-01CA34AA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A891-649B-4263-A20C-CA54D4A4FE91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1F90-B799-4B67-897B-9970549AB58D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apanese Anim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ja-JP" sz="4400" spc="-1" strike="noStrike">
                <a:solidFill>
                  <a:srgbClr val="ffffff"/>
                </a:solidFill>
                <a:latin typeface="Verdana"/>
                <a:ea typeface="ヒラギノ角ゴ ProN W3"/>
              </a:rPr>
              <a:t>アニメ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:Luke Gardn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vid Potyond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eudal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udal anime are based on feudal times and Japanese histor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 of these anime have demons in them or as main charact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inuyasha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chool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hool anime are based in or around school lif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 of these anime are comedic with a hint of romance in som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luckystar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41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antasy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ntasy anime is the most wide open type of anime due to the imagination of the produc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range from pirate ships to spirit world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0" name="onepiece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190760" y="3581280"/>
            <a:ext cx="426708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r/designer: Luke Gardn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dea people: Luke Gardner/David Potyond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is Anime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ime is Japanese animation. The word anime is an abbreviation of the English word anim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tell if what you are watching is anime by the drawing style of the show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How does anime effect modern culture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has an effect on some of the fashion trends that flow through the main stream mainly in Jap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has a large effect on events for anime fans known as anime conventions. Thousands of participants attend every year dressing in costumes of there favorite charact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nime is best for Ages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Anime for Young children to adul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t anime that are shown on T.V are appropriate for most ages. Some anime shown one day a week are the more gory anime that are appropriate for teenage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is chibi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ibi are mini child look alike anime. They are smaller and have more 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かわいい　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ressions/fa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Inuaysha%20chibi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41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Young Children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examples of young children anime are Pokemon, Bakugan and Digim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like these are the tame anim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pikachu1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eenage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examples of Teenage anime are Hellsing, Guyver and Gurren Lagg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like these are the more gory and mild language on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Hellsing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41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dult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ult anime is comparable to an “R” rated American 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えいが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No picture available!!!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ci-fi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i-fi anime are based on space adventures and giant robo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Sci-fi anime are totally based in space or on a certain plane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gundam_seed_3_1280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1:27:38Z</dcterms:created>
  <dc:creator>SD#34</dc:creator>
  <dc:description/>
  <dc:language>en-US</dc:language>
  <cp:lastModifiedBy>Natural</cp:lastModifiedBy>
  <dcterms:modified xsi:type="dcterms:W3CDTF">2009-12-11T06:17:06Z</dcterms:modified>
  <cp:revision>12</cp:revision>
  <dc:subject/>
  <dc:title>Japanese Animation &amp; Cosplay アニメ　ト　コスプレ</dc:title>
</cp:coreProperties>
</file>