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9.png" ContentType="image/png"/>
  <Override PartName="/ppt/media/image6.gif" ContentType="image/gif"/>
  <Override PartName="/ppt/media/image11.jpeg" ContentType="image/jpeg"/>
  <Override PartName="/ppt/media/image8.png" ContentType="image/png"/>
  <Override PartName="/ppt/media/image7.png" ContentType="image/png"/>
  <Override PartName="/ppt/media/image10.jpeg" ContentType="image/jpeg"/>
  <Override PartName="/ppt/media/image5.png" ContentType="image/png"/>
  <Override PartName="/ppt/media/image4.wmf" ContentType="image/x-wmf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BB0B-2FD1-4787-B96E-D1124398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8C74-4AC3-4D9E-9AA6-CD7508E2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607A45-002A-46A4-87B0-4D68F514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0BA42A-02F2-46D7-8146-14FDC447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204694-4438-4C93-A7E8-46667BB4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0D5703-BAD5-4F75-B149-67E8459C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176C07-712C-4729-A378-CEBFE27E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E2C8F9-9E72-4624-A5C2-57464BA9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8E3679-6718-4766-AEB3-A99AA480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A23B62-A094-4A3A-9265-AB98B4FA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B0860D-6B02-4288-9E3F-F5B4DE1A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E947F-4A59-4353-B715-726F080A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1192-FDC3-44C0-AC16-34A38706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2B9BF-4B12-492F-8281-27201B64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5E8B5-06CF-4D39-80E3-4919D748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D9FBD-EEC1-48EB-8E33-70E53FD9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2D21C-F2B1-4EF0-B940-DEFBF311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29358-FDC6-42BC-88AA-D249E656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E6D83-601D-435B-9A3E-D9D50311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8F36E-5092-4B8C-A07E-31254D4D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FA254-4FFC-4E91-A18F-F1EF0ADA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C51A5-73AE-487A-91A1-391131EF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34313-92CC-43D5-A62A-B029E104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C316-CFE3-4B0E-9032-4271D729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72090-82A4-44FE-AC56-F4351E8D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0759A-47A1-4E20-A47C-2A375989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16D9D-775B-4EB9-AED4-11100D89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B01E8-5BB4-4D2F-A8F6-8D3FFC89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7901F-1921-4205-9663-23373CE2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DB008-A536-43CB-88B8-074C54E9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31B1D-5793-4AA9-B5AA-9ADFF182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67D21-9929-4DD3-B4B9-98BA7FCF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E0D0B-4936-479F-8287-3D6A2F42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704FB-3681-484C-A385-6F6EE610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6AB9-0BDE-4665-ABE3-BF988A63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1F9A4-2D39-41EF-8FDD-B97619C7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FC8A0-691A-4825-B97B-2224F0D4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CDE18-E742-42F7-82C7-3FDA4468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1296D-356B-47AF-9A1D-9AE0FC5A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C7239-6E99-46BE-A2CB-D4308E60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E5653-B1C7-494A-B2F7-1862DBEB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B11CF-8934-47B5-8F00-D8D1A8F7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45C31-D404-445A-A3BA-485902E0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7E1A6-4C7D-40C9-A266-59FAE89C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A0843-A738-4CCC-995C-27940DBD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1367-E0E8-44A3-9E89-07824983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1D200-8162-4F19-9CC1-8E0E83BF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26318-62B7-4DBD-BCFA-B6E93D49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5A9AA-60AD-4BE3-B93A-47ABAC5C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3CED8-0257-487C-9BA0-3C2F0BE9E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961FC-A758-4CE6-904C-1E999EAE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4842E-7D77-4D56-8C7C-6DE29C1F2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6A4E2-C7BC-44C4-ABB7-F7B7B118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5EA32-1505-4477-A576-125421F7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0CA32-219D-4C5C-A8CB-359A03E0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63E09-BBC1-4B6C-9A54-A8DE8E15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3FB8-E601-4420-86D4-175069F6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80682-8346-4123-A2CC-40A97497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17DD90-B963-4C29-95D4-1B1AEC6A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E2A5F-A57E-41BE-9593-67AB04B6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9DC982-4F25-43F7-8E8C-0F0CC272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1597E-2B77-46CF-8BBD-B57F1B56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31135-219F-420E-AFAC-A7547214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76072-692F-4C63-8F37-74B0F9DF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1367483-EF3C-435A-BDBF-E0EF2B24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EF8CA6-B876-4AE2-ACF4-21600CA5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33AEF1-7F90-4F4F-BA14-C6296038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BE35-BC26-4FFE-89A8-AC40BD63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D01796-6CC7-4D62-A342-0F4D0002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BAB7A3-7917-48D3-A480-C8A0CBAB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F5BBEA-8AB8-493C-AAE0-8F2F9F17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2030F4-59FC-4FA9-97C3-9E8FBABB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F5E292-9874-4ABA-81CC-9E66E159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BDD84C8-C8B0-4BB0-91EC-0814E06D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40C935-EBED-42D6-BAEB-9E419AFD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FBCBD9-F3A5-4E90-A698-57778683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4A2AC0-6376-447C-9DAB-B8ABD920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C01058-ABCB-4950-9FE1-568C1D14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EDE9-E97B-4A0A-B853-AE9988C1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2D0F62-5F66-4657-B358-0AD2CF44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9A102F-D5B8-49C7-9240-79BBEAEB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ED9D07-ADCA-46E1-A1D1-813CAE35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7A7DFE-5CB3-4B77-A87E-450ACD38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0135FC-B73D-459C-A4B5-2B648952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FB0A4C-B8EB-4CBA-8374-ACAC4E46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366FCB-142C-4391-9B99-E46208AC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ED5A1C-7F2F-4DAD-8A0E-8C6623F5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7D3D28-DC04-4C00-807F-BAE05393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3B34A9-7A56-4884-AA9F-97FFED07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EA1B-EDC1-4C99-989C-B0F893EF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C32D8D-5B33-463C-B761-D142544F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48A3B2-1272-43DA-850E-1376AFE1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B932B2-3BFC-4871-9A28-5114C29C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8C939C-5647-4244-A290-168B63C5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ADCF42-B827-43CC-9A71-776BC4D6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0552C7-AF87-4A18-B444-6DE2ACDC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FACA29-C15E-4BEE-88CD-19B07A60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408DE2-5339-4AE5-A8EA-D5617566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CFC911-AAC7-4A7E-BFDC-5F003D1E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D98C2F-F072-4AF6-BF81-4A66A9A2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BB1C-A995-4396-B9C2-26F6DD68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02654E-65E0-41B0-BA20-9C62A97C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7E7928-CB3A-4418-814D-61902B95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A583F2-CBA4-430E-856D-31FAB1C6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A17DDF-D6DD-4754-8154-0507A52D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0015CA-D9AF-4AF5-B869-F2213D25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6F1A5C-CEB6-452D-B05E-4F7F3F8F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57F42A-2418-4F05-913D-3237E530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40686B-A360-454D-AA3F-84982608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1ABC2C-CBAE-43AD-BB9C-A7284BAE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403C69-8F61-40E1-9C3F-0F92D38E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9FF-E1EC-4EBC-B6AA-10033FC6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6F29-85F5-4AA0-8361-32962530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D2FBE2-300A-4493-A4DC-2BD054B1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968544-741A-45D4-BB94-A30A2459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EDDE47-6237-43C3-A716-F3002D3E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10BCC6-ED95-47F1-80A0-C61098B6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04F614-4B85-4549-B003-E8559F75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9CAF95-A3C9-455F-AA56-56C39605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B3B51C-EF12-4D54-B3AD-47DA1AB6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CF6BC4-1A19-4C0A-A264-80D39BDC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147B9E-8D50-4EDB-88A8-74910271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A42D2A-BEA4-4044-BD65-0614B662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0009-2C8E-4829-82EC-EED1112A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311C63-F210-4460-9804-CEC38DE7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E39090-56A6-487B-AB21-40BA33D8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2151BA-918F-48D0-AACD-A64E9456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FE74BD-B2D6-400A-B65A-3C3E4F3D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02DCE2-AA44-48CD-B80A-382DA4FA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8626DF-8FDE-4460-B2DF-C08DEBB0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D05980-B207-4118-95AA-854185A5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F88E-D655-4533-AD7E-A114402D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462B-14B2-48F0-A5BA-4F799ABBF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A7C1-9711-4007-B9D4-EFD6F954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78AFD-CA05-4CA1-82FC-EC7454CB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9AF8D-3A83-4D27-BB70-50752A14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18C57-D292-47D1-8F1B-33CEFF9A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A32F3-8F7F-4F44-968C-17FD0B95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84C30-84A0-43AD-B847-11E6A6D3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FC36-AE2B-4988-A280-CC22671C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E6BEC-F3CA-437F-9026-2EAA6617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2A60F-E936-4A9D-98D4-216CACD8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9FBB4-1285-48FD-90AC-D4ACF42C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3ACD7-E064-4405-80B9-CFB6314B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85AEB-305C-4385-AC9C-41EDBFE4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3AD4C-A6FA-46DD-A296-ED8A570B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BC58A-84F7-435B-B423-8F931CCA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C5CAA-FA4D-405A-BDA1-7057E05D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F5498-45A5-4CC7-BBEF-98FBC8F1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AF418-4DEF-4613-B644-8D7541EA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2DB1-E427-4074-9DEB-E1B01CE3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D12D1-D876-4CE4-91A0-67DE4533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98811-05DB-45A0-8EAB-A7706DE3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07D09-8745-4D27-945E-EACD5C55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67EB1-82FE-482B-8C51-8DD4594E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B2BD7-1DE5-4C4C-BE26-F8286333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BB974-97A8-47F6-AC81-B7AA2ADF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F5F2D-0E50-4FF1-844A-264AE643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7F651-E16E-4519-8632-416A5023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0E9A1-F3C4-49B2-9DAE-D30FCD39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9F3E2-A258-43B3-94FF-180B83407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E5D-7247-410C-A565-379C372B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5A662-7DDF-43FE-8FC9-D43CD5BB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863A4-B6E4-41DC-984A-1748F809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F6779-9E6E-4B00-85B6-8895B831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3B802-CB45-4F3F-BE0C-89DF3CD4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CDA46-D5B9-4338-BC92-83956A3B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C825C-C3E5-49AB-940C-3A0A6CE5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D5827-0721-408F-A02F-3DB48E39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1156D-9CD0-4E08-9C38-6502B46B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682CE-536A-4115-A161-66015B35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BCE32-FB9E-4CF1-8390-8A028FC3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F69-9CAA-40CC-943F-24117BB7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38A67-2365-48CD-9A8B-5C8EA9EA3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F0EB3-A9E7-4E76-9A76-61D40A81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B2B5C-9AE9-441C-A540-47D8E77F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EFCFE-3C69-4F28-9512-27D282F6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FB445-0B12-486A-B555-84772D38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E9F61-7E41-45C9-9518-420A7170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54E82-88D3-448D-9926-7A219BC5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80840-3705-46A1-824F-EE29F361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CF814-78FF-41CA-9A2D-FC9BD2FE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AA2CB-CA20-4DCC-A1BF-59630AD0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44CC-8D68-48BA-847C-81E80D1A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2A748-AE56-400C-9E85-59ED3852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AE96A-179D-4FA9-BF8B-99870A10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CB23D-E0D2-4841-B8A4-328818A4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07F20-CF38-4E17-8F5C-53CC60EE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A2AC0-EA04-414A-AB86-85B25BF7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8074F-67B9-4EB5-B556-F0D2BE67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48001-126A-457B-99BE-D20DD38F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72E8F-1184-4CDE-A5FC-E3FE226E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118C9-255E-4EC1-A588-461686D5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A1730-3022-4B0D-9951-1B7DEFF5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339D-15F6-4DCD-B452-40A4B273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EAC4F-6051-4161-8A49-C02D1892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3FA2D-5A2C-4D67-B6BD-389568F5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79950-6A58-4032-A812-228203FB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01EC7-C349-457C-BCDC-C6CCFEBF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4C7BB-24F0-4E87-9A9F-72083705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09DD5-F708-41CA-981B-1B3CFDEF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9293A-507E-4178-8FC4-38E1C096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ABD2E-56AD-457B-9CE3-2C6CEC5E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A7438-2031-4CDB-BC3D-CA25D9DD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8E646-7F7D-4724-B376-B6405168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F80A-7DA0-4689-8D14-F23B77B1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5B5ED-84DC-4C5C-AAB9-312F3C87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F1933-7234-444A-9726-ABCD752C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AEBF5-3A46-4893-9191-41FB3EF3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F6668-571B-4F83-8D5D-E5E45103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5AE7E-C57E-4507-869A-89827FC9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C1A80-3683-4643-9DB1-E44595E4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E5983-3D1E-478D-A5C0-49879079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3CC080-7FB2-4C47-B6ED-08DCC376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642F43-4D69-472A-980C-F5BFAA5D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CB7164-0CE2-469E-8C6C-18311F63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ACE5-4620-48DF-B01A-6EC320F06119}" type="slidenum"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0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D842-73EA-4B38-8349-52A78C26AAEF}" type="slidenum"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2"/>
          <p:cNvSpPr/>
          <p:nvPr/>
        </p:nvSpPr>
        <p:spPr>
          <a:xfrm>
            <a:off x="838080" y="2273400"/>
            <a:ext cx="7772400" cy="11588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91bbb6"/>
              </a:gs>
              <a:gs pos="100000">
                <a:srgbClr val="caded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5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022400" indent="-351000">
              <a:spcBef>
                <a:spcPts val="751"/>
              </a:spcBef>
              <a:buClr>
                <a:srgbClr val="657a56"/>
              </a:buClr>
              <a:buSzPct val="6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339920" indent="-316080">
              <a:spcBef>
                <a:spcPts val="751"/>
              </a:spcBef>
              <a:buClr>
                <a:srgbClr val="59877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681200" indent="-339840">
              <a:spcBef>
                <a:spcPts val="751"/>
              </a:spcBef>
              <a:buClr>
                <a:srgbClr val="657a56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0F78-B097-4F97-94EB-6E18CE52961B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9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5CCF-8B82-4141-9F51-1B009BCECA6A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7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3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3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20CF-C143-4F8A-B3C7-4F7A292A8288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E33A-44BA-4DE4-BF70-2D08E46BE61F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6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6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7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7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5140-94B9-40D2-BFC5-610B7794275C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Line 2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3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4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5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6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7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8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9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0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1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12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13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5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7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8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45" name="Group 20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6" name="Rectangle 21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22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23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24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Rectangle 25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Rectangle 26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Oval 27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8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9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30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46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47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50A3-129C-4681-9F2E-123FF774916B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9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0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4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5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5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D526-CCF3-4449-BADD-6622AE5D732E}" type="slidenum">
              <a:rPr b="1" lang="ko-KR" sz="2600" spc="-1" strike="noStrike">
                <a:solidFill>
                  <a:srgbClr val="ffffff"/>
                </a:solidFill>
                <a:latin typeface="굴림"/>
                <a:ea typeface="굴림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4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0401-620F-4616-BE4E-17BDA75788D3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2"/>
          <p:cNvSpPr/>
          <p:nvPr/>
        </p:nvSpPr>
        <p:spPr>
          <a:xfrm>
            <a:off x="685800" y="228600"/>
            <a:ext cx="8153280" cy="1158840"/>
          </a:xfrm>
          <a:custGeom>
            <a:avLst/>
            <a:gdLst>
              <a:gd name="textAreaLeft" fmla="*/ 0 w 8153280"/>
              <a:gd name="textAreaRight" fmla="*/ 8153640 w 815328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91bbb6"/>
              </a:gs>
              <a:gs pos="100000">
                <a:srgbClr val="d4e4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5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022400" indent="-351000">
              <a:spcBef>
                <a:spcPts val="751"/>
              </a:spcBef>
              <a:buClr>
                <a:srgbClr val="657a56"/>
              </a:buClr>
              <a:buSzPct val="6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339920" indent="-316080">
              <a:spcBef>
                <a:spcPts val="751"/>
              </a:spcBef>
              <a:buClr>
                <a:srgbClr val="59877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681200" indent="-339840">
              <a:spcBef>
                <a:spcPts val="751"/>
              </a:spcBef>
              <a:buClr>
                <a:srgbClr val="657a56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8B71-E2F4-45F4-B81C-484D4CB750CE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A743-F588-404D-BFC1-AB6E6A550075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FF5F-76CA-4D9B-8D15-F3711594B713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1DF0-0CAB-4E8E-B95D-31A58116DE10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0FC4-A93F-4D2E-82C7-0E37C4B73585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6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7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7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8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9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9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9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9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9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20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1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23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365" name="Rectangle 24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25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4DE5-FBA2-478A-989C-E5DDD295EB4F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0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1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1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1EA2-21A2-44DA-B2BE-F6FF1CD58666}" type="slidenum">
              <a:rPr b="1" lang="ko-KR" sz="2600" spc="-1" strike="noStrike">
                <a:solidFill>
                  <a:srgbClr val="ffffff"/>
                </a:solidFill>
                <a:latin typeface="굴림"/>
                <a:ea typeface="굴림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51AE-9912-4192-9008-04DD19FD7D50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4.xml"/><Relationship Id="rId5" Type="http://schemas.openxmlformats.org/officeDocument/2006/relationships/image" Target="../media/image7.png"/><Relationship Id="rId6" Type="http://schemas.openxmlformats.org/officeDocument/2006/relationships/slide" Target="slide4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7.png"/><Relationship Id="rId10" Type="http://schemas.openxmlformats.org/officeDocument/2006/relationships/slide" Target="slide4.xml"/><Relationship Id="rId11" Type="http://schemas.openxmlformats.org/officeDocument/2006/relationships/image" Target="../media/image7.png"/><Relationship Id="rId12" Type="http://schemas.openxmlformats.org/officeDocument/2006/relationships/slide" Target="slide4.xml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그림 3" descr="25_ilosnow.gif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6600" spc="-1" strike="noStrike">
                <a:solidFill>
                  <a:srgbClr val="3d62f5"/>
                </a:solidFill>
                <a:latin typeface="Comic Sans MS"/>
              </a:rPr>
              <a:t>JAPANESE</a:t>
            </a:r>
            <a:br>
              <a:rPr sz="6600"/>
            </a:br>
            <a:r>
              <a:rPr b="0" lang="en-US" sz="6600" spc="-1" strike="noStrike">
                <a:solidFill>
                  <a:srgbClr val="3d62f5"/>
                </a:solidFill>
                <a:latin typeface="Comic Sans MS"/>
              </a:rPr>
              <a:t>MUSIC</a:t>
            </a: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2269800" y="3794040"/>
            <a:ext cx="46782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Yesle Le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iyeon Le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BLK:B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HY목각파임B"/>
                <a:ea typeface="HY목각파임B"/>
              </a:rPr>
              <a:t>International Musician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193080" cy="396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68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68" fill="hold"/>
                                        <p:tgtEl>
                                          <p:spTgt spid="10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68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68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041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041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10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ohnnys &amp;associ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285480" y="1571760"/>
            <a:ext cx="442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Johnny&amp;Associates (</a:t>
            </a:r>
            <a:r>
              <a:rPr b="1" lang="ja-JP" sz="1600" spc="-1" strike="noStrike">
                <a:solidFill>
                  <a:srgbClr val="000000"/>
                </a:solidFill>
                <a:latin typeface="Candara"/>
                <a:ea typeface="HY바다L"/>
              </a:rPr>
              <a:t>ジャニーズ</a:t>
            </a:r>
            <a:r>
              <a:rPr b="1" lang="ko-KR" sz="1600" spc="-1" strike="noStrike">
                <a:solidFill>
                  <a:srgbClr val="000000"/>
                </a:solidFill>
                <a:latin typeface="Candara"/>
                <a:ea typeface="HY바다L"/>
              </a:rPr>
              <a:t>事務所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, janīzu jimusho), a well-known boys idol entertainment company in Japan, was established in 1963 by Johnny Kitagawa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It accepts and trains talented boys and promotes their debuts to the entertainment industry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Starting with group name "Johnnys" in 1962, Johnny&amp;Associates has debuted over twenty groups so far. The most famous groups of today include SMAP(debuted in 1991), TOKIO(1994), V6(1996), Kinki Kids(1997), Arashi(1999), Tackey and Tsubasa(2001), NewS(2003), Kanjani∞(2005), KAT-TUN(2006), and Hey! Say! JUMP(2007)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4" name="그림 7" descr="heysayjumpheysayjump.jpg"/>
          <p:cNvPicPr/>
          <p:nvPr/>
        </p:nvPicPr>
        <p:blipFill>
          <a:blip r:embed="rId1"/>
          <a:stretch/>
        </p:blipFill>
        <p:spPr>
          <a:xfrm>
            <a:off x="4643280" y="1628640"/>
            <a:ext cx="3929400" cy="2372040"/>
          </a:xfrm>
          <a:prstGeom prst="rect">
            <a:avLst/>
          </a:prstGeom>
          <a:ln w="0">
            <a:noFill/>
          </a:ln>
        </p:spPr>
      </p:pic>
      <p:pic>
        <p:nvPicPr>
          <p:cNvPr id="1045" name="그림 8" descr="imagesCA7O2IJ0.jpg"/>
          <p:cNvPicPr/>
          <p:nvPr/>
        </p:nvPicPr>
        <p:blipFill>
          <a:blip r:embed="rId2"/>
          <a:stretch/>
        </p:blipFill>
        <p:spPr>
          <a:xfrm>
            <a:off x="5435640" y="4076640"/>
            <a:ext cx="2357280" cy="235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그림 1" descr="wallpaper-arashi-co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2"/>
          <p:cNvSpPr/>
          <p:nvPr/>
        </p:nvSpPr>
        <p:spPr>
          <a:xfrm>
            <a:off x="1143000" y="100008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ありがとうごさいま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Y목판L"/>
                <a:ea typeface="HY목판L"/>
              </a:rPr>
              <a:t>CHAR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Traditional music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New Age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J-Pop 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International musician 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Johnnys &amp; Association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Traditional Music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02944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There are a several types of Japanese traditional music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764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-고딩M"/>
              </a:rPr>
              <a:t>が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ncient court music from China and Korea. It is the oldest type of Japanese, traditional music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びわ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4" action="ppaction://hlinksldjump"/>
              </a:rPr>
              <a:t>Biwa,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 kind of guitar with four string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のほ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during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6" action="ppaction://hlinksldjump"/>
              </a:rPr>
              <a:t>Noh performances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t basically consists of a chorus, the Hayashi flute, the Tsuzumi drum, and other instrument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そきょ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8" action="ppaction://hlinksldjump"/>
              </a:rPr>
              <a:t>Koto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type of zither with 13 strings. Later also accompanied by Shamisen and Shakuhachi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しぁくはち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10" action="ppaction://hlinksldjump"/>
              </a:rPr>
              <a:t>Shakuhachi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bamboo flute that is about 55 cm long. The name of the flute is its length expressed in 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</a:rPr>
              <a:t>shaku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an old Japanese unit of length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しぁみせのん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12" action="ppaction://hlinksldjump"/>
              </a:rPr>
              <a:t>Shamisen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kind of guitar with only three strings. Kabuki and Bunraku performances are accompanied by the shamisen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みんよ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Japanese folk song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6" name="雅楽：越天楽  Gagaku-Etenraku.mp3" descr=""/>
          <p:cNvPicPr/>
          <p:nvPr/>
        </p:nvPicPr>
        <p:blipFill>
          <a:blip r:embed="rId14"/>
          <a:stretch/>
        </p:blipFill>
        <p:spPr>
          <a:xfrm>
            <a:off x="1571760" y="1643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7" name="HeikeOdori(Japanese Minyo).mp3" descr=""/>
          <p:cNvPicPr/>
          <p:nvPr/>
        </p:nvPicPr>
        <p:blipFill>
          <a:blip r:embed="rId15"/>
          <a:stretch/>
        </p:blipFill>
        <p:spPr>
          <a:xfrm>
            <a:off x="1571760" y="5572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06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06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582059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00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0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82795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그림 5" descr="untitled.bmp"/>
          <p:cNvPicPr/>
          <p:nvPr/>
        </p:nvPicPr>
        <p:blipFill>
          <a:blip r:embed="rId1"/>
          <a:stretch/>
        </p:blipFill>
        <p:spPr>
          <a:xfrm>
            <a:off x="5815080" y="0"/>
            <a:ext cx="3328920" cy="2103480"/>
          </a:xfrm>
          <a:prstGeom prst="rect">
            <a:avLst/>
          </a:prstGeom>
          <a:ln w="0">
            <a:noFill/>
          </a:ln>
        </p:spPr>
      </p:pic>
      <p:pic>
        <p:nvPicPr>
          <p:cNvPr id="1009" name="그림 6" descr="Shakuhachi_Set_1-anak1981.jpg"/>
          <p:cNvPicPr/>
          <p:nvPr/>
        </p:nvPicPr>
        <p:blipFill>
          <a:blip r:embed="rId2"/>
          <a:stretch/>
        </p:blipFill>
        <p:spPr>
          <a:xfrm>
            <a:off x="6467400" y="4037040"/>
            <a:ext cx="2676600" cy="2820960"/>
          </a:xfrm>
          <a:prstGeom prst="rect">
            <a:avLst/>
          </a:prstGeom>
          <a:ln w="0">
            <a:noFill/>
          </a:ln>
        </p:spPr>
      </p:pic>
      <p:sp>
        <p:nvSpPr>
          <p:cNvPr id="1010" name="TextBox 7"/>
          <p:cNvSpPr/>
          <p:nvPr/>
        </p:nvSpPr>
        <p:spPr>
          <a:xfrm>
            <a:off x="6983280" y="20001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t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こ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8"/>
          <p:cNvSpPr/>
          <p:nvPr/>
        </p:nvSpPr>
        <p:spPr>
          <a:xfrm>
            <a:off x="4857840" y="542916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kuha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ゃくは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그림 9" descr="biwa.jpg"/>
          <p:cNvPicPr/>
          <p:nvPr/>
        </p:nvPicPr>
        <p:blipFill>
          <a:blip r:embed="rId3"/>
          <a:stretch/>
        </p:blipFill>
        <p:spPr>
          <a:xfrm>
            <a:off x="0" y="4324320"/>
            <a:ext cx="2571840" cy="2533680"/>
          </a:xfrm>
          <a:prstGeom prst="rect">
            <a:avLst/>
          </a:prstGeom>
          <a:ln w="0">
            <a:noFill/>
          </a:ln>
        </p:spPr>
      </p:pic>
      <p:sp>
        <p:nvSpPr>
          <p:cNvPr id="1013" name="TextBox 10"/>
          <p:cNvSpPr/>
          <p:nvPr/>
        </p:nvSpPr>
        <p:spPr>
          <a:xfrm>
            <a:off x="0" y="38577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wa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び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그림 10" descr="250px-Noh3.jpg"/>
          <p:cNvPicPr/>
          <p:nvPr/>
        </p:nvPicPr>
        <p:blipFill>
          <a:blip r:embed="rId4"/>
          <a:stretch/>
        </p:blipFill>
        <p:spPr>
          <a:xfrm>
            <a:off x="0" y="0"/>
            <a:ext cx="3643200" cy="2681280"/>
          </a:xfrm>
          <a:prstGeom prst="rect">
            <a:avLst/>
          </a:prstGeom>
          <a:ln w="0">
            <a:noFill/>
          </a:ln>
        </p:spPr>
      </p:pic>
      <p:pic>
        <p:nvPicPr>
          <p:cNvPr id="1015" name="그림 11" descr="images.jpg"/>
          <p:cNvPicPr/>
          <p:nvPr/>
        </p:nvPicPr>
        <p:blipFill>
          <a:blip r:embed="rId5"/>
          <a:stretch/>
        </p:blipFill>
        <p:spPr>
          <a:xfrm>
            <a:off x="2500200" y="4714920"/>
            <a:ext cx="2357640" cy="2143080"/>
          </a:xfrm>
          <a:prstGeom prst="rect">
            <a:avLst/>
          </a:prstGeom>
          <a:ln w="0">
            <a:noFill/>
          </a:ln>
        </p:spPr>
      </p:pic>
      <p:sp>
        <p:nvSpPr>
          <p:cNvPr id="1016" name="직사각형 12"/>
          <p:cNvSpPr/>
          <p:nvPr/>
        </p:nvSpPr>
        <p:spPr>
          <a:xfrm>
            <a:off x="2643120" y="400068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m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みせ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직사각형 13"/>
          <p:cNvSpPr/>
          <p:nvPr/>
        </p:nvSpPr>
        <p:spPr>
          <a:xfrm>
            <a:off x="0" y="264312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h Performance(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の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그림 3" descr="32_ilosnow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New age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837720" y="1428840"/>
            <a:ext cx="80074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New age is music of various styles, which is intended to create inspiration, relaxation, and positive feelings, often used by listeners for yoga, massage, inspiration, relaxation, meditation and reading as a method of stress management or to create a peaceful atmosphere in their home or other environments often associated with environmentalism and New Age spirituality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lnSpc>
                <a:spcPct val="15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The most famous New Age music artists are Japanese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Yuki Guramoto</a:t>
            </a:r>
            <a:r>
              <a:rPr b="1" lang="ja-JP" sz="1900" spc="-1" strike="noStrike">
                <a:solidFill>
                  <a:srgbClr val="ffffff"/>
                </a:solidFill>
                <a:latin typeface="굴림"/>
                <a:ea typeface="MS PGothic"/>
              </a:rPr>
              <a:t>（ゆき　ぐらもと）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is called the father of new age music in the world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Also Hisaishi</a:t>
            </a:r>
            <a:r>
              <a:rPr b="1" lang="ja-JP" sz="1900" spc="-1" strike="noStrike">
                <a:solidFill>
                  <a:srgbClr val="ffffff"/>
                </a:solidFill>
                <a:latin typeface="굴림"/>
                <a:ea typeface="MS PGothic"/>
              </a:rPr>
              <a:t>（ひさいし）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Joe and Ryuischi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Sakamoto are the famous artist, too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the reason why Japanese' new age music are popular is because the music is introduced through Japanese animation suitably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그림 12" descr="6_ilosnow.gif"/>
          <p:cNvPicPr/>
          <p:nvPr/>
        </p:nvPicPr>
        <p:blipFill>
          <a:blip r:embed="rId2"/>
          <a:stretch/>
        </p:blipFill>
        <p:spPr>
          <a:xfrm>
            <a:off x="0" y="0"/>
            <a:ext cx="9275760" cy="6858000"/>
          </a:xfrm>
          <a:prstGeom prst="rect">
            <a:avLst/>
          </a:prstGeom>
          <a:ln w="0">
            <a:noFill/>
          </a:ln>
        </p:spPr>
      </p:pic>
      <p:pic>
        <p:nvPicPr>
          <p:cNvPr id="1022" name="그림 6" descr="joe-hisaishi.jpg"/>
          <p:cNvPicPr/>
          <p:nvPr/>
        </p:nvPicPr>
        <p:blipFill>
          <a:blip r:embed="rId3"/>
          <a:stretch/>
        </p:blipFill>
        <p:spPr>
          <a:xfrm>
            <a:off x="0" y="0"/>
            <a:ext cx="4243320" cy="3962520"/>
          </a:xfrm>
          <a:prstGeom prst="rect">
            <a:avLst/>
          </a:prstGeom>
          <a:ln w="0">
            <a:noFill/>
          </a:ln>
        </p:spPr>
      </p:pic>
      <p:pic>
        <p:nvPicPr>
          <p:cNvPr id="1023" name="그림 7" descr="767485.jpg"/>
          <p:cNvPicPr/>
          <p:nvPr/>
        </p:nvPicPr>
        <p:blipFill>
          <a:blip r:embed="rId4"/>
          <a:stretch/>
        </p:blipFill>
        <p:spPr>
          <a:xfrm>
            <a:off x="728676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024" name="그림 8" descr="lake louise.jpg"/>
          <p:cNvPicPr/>
          <p:nvPr/>
        </p:nvPicPr>
        <p:blipFill>
          <a:blip r:embed="rId5"/>
          <a:stretch/>
        </p:blipFill>
        <p:spPr>
          <a:xfrm>
            <a:off x="4929120" y="1571760"/>
            <a:ext cx="4214880" cy="2514600"/>
          </a:xfrm>
          <a:prstGeom prst="rect">
            <a:avLst/>
          </a:prstGeom>
          <a:ln w="0">
            <a:noFill/>
          </a:ln>
        </p:spPr>
      </p:pic>
      <p:pic>
        <p:nvPicPr>
          <p:cNvPr id="1025" name="그림 9" descr="ryuichi-sakamoto.jpg"/>
          <p:cNvPicPr/>
          <p:nvPr/>
        </p:nvPicPr>
        <p:blipFill>
          <a:blip r:embed="rId6"/>
          <a:stretch/>
        </p:blipFill>
        <p:spPr>
          <a:xfrm>
            <a:off x="0" y="4495680"/>
            <a:ext cx="3548160" cy="2362320"/>
          </a:xfrm>
          <a:prstGeom prst="rect">
            <a:avLst/>
          </a:prstGeom>
          <a:ln w="0">
            <a:noFill/>
          </a:ln>
        </p:spPr>
      </p:pic>
      <p:pic>
        <p:nvPicPr>
          <p:cNvPr id="1026" name="그림 11" descr="mrlawrenceost_cover.jpg"/>
          <p:cNvPicPr/>
          <p:nvPr/>
        </p:nvPicPr>
        <p:blipFill>
          <a:blip r:embed="rId7"/>
          <a:stretch/>
        </p:blipFill>
        <p:spPr>
          <a:xfrm>
            <a:off x="3500280" y="4500720"/>
            <a:ext cx="2857680" cy="2357280"/>
          </a:xfrm>
          <a:prstGeom prst="rect">
            <a:avLst/>
          </a:prstGeom>
          <a:ln w="0">
            <a:noFill/>
          </a:ln>
        </p:spPr>
      </p:pic>
      <p:sp>
        <p:nvSpPr>
          <p:cNvPr id="1027" name="TextBox 12"/>
          <p:cNvSpPr/>
          <p:nvPr/>
        </p:nvSpPr>
        <p:spPr>
          <a:xfrm>
            <a:off x="0" y="41432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るゅいち さかも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13"/>
          <p:cNvSpPr/>
          <p:nvPr/>
        </p:nvSpPr>
        <p:spPr>
          <a:xfrm>
            <a:off x="4929120" y="5716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くらもと ゆう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14"/>
          <p:cNvSpPr/>
          <p:nvPr/>
        </p:nvSpPr>
        <p:spPr>
          <a:xfrm>
            <a:off x="4311720" y="0"/>
            <a:ext cx="5461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ひさい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ぞ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Yuhki Kuramoto 'Lake Louise'.mp3" descr=""/>
          <p:cNvPicPr/>
          <p:nvPr/>
        </p:nvPicPr>
        <p:blipFill>
          <a:blip r:embed="rId8"/>
          <a:stretch/>
        </p:blipFill>
        <p:spPr>
          <a:xfrm>
            <a:off x="514836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31" name="Ryuichi Sakamoto - Rain.mp3" descr=""/>
          <p:cNvPicPr/>
          <p:nvPr/>
        </p:nvPicPr>
        <p:blipFill>
          <a:blip r:embed="rId9"/>
          <a:stretch/>
        </p:blipFill>
        <p:spPr>
          <a:xfrm>
            <a:off x="0" y="4643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2" name="菊次郎の夏　summer.mp3" descr=""/>
          <p:cNvPicPr/>
          <p:nvPr/>
        </p:nvPicPr>
        <p:blipFill>
          <a:blip r:embed="rId10"/>
          <a:stretch/>
        </p:blipFill>
        <p:spPr>
          <a:xfrm>
            <a:off x="3851280" y="357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03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3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86304" fill="hold"/>
                                        <p:tgtEl>
                                          <p:spTgt spid="10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28256" fill="hold"/>
                                        <p:tgtEl>
                                          <p:spTgt spid="10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15723" fill="hold"/>
                                        <p:tgtEl>
                                          <p:spTgt spid="10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-Pop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  <a:ea typeface="HY바다L"/>
              </a:rPr>
              <a:t>J- Pop means ‘Japanese pop’ but is also a loosely defined musical genre that entered the musical mainstream of Japan in the 1990s. 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  <a:ea typeface="HY바다L"/>
              </a:rPr>
              <a:t>The Japanese music industry is the second largest country in the world. 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</a:rPr>
              <a:t>The Most j-pop singers are organized by in a group. The largest group of j-pop singer is 108 members in a group.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</a:rPr>
              <a:t>It was coined by the Japanese media to distinguish Japanese music from foreign music and now refers to most of Japanese popular music.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1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" dur="20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97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03dff"/>
                </a:solidFill>
                <a:latin typeface="HY얕은샘물M"/>
                <a:ea typeface="HY얕은샘물M"/>
              </a:rPr>
              <a:t>J-Pop</a:t>
            </a:r>
            <a:endParaRPr b="0" lang="en-US" sz="8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6" name="동영상_0001.wmv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036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03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10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그림 3" descr="10_ilosnow.gif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HY목각파임B"/>
                <a:ea typeface="HY목각파임B"/>
              </a:rPr>
              <a:t>International musicians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In Japan, there are many international musicians; Caucasian(American, Canadians, Australian, Korean, Chinese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HY센스L"/>
              </a:rPr>
              <a:t>…</a:t>
            </a: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.)</a:t>
            </a:r>
            <a:endParaRPr b="0" lang="en-US" sz="3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Because people wants to listen more variety songs.</a:t>
            </a:r>
            <a:endParaRPr b="0" lang="en-US" sz="3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68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68" fill="hold"/>
                                        <p:tgtEl>
                                          <p:spTgt spid="10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68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7:57:29Z</dcterms:created>
  <dc:creator>SD#34</dc:creator>
  <dc:description/>
  <dc:language>en-US</dc:language>
  <cp:lastModifiedBy>Owner</cp:lastModifiedBy>
  <dcterms:modified xsi:type="dcterms:W3CDTF">2009-12-17T05:45:15Z</dcterms:modified>
  <cp:revision>66</cp:revision>
  <dc:subject/>
  <dc:title> JAPANESE MUSIC </dc:title>
</cp:coreProperties>
</file>