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7.png" ContentType="image/png"/>
  <Override PartName="/ppt/media/image10.jpeg" ContentType="image/jpeg"/>
  <Override PartName="/ppt/media/image5.png" ContentType="image/png"/>
  <Override PartName="/ppt/media/image4.wmf" ContentType="image/x-wmf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2AB-AC22-470A-AF28-2DBD3F73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494-6B0F-4874-837F-D68D9C69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B36C2E-30E0-4CAA-A548-98D43270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82099C-38C8-4964-93A2-215B8BB9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6E00E0-A91D-4EDD-B2B6-DFE2AF7C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6FB842-F0DE-4A7A-9EFA-48048378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04D22D-40AE-4CAB-BDD6-79AC1C5C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B6AFD7-1B3A-4D06-B55B-79A6B7B0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5D9ECD-B52A-4818-8918-6878CA5A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EAAAFF-58DD-47F0-A663-E09CF646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CBE059-6D6C-4D17-AB27-FE709498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28605-AAC3-4141-BD6C-0439A524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470-D756-46EA-B99E-C7921101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C002F-63A5-40B6-9721-119B3DBC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324C7-8A84-43A9-9896-26D37FA7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30D3D-1F6A-46DA-AEB0-9EF72264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05BC0-7220-4CB6-83E8-78324338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7546B-E873-428B-A843-AD7D41C3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D5E1E-60A6-42BE-BC10-BD78D202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BA694-A945-4B53-ACE8-C19ED561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83354-6FA9-4341-A0A4-4168CEA0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B6927-FDB4-4B48-94D7-C7C97888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3CC13-04D2-42E5-83B8-20612516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656A-DEC0-457F-B1D0-1E4BECC5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F5C63-7911-4557-B3B8-410D6833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4EE7F-1730-401A-8BA6-95840F34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2E83B-4545-413A-8CEF-1430F5E4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D1FE3-3180-4BE1-BC11-5DF1CFAA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36BB6-47BE-487C-9B0A-8C623207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14920-021F-4F92-A3E3-138A985F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AF039-7554-4C42-B161-05F8C39C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3552B-BC34-4001-AB48-7722EE75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80153-F99F-4D8B-AA2E-035ADD32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77FD4-79EE-4ED2-876F-57FED0D3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588C-0F27-4256-9485-A06CE87C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04956-1109-4553-8781-A6CE90CB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9E6F5-1EA7-4232-8365-E88C64BE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1ED3A-E0B7-473E-AF80-BA2862CF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6E1B3-DCDC-4B6E-A5A7-E39BA832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F0A21-089E-4864-A5B0-C1C22720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070FA-40DF-47A1-9EEF-5D061DBB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1A29C-F907-4A69-984B-3C8B29AC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9D654-7C77-444C-81EB-DF673D90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42F13-8981-446F-B870-9D9FCE03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8DFC7-4C93-4285-873B-C1793D2F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EFE8-F603-49D9-8094-EA0D3BAD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4EC42-14A2-4574-BA39-C69B8BEA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82C2F-948A-4006-9308-A6236CD9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444AD-F60C-4151-A30E-C94ABE18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DA36F-4CA5-40DD-8183-465DAA7C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767F0-0262-4E3C-882E-53B7454D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9682C-A511-466D-B02C-13543547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7F5B6B-28C3-488C-A089-347088B6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6E038-859C-433F-B6E1-6351994A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9524E-9259-4E11-855F-58AC2AE2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D208B-37E5-4BF7-BB97-CEF80898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B340-659F-4000-80E0-D83787C8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8358C-C650-4CBC-B858-9C616E24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746D0-82FC-49A6-AD48-3BBD28D8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5AAE53-CB95-444E-9287-AAD3F73A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3432B0-DFC6-45B7-928A-FD8CF8E3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F5160-7927-4782-B6AC-43274FC9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7F58B-8D96-483E-BB9F-ECE01755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BBFF4-FA3E-4EE4-B7E9-A30DBDB8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1CE27B-F2FE-4D5F-9B80-D8F67148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CE95A0-0482-4ACD-B0F4-3FD551FD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D05D06-6AFD-49B2-9C2D-67ED7243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13A1-70A6-4CD3-B006-45B2B953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D01E9F-3099-44A9-8C1E-910A3872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0CFAAC-C331-4712-B474-EB254007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359A60-44C0-4DE4-BD81-73636A90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3F6540B-A52E-4701-BEE6-0A978A41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59AA06-3E6F-4015-9829-ED238A30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3C2CFC-84F9-43DE-9412-495C3766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C04B2F-A17E-4A70-A69A-0946816C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304215-49F3-414C-83EC-D744B834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388CC8-300E-4117-BF1D-63A79C9B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B5370-A039-4408-AA34-A22F4A11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B162-75D8-485E-8675-D5CA6119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3D6A3-CCFB-43B8-8D54-96299D24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8F62EE-13B9-4873-9A4C-B87A42A0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FCB307-49D9-45A7-AF54-E34232D4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472146-4B18-4EAC-BE4F-36AAC73B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132E38-8FC1-4BD8-98D7-E6D63A9E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3D469-505F-4CE2-95FC-725DD723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75B88D-4D72-4A11-95FC-1CE7C372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BC4933-4FB6-4BB1-AEE8-0D57DEC5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7C8177-31B1-45FD-9FBF-585C6C02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9A4282-BD19-49D9-848C-ECCEF551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FE83-1A94-4B3E-99C3-6169727E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F038D-983A-4A27-A79D-DC20EA2D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E7268-CE92-42C8-A80E-D7DC7214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F8C178-9756-468C-B7E0-154D568E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AE1287-A37D-4814-BF02-F3D6A26C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50D85A-BE79-4D3D-8C57-5165B3F4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F44FB5-4FEC-48AB-A252-E3888EA7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65A755-A845-4A64-B72A-94515131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B8BC0-95E2-4DC0-AFAC-2D2579C2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8E95C-832E-4A19-9B74-0B44B65B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524D8B-4307-47D8-8459-20548380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CAE9-A355-423E-B79D-A5451169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F8200F-ECDE-456E-9F81-D92ED3B5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2C8B1-66AD-4DAF-9A51-B8F7CA9F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CB4393-22E1-4ACA-9F85-2236F68C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1FAEDE-6D69-40C4-B9C9-863974EB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1A1A5-E435-4CED-900D-0CCFB02E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82C9C6-1C62-4365-A2F2-7CCF6A36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9A1BD0-67F0-42F9-BF9D-D506D213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2E3BA2-6434-47C0-8BCC-A0797332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CBB4BD-84E4-4F27-BD84-488A44F7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891BDC-D0B0-4348-8A71-5F833EE4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826-AEBA-48C5-9633-115AC49A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F0C4-F74A-4223-944F-4EC1CD92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1FD01-31E8-4273-B637-29CF674E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575533-8DC5-498A-A70B-DAD9633F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354853-3AFC-4E61-8E6B-55122205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21CA14-4959-4436-B736-BB502386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6F49E-9EF0-46C0-B802-976170E3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B2C3AD-86F3-471F-8F68-872310DA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A766D-87E2-42A7-9971-7C8EEA07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B88B83-90A6-45B7-A471-E2B72E2C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049F4C-0C0C-4BE9-8E54-B4B29BF2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247C4F-DAF1-49C0-83B6-D5886B61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8140-0595-487B-A68D-649EC657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1E4832-CD3D-4F77-A9C6-AA4583A5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C76426-EB6B-406C-A2E0-7B9400CF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3DEB75-96E8-4B78-96F0-B66B8729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3FBE35-18DB-4C9E-8BA0-6461F726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71F912-3262-429F-9797-383B9AE1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429ACD-8E10-45DB-9FE3-6C3C5C46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A9D747-B2E7-4D7F-83A0-1A7CB7E0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D17E-9160-4687-A597-620C6677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6F30-B3A9-47E0-9E3B-8579D780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969E-840F-4692-833F-B83A987C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FF42C-6123-4D97-988A-95593A9A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7256-DE00-44BD-B7CE-9A824B4D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CD81-29DB-4189-AA70-3C8A633E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58D60-E759-445C-9CA1-6D5AF30E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868C3-02AD-4093-B4F0-39499AC6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920-C917-417A-9CFC-E9A1A6B4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B4B93-17D8-4FE9-9C2A-31B345F5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B80B1-EB1E-4175-B6C1-5A9A1878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4D6D-CE16-4039-B3F0-3FFB3B6F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52249-2C5D-4C75-9F21-DA590696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D9E7-9D2E-48CE-9742-C85775F5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EE13-C568-42B0-986D-7B7DC4B6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F4CA-27F3-4CBC-A0B0-922920D3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532CD-41DF-449A-A10C-99C297D7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E6C18-AF6A-417D-84B6-8ACF5790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8ABB9-10FA-4FB6-BE17-728F64A5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E68B-C911-44CB-9090-520ACF6E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64706-5B26-4512-B6B8-5E3A2E5E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C246F-EE68-4370-BDF9-47CE621E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0A336-73A0-412A-AC74-ACD8D3D5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58EDA-4331-4ADC-BF41-084767A3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73D93-FE72-499B-933C-D1F5C8F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45662-23B6-4C9D-B7BF-F5AB41EB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B2CD5-D2C9-4FA8-B042-99348131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3924-2B5D-4D7D-8092-7597C7B6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B2FD9-66B3-42D8-B921-577E6589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B46E0-8DDB-4562-923B-72495BED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433-A30F-472B-B956-7BB95500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6CF1E-424C-4ACC-8DED-E8551D2C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6B678-9853-457B-AAD6-BB819663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0ECEB-6F94-429D-AFD9-7CF8DF89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B358F-5953-4F6F-950A-59F94111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C72B5-4301-4762-A22D-06721B2E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C215A-7A45-45C9-A0CE-6F499C2E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C72FD-C45D-4F5A-9CE2-A765619E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B55F0-585D-41AF-A882-1DD455D7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6CEDC-B59C-4CC9-84B9-7FBFAD1E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CC135-7AE0-492E-B56F-4419B2DB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DED8-7917-470D-8578-72F4D887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AF3B9-08B2-4E92-B60C-CA1945B7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6301A-D106-4455-A6D3-1CBA7FBA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12835-71C4-45B4-B076-61280A34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F972C-280D-4D52-A51E-20543C30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0099F-FA8B-42EE-9AAC-2D95483E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C5EBB-083C-45ED-B41E-E36080D8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9C303-B41F-4B10-89C5-0AC23E3A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483CE-72AD-4DB7-B7D9-689EE794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9F4AE-C74F-4C0A-A58E-D61785D9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466C0-C6AE-454D-9D80-86265EF3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E56-B2D0-4EA2-B6FA-8889BA7D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67732-1273-474B-8924-6C13E2E3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37975-A236-4183-A6AA-5F5F2372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78D72-E307-44B8-BD7E-33111503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AE7F6-540C-4D7D-AD81-E7C023B6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15A11-E2B3-48F3-A67F-60A035EB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2ED76-71F1-4B98-B80E-4CC50787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56DFB-4989-4C5B-92D3-374ED3CF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6D41F-E466-4903-A19B-327B3111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9D7E3-FB7F-4A5E-B064-F4D03251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7AC15-C1D6-4695-8C9B-06ED7F21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486-714A-4ED2-BE11-266C55C4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7165D-8E09-4438-9F0E-B0F12CE7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EAA95-D0D3-44AE-AEAE-26F7522B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46FFD-38ED-440F-9002-04B4B68B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311FF-5A93-4B55-B073-5261B33C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2E011-AE8E-49A7-B50C-1E4AB80E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5A0B0-586E-48D1-8C97-D799726F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71FAB-B529-407D-8413-8AA40DA5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A3902-CC8A-4523-942A-23CBDF93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A00FB-EF95-4E29-A5E2-76C56320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8CF2E-1ABD-4A0D-83C6-9FF92CF0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BE3-E2C8-455E-BA0D-842233B4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2E545-ADDC-4801-A8CA-BE2825A5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8F5A0-7DC8-486F-B2B5-DAB0B5FA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7485A-E156-4868-AE0C-C6AECE24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BDFE5-7690-4282-9010-F8772D8B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330D3-3843-46AF-8106-6BB4A73A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DCE5B-A531-476D-973B-7E26BF1F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1D604-BE12-4CD8-A23A-2C30CDBD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2D2FC9-D551-4EC9-A17A-D7835A06B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8539FB-AC5D-426B-8B20-4D574F01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7B8337-1282-425C-90E9-BF47F75F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6A11-2A4C-4C8B-A78D-5BFFB6F28C1D}" type="slidenum"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0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392D-F9C8-475A-B97B-21F733F87AEA}" type="slidenum"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2"/>
          <p:cNvSpPr/>
          <p:nvPr/>
        </p:nvSpPr>
        <p:spPr>
          <a:xfrm>
            <a:off x="838080" y="2273400"/>
            <a:ext cx="7772400" cy="11588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91bbb6"/>
              </a:gs>
              <a:gs pos="100000">
                <a:srgbClr val="cade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6350-29F6-4CAE-BDD5-2B4FB1404A88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28AC-4C32-462C-A6A8-88A92B6068C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7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3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3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A846-23A2-4707-A2E7-76023A4924A1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FFFA-979F-4B99-B6E3-E8C0CA04C746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650F-66F4-4ABD-955A-DF4ADDD0E643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Line 2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4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9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0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2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13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7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45" name="Group 20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6" name="Rectangle 21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22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23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24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25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Rectangle 26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Oval 27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8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9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30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6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47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6941-7E8F-4374-A316-5B19768F1ECC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9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0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4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5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5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A99B-AEEC-41CA-A19A-A7EF374173E0}" type="slidenum">
              <a:rPr b="1" lang="ko-KR" sz="2600" spc="-1" strike="noStrike">
                <a:solidFill>
                  <a:srgbClr val="ffffff"/>
                </a:solidFill>
                <a:latin typeface="굴림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C0F9-B4FD-4A32-89FB-AE10210ABB6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2"/>
          <p:cNvSpPr/>
          <p:nvPr/>
        </p:nvSpPr>
        <p:spPr>
          <a:xfrm>
            <a:off x="685800" y="228600"/>
            <a:ext cx="8153280" cy="1158840"/>
          </a:xfrm>
          <a:custGeom>
            <a:avLst/>
            <a:gdLst>
              <a:gd name="textAreaLeft" fmla="*/ 0 w 8153280"/>
              <a:gd name="textAreaRight" fmla="*/ 8153640 w 815328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91bbb6"/>
              </a:gs>
              <a:gs pos="100000">
                <a:srgbClr val="d4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4AF1-7A3B-4B44-9C26-4966180CFA6A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2CE6-DC93-479B-9EC7-577A3DFB0F1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4916-4C1E-41E5-BEC5-314970991200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948B-2394-4BC4-AF2B-ACA0DB5DDB96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C2FF-7A26-4C32-8929-494D776F48E7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6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7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7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9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9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1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3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365" name="Rectangle 24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25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4AF5-3761-4825-8B6C-51244EA626DB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0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1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1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A8DD-4E7B-44A6-B93E-1019F0E7D0F4}" type="slidenum">
              <a:rPr b="1" lang="ko-KR" sz="2600" spc="-1" strike="noStrike">
                <a:solidFill>
                  <a:srgbClr val="ffffff"/>
                </a:solidFill>
                <a:latin typeface="굴림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98B2-E3F7-432B-B20B-73AFB9EDE11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4.xml"/><Relationship Id="rId5" Type="http://schemas.openxmlformats.org/officeDocument/2006/relationships/image" Target="../media/image7.png"/><Relationship Id="rId6" Type="http://schemas.openxmlformats.org/officeDocument/2006/relationships/slide" Target="slide4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image" Target="../media/image7.png"/><Relationship Id="rId12" Type="http://schemas.openxmlformats.org/officeDocument/2006/relationships/slide" Target="slide4.xml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그림 3" descr="25_ilosnow.gif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6600" spc="-1" strike="noStrike">
                <a:solidFill>
                  <a:srgbClr val="3d62f5"/>
                </a:solidFill>
                <a:latin typeface="Comic Sans MS"/>
              </a:rPr>
              <a:t>JAPANESE</a:t>
            </a:r>
            <a:br>
              <a:rPr sz="6600"/>
            </a:br>
            <a:r>
              <a:rPr b="0" lang="en-US" sz="6600" spc="-1" strike="noStrike">
                <a:solidFill>
                  <a:srgbClr val="3d62f5"/>
                </a:solidFill>
                <a:latin typeface="Comic Sans MS"/>
              </a:rPr>
              <a:t>MUSIC</a:t>
            </a: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2269800" y="3794040"/>
            <a:ext cx="46782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Yesle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iyeon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BLK:B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HY목각파임B"/>
                <a:ea typeface="HY목각파임B"/>
              </a:rPr>
              <a:t>International Musician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93080" cy="396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68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68" fill="hold"/>
                                        <p:tgtEl>
                                          <p:spTgt spid="10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68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4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4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10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ohnnys &amp;associ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85480" y="1571760"/>
            <a:ext cx="442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Johnny&amp;Associates (</a:t>
            </a:r>
            <a:r>
              <a:rPr b="1" lang="ja-JP" sz="1600" spc="-1" strike="noStrike">
                <a:solidFill>
                  <a:srgbClr val="000000"/>
                </a:solidFill>
                <a:latin typeface="Candara"/>
                <a:ea typeface="HY바다L"/>
              </a:rPr>
              <a:t>ジャニーズ</a:t>
            </a:r>
            <a:r>
              <a:rPr b="1" lang="ko-KR" sz="1600" spc="-1" strike="noStrike">
                <a:solidFill>
                  <a:srgbClr val="000000"/>
                </a:solidFill>
                <a:latin typeface="Candara"/>
                <a:ea typeface="HY바다L"/>
              </a:rPr>
              <a:t>事務所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, janīzu jimusho), a well-known boys idol entertainment company in Japan, was established in 1963 by Johnny Kitagawa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It accepts and trains talented boys and promotes their debuts to the entertainment industry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Starting with group name "Johnnys" in 1962, Johnny&amp;Associates has debuted over twenty groups so far. The most famous groups of today include SMAP(debuted in 1991), TOKIO(1994), V6(1996), Kinki Kids(1997), Arashi(1999), Tackey and Tsubasa(2001), NewS(2003), Kanjani∞(2005), KAT-TUN(2006), and Hey! Say! JUMP(2007)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4" name="그림 7" descr="heysayjumpheysayjump.jpg"/>
          <p:cNvPicPr/>
          <p:nvPr/>
        </p:nvPicPr>
        <p:blipFill>
          <a:blip r:embed="rId1"/>
          <a:stretch/>
        </p:blipFill>
        <p:spPr>
          <a:xfrm>
            <a:off x="4643280" y="1628640"/>
            <a:ext cx="3929400" cy="2372040"/>
          </a:xfrm>
          <a:prstGeom prst="rect">
            <a:avLst/>
          </a:prstGeom>
          <a:ln w="0">
            <a:noFill/>
          </a:ln>
        </p:spPr>
      </p:pic>
      <p:pic>
        <p:nvPicPr>
          <p:cNvPr id="1045" name="그림 8" descr="imagesCA7O2IJ0.jpg"/>
          <p:cNvPicPr/>
          <p:nvPr/>
        </p:nvPicPr>
        <p:blipFill>
          <a:blip r:embed="rId2"/>
          <a:stretch/>
        </p:blipFill>
        <p:spPr>
          <a:xfrm>
            <a:off x="5435640" y="407664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그림 1" descr="wallpaper-arashi-c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2"/>
          <p:cNvSpPr/>
          <p:nvPr/>
        </p:nvSpPr>
        <p:spPr>
          <a:xfrm>
            <a:off x="1143000" y="100008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さいま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Y목판L"/>
                <a:ea typeface="HY목판L"/>
              </a:rPr>
              <a:t>CHAR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Traditional music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New Age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J-Pop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International musician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Johnnys &amp; Association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Traditional Music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0294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There are a several types of Japanese traditional music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764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-고딩M"/>
              </a:rPr>
              <a:t>が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ncient court music from China and Korea. It is the oldest type of Japanese, traditional music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びわ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4" action="ppaction://hlinksldjump"/>
              </a:rPr>
              <a:t>Biwa,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 kind of guitar with four string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のほ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during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6" action="ppaction://hlinksldjump"/>
              </a:rPr>
              <a:t>Noh performances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t basically consists of a chorus, the Hayashi flute, the Tsuzumi drum, and other instrument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そきょ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8" action="ppaction://hlinksldjump"/>
              </a:rPr>
              <a:t>Koto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type of zither with 13 strings. Later also accompanied by Shamisen and Shakuhachi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しぁくはち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10" action="ppaction://hlinksldjump"/>
              </a:rPr>
              <a:t>Shakuhachi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bamboo flute that is about 55 cm long. The name of the flute is its length expressed in 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</a:rPr>
              <a:t>shaku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an old Japanese unit of length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しぁみせのん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12" action="ppaction://hlinksldjump"/>
              </a:rPr>
              <a:t>Shamisen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kind of guitar with only three strings. Kabuki and Bunraku performances are accompanied by the shamisen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みんよ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apanese folk song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6" name="雅楽：越天楽  Gagaku-Etenraku.mp3" descr=""/>
          <p:cNvPicPr/>
          <p:nvPr/>
        </p:nvPicPr>
        <p:blipFill>
          <a:blip r:embed="rId14"/>
          <a:stretch/>
        </p:blipFill>
        <p:spPr>
          <a:xfrm>
            <a:off x="1571760" y="1643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7" name="HeikeOdori(Japanese Minyo).mp3" descr=""/>
          <p:cNvPicPr/>
          <p:nvPr/>
        </p:nvPicPr>
        <p:blipFill>
          <a:blip r:embed="rId15"/>
          <a:stretch/>
        </p:blipFill>
        <p:spPr>
          <a:xfrm>
            <a:off x="1571760" y="5572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0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0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582059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2795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그림 5" descr="untitled.bmp"/>
          <p:cNvPicPr/>
          <p:nvPr/>
        </p:nvPicPr>
        <p:blipFill>
          <a:blip r:embed="rId1"/>
          <a:stretch/>
        </p:blipFill>
        <p:spPr>
          <a:xfrm>
            <a:off x="5815080" y="0"/>
            <a:ext cx="3328920" cy="2103480"/>
          </a:xfrm>
          <a:prstGeom prst="rect">
            <a:avLst/>
          </a:prstGeom>
          <a:ln w="0">
            <a:noFill/>
          </a:ln>
        </p:spPr>
      </p:pic>
      <p:pic>
        <p:nvPicPr>
          <p:cNvPr id="1009" name="그림 6" descr="Shakuhachi_Set_1-anak1981.jpg"/>
          <p:cNvPicPr/>
          <p:nvPr/>
        </p:nvPicPr>
        <p:blipFill>
          <a:blip r:embed="rId2"/>
          <a:stretch/>
        </p:blipFill>
        <p:spPr>
          <a:xfrm>
            <a:off x="6467400" y="4037040"/>
            <a:ext cx="2676600" cy="2820960"/>
          </a:xfrm>
          <a:prstGeom prst="rect">
            <a:avLst/>
          </a:prstGeom>
          <a:ln w="0">
            <a:noFill/>
          </a:ln>
        </p:spPr>
      </p:pic>
      <p:sp>
        <p:nvSpPr>
          <p:cNvPr id="1010" name="TextBox 7"/>
          <p:cNvSpPr/>
          <p:nvPr/>
        </p:nvSpPr>
        <p:spPr>
          <a:xfrm>
            <a:off x="6983280" y="20001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t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こ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8"/>
          <p:cNvSpPr/>
          <p:nvPr/>
        </p:nvSpPr>
        <p:spPr>
          <a:xfrm>
            <a:off x="4857840" y="542916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kuha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くは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그림 9" descr="biwa.jpg"/>
          <p:cNvPicPr/>
          <p:nvPr/>
        </p:nvPicPr>
        <p:blipFill>
          <a:blip r:embed="rId3"/>
          <a:stretch/>
        </p:blipFill>
        <p:spPr>
          <a:xfrm>
            <a:off x="0" y="4324320"/>
            <a:ext cx="2571840" cy="2533680"/>
          </a:xfrm>
          <a:prstGeom prst="rect">
            <a:avLst/>
          </a:prstGeom>
          <a:ln w="0">
            <a:noFill/>
          </a:ln>
        </p:spPr>
      </p:pic>
      <p:sp>
        <p:nvSpPr>
          <p:cNvPr id="1013" name="TextBox 10"/>
          <p:cNvSpPr/>
          <p:nvPr/>
        </p:nvSpPr>
        <p:spPr>
          <a:xfrm>
            <a:off x="0" y="38577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wa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び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그림 10" descr="250px-Noh3.jpg"/>
          <p:cNvPicPr/>
          <p:nvPr/>
        </p:nvPicPr>
        <p:blipFill>
          <a:blip r:embed="rId4"/>
          <a:stretch/>
        </p:blipFill>
        <p:spPr>
          <a:xfrm>
            <a:off x="0" y="0"/>
            <a:ext cx="3643200" cy="2681280"/>
          </a:xfrm>
          <a:prstGeom prst="rect">
            <a:avLst/>
          </a:prstGeom>
          <a:ln w="0">
            <a:noFill/>
          </a:ln>
        </p:spPr>
      </p:pic>
      <p:pic>
        <p:nvPicPr>
          <p:cNvPr id="1015" name="그림 11" descr="images.jpg"/>
          <p:cNvPicPr/>
          <p:nvPr/>
        </p:nvPicPr>
        <p:blipFill>
          <a:blip r:embed="rId5"/>
          <a:stretch/>
        </p:blipFill>
        <p:spPr>
          <a:xfrm>
            <a:off x="2500200" y="4714920"/>
            <a:ext cx="2357640" cy="2143080"/>
          </a:xfrm>
          <a:prstGeom prst="rect">
            <a:avLst/>
          </a:prstGeom>
          <a:ln w="0">
            <a:noFill/>
          </a:ln>
        </p:spPr>
      </p:pic>
      <p:sp>
        <p:nvSpPr>
          <p:cNvPr id="1016" name="직사각형 12"/>
          <p:cNvSpPr/>
          <p:nvPr/>
        </p:nvSpPr>
        <p:spPr>
          <a:xfrm>
            <a:off x="2643120" y="400068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m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みせ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직사각형 13"/>
          <p:cNvSpPr/>
          <p:nvPr/>
        </p:nvSpPr>
        <p:spPr>
          <a:xfrm>
            <a:off x="0" y="26431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h Performance(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の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그림 3" descr="32_ilosnow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New age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837720" y="1428840"/>
            <a:ext cx="8007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New age is music of various styles, which is intended to create inspiration, relaxation, and positive feelings, often used by listeners for yoga, massage, inspiration, relaxation, meditation and reading as a method of stress management or to create a peaceful atmosphere in their home or other environments often associated with environmentalism and New Age spirituality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lnSpc>
                <a:spcPct val="15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The most famous New Age music artists are Japanese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Yuki Guramoto</a:t>
            </a:r>
            <a:r>
              <a:rPr b="1" lang="ja-JP" sz="1900" spc="-1" strike="noStrike">
                <a:solidFill>
                  <a:srgbClr val="ffffff"/>
                </a:solidFill>
                <a:latin typeface="굴림"/>
                <a:ea typeface="MS PGothic"/>
              </a:rPr>
              <a:t>（ゆき　ぐらもと）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is called the father of new age music in the world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Also Hisaishi</a:t>
            </a:r>
            <a:r>
              <a:rPr b="1" lang="ja-JP" sz="1900" spc="-1" strike="noStrike">
                <a:solidFill>
                  <a:srgbClr val="ffffff"/>
                </a:solidFill>
                <a:latin typeface="굴림"/>
                <a:ea typeface="MS PGothic"/>
              </a:rPr>
              <a:t>（ひさいし）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Joe and Ryuischi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Sakamoto are the famous artist, too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the reason why Japanese' new age music are popular is because the music is introduced through Japanese animation suitably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그림 12" descr="6_ilosnow.gif"/>
          <p:cNvPicPr/>
          <p:nvPr/>
        </p:nvPicPr>
        <p:blipFill>
          <a:blip r:embed="rId2"/>
          <a:stretch/>
        </p:blipFill>
        <p:spPr>
          <a:xfrm>
            <a:off x="0" y="0"/>
            <a:ext cx="9275760" cy="6858000"/>
          </a:xfrm>
          <a:prstGeom prst="rect">
            <a:avLst/>
          </a:prstGeom>
          <a:ln w="0">
            <a:noFill/>
          </a:ln>
        </p:spPr>
      </p:pic>
      <p:pic>
        <p:nvPicPr>
          <p:cNvPr id="1022" name="그림 6" descr="joe-hisaishi.jpg"/>
          <p:cNvPicPr/>
          <p:nvPr/>
        </p:nvPicPr>
        <p:blipFill>
          <a:blip r:embed="rId3"/>
          <a:stretch/>
        </p:blipFill>
        <p:spPr>
          <a:xfrm>
            <a:off x="0" y="0"/>
            <a:ext cx="4243320" cy="3962520"/>
          </a:xfrm>
          <a:prstGeom prst="rect">
            <a:avLst/>
          </a:prstGeom>
          <a:ln w="0">
            <a:noFill/>
          </a:ln>
        </p:spPr>
      </p:pic>
      <p:pic>
        <p:nvPicPr>
          <p:cNvPr id="1023" name="그림 7" descr="767485.jpg"/>
          <p:cNvPicPr/>
          <p:nvPr/>
        </p:nvPicPr>
        <p:blipFill>
          <a:blip r:embed="rId4"/>
          <a:stretch/>
        </p:blipFill>
        <p:spPr>
          <a:xfrm>
            <a:off x="728676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24" name="그림 8" descr="lake louise.jpg"/>
          <p:cNvPicPr/>
          <p:nvPr/>
        </p:nvPicPr>
        <p:blipFill>
          <a:blip r:embed="rId5"/>
          <a:stretch/>
        </p:blipFill>
        <p:spPr>
          <a:xfrm>
            <a:off x="4929120" y="1571760"/>
            <a:ext cx="4214880" cy="2514600"/>
          </a:xfrm>
          <a:prstGeom prst="rect">
            <a:avLst/>
          </a:prstGeom>
          <a:ln w="0">
            <a:noFill/>
          </a:ln>
        </p:spPr>
      </p:pic>
      <p:pic>
        <p:nvPicPr>
          <p:cNvPr id="1025" name="그림 9" descr="ryuichi-sakamoto.jpg"/>
          <p:cNvPicPr/>
          <p:nvPr/>
        </p:nvPicPr>
        <p:blipFill>
          <a:blip r:embed="rId6"/>
          <a:stretch/>
        </p:blipFill>
        <p:spPr>
          <a:xfrm>
            <a:off x="0" y="4495680"/>
            <a:ext cx="3548160" cy="2362320"/>
          </a:xfrm>
          <a:prstGeom prst="rect">
            <a:avLst/>
          </a:prstGeom>
          <a:ln w="0">
            <a:noFill/>
          </a:ln>
        </p:spPr>
      </p:pic>
      <p:pic>
        <p:nvPicPr>
          <p:cNvPr id="1026" name="그림 11" descr="mrlawrenceost_cover.jpg"/>
          <p:cNvPicPr/>
          <p:nvPr/>
        </p:nvPicPr>
        <p:blipFill>
          <a:blip r:embed="rId7"/>
          <a:stretch/>
        </p:blipFill>
        <p:spPr>
          <a:xfrm>
            <a:off x="3500280" y="4500720"/>
            <a:ext cx="2857680" cy="2357280"/>
          </a:xfrm>
          <a:prstGeom prst="rect">
            <a:avLst/>
          </a:prstGeom>
          <a:ln w="0">
            <a:noFill/>
          </a:ln>
        </p:spPr>
      </p:pic>
      <p:sp>
        <p:nvSpPr>
          <p:cNvPr id="1027" name="TextBox 12"/>
          <p:cNvSpPr/>
          <p:nvPr/>
        </p:nvSpPr>
        <p:spPr>
          <a:xfrm>
            <a:off x="0" y="41432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るゅいち さかも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4929120" y="5716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らもと ゆう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14"/>
          <p:cNvSpPr/>
          <p:nvPr/>
        </p:nvSpPr>
        <p:spPr>
          <a:xfrm>
            <a:off x="4311720" y="0"/>
            <a:ext cx="5461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ひさい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ぞ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Yuhki Kuramoto 'Lake Louise'.mp3" descr=""/>
          <p:cNvPicPr/>
          <p:nvPr/>
        </p:nvPicPr>
        <p:blipFill>
          <a:blip r:embed="rId8"/>
          <a:stretch/>
        </p:blipFill>
        <p:spPr>
          <a:xfrm>
            <a:off x="514836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1" name="Ryuichi Sakamoto - Rain.mp3" descr=""/>
          <p:cNvPicPr/>
          <p:nvPr/>
        </p:nvPicPr>
        <p:blipFill>
          <a:blip r:embed="rId9"/>
          <a:stretch/>
        </p:blipFill>
        <p:spPr>
          <a:xfrm>
            <a:off x="0" y="4643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2" name="菊次郎の夏　summer.mp3" descr=""/>
          <p:cNvPicPr/>
          <p:nvPr/>
        </p:nvPicPr>
        <p:blipFill>
          <a:blip r:embed="rId10"/>
          <a:stretch/>
        </p:blipFill>
        <p:spPr>
          <a:xfrm>
            <a:off x="385128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3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3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86304" fill="hold"/>
                                        <p:tgtEl>
                                          <p:spTgt spid="10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28256" fill="hold"/>
                                        <p:tgtEl>
                                          <p:spTgt spid="10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15723" fill="hold"/>
                                        <p:tgtEl>
                                          <p:spTgt spid="10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-Pop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  <a:ea typeface="HY바다L"/>
              </a:rPr>
              <a:t>J- Pop means ‘Japanese pop’ but is also a loosely defined musical genre that entered the musical mainstream of Japan in the 1990s. 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  <a:ea typeface="HY바다L"/>
              </a:rPr>
              <a:t>The Japanese music industry is the second largest country in the world. 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</a:rPr>
              <a:t>The Most j-pop singers are organized by in a group. The largest group of j-pop singer is 108 members in a group.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</a:rPr>
              <a:t>It was coined by the Japanese media to distinguish Japanese music from foreign music and now refers to most of Japanese popular music.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1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97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03dff"/>
                </a:solidFill>
                <a:latin typeface="HY얕은샘물M"/>
                <a:ea typeface="HY얕은샘물M"/>
              </a:rPr>
              <a:t>J-Pop</a:t>
            </a: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6" name="동영상_0001.wmv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10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그림 3" descr="10_ilosnow.gif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HY목각파임B"/>
                <a:ea typeface="HY목각파임B"/>
              </a:rPr>
              <a:t>International musicians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In Japan, there are many international musicians; Caucasian(American, Canadians, Australian, Korean, Chinese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HY센스L"/>
              </a:rPr>
              <a:t>…</a:t>
            </a: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.)</a:t>
            </a:r>
            <a:endParaRPr b="0" lang="en-US" sz="3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Because people wants to listen more variety songs.</a:t>
            </a:r>
            <a:endParaRPr b="0" lang="en-US" sz="3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68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68" fill="hold"/>
                                        <p:tgtEl>
                                          <p:spTgt spid="10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7:57:29Z</dcterms:created>
  <dc:creator>SD#34</dc:creator>
  <dc:description/>
  <dc:language>en-US</dc:language>
  <cp:lastModifiedBy>Owner</cp:lastModifiedBy>
  <dcterms:modified xsi:type="dcterms:W3CDTF">2009-12-17T05:45:15Z</dcterms:modified>
  <cp:revision>66</cp:revision>
  <dc:subject/>
  <dc:title> JAPANESE MUSIC </dc:title>
</cp:coreProperties>
</file>