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9.png" ContentType="image/png"/>
  <Override PartName="/ppt/media/image6.gif" ContentType="image/gif"/>
  <Override PartName="/ppt/media/image11.jpeg" ContentType="image/jpeg"/>
  <Override PartName="/ppt/media/image8.png" ContentType="image/png"/>
  <Override PartName="/ppt/media/image7.png" ContentType="image/png"/>
  <Override PartName="/ppt/media/image10.jpeg" ContentType="image/jpeg"/>
  <Override PartName="/ppt/media/image5.png" ContentType="image/png"/>
  <Override PartName="/ppt/media/image4.wmf" ContentType="image/x-wmf"/>
  <Override PartName="/ppt/media/image2.png" ContentType="image/png"/>
  <Override PartName="/ppt/media/image25.jpeg" ContentType="image/jpeg"/>
  <Override PartName="/ppt/media/image26.jpeg" ContentType="image/jpeg"/>
  <Override PartName="/ppt/media/image1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F6F2-CEDF-4AD3-ACA2-1DE2FCB7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AD05-5B2C-4095-B5C4-70EA6FE6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691CBF-F6AB-4E50-8384-F41C2900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76C141-7A99-443B-9C75-9E26DB58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03AB32-6B52-403A-8652-6AF40E18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1C82D9-DA00-40D8-8CE5-D7C9E2AD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971E0F-B86C-42B0-A0CE-0D2035C2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1C233E-0AD4-474F-93A5-FFF48FA1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AC13AA-C9D5-4C09-A136-D40B47CD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AF1160-E52C-4B12-B66C-6DD8FBA23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E20429-B6C6-4FA1-8991-DADD4697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BB991-73DE-41A0-A98D-9BF87867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AA77-C7AC-48C0-95F5-12695C4C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F86AA-3A44-4340-8642-075157DD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83A41-9D1E-4E69-80AC-40D42DC1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8BEDB-6EDF-40CC-92FA-BB75849C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606194-B7C7-45D0-87DA-4129623E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DB37D-E0F9-4D16-8ADD-119B7531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AE04B-F2A3-4188-9676-573A34EA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94344-528C-4031-8FC7-EE17A814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1D0F9-A402-43D6-9D87-7DC7D438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236B9-9238-45D2-B200-337DC8BC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2C7D1-B93F-473C-A511-7C78B627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9EF1-079C-4688-AE3F-10254FAAC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06959-E49B-4748-B3DF-99168611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021DB-9450-41CC-849F-5F994BA20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C52DD-976B-4463-874F-51AC626D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3EC63-832A-4E4E-A3A7-DD71BC16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CE78B-0861-403C-96A6-4077F95A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BDC5A-3FFC-4EC3-8404-A9CD38D8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2FD48-EB8E-439C-9275-409015E2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6ADD0-BB70-4A72-BAE3-736AD84F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95A1B-D023-45E9-A5CA-18636CA1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2F44B-A10E-4F58-B719-DF7AA49B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DD25-351D-49FD-8EFD-87431EA4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FE815-EA4B-4DA4-A0F3-576E3BC0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8FE6B-5D01-42A4-8443-8FE6B54C8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73479-BDE1-484A-BB95-10454179B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E25DA-6AE0-4D14-8010-DECA3DDEC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23661-B0C6-415E-9B3D-3D004032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7DF58-F30A-4BAD-9A7A-24916A61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44815A-875C-46E1-A115-2DBCAA56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3528CD-D040-4545-AE7F-6DCF2087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2BCF0-4390-4E48-8B60-C4D27110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85C18-10D8-4159-B19D-D1B71833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E85E-5731-4D0F-A6E3-88D96225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255938-7AAC-49A3-ADAA-00FAE2AB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4E0413-8468-4AD9-92FA-B172B78C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5A63B0-FA01-4366-88A7-B00CDD66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B42DEF-CFE9-48A1-80D0-3E8A40831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B73DF2-DCBC-4CCE-AC0D-2BBCA82E3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2C7F05-7F2C-44DE-A143-E79A7E084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2595C8-E718-4754-B933-77F9D60E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B4B73C-5102-40DF-A03D-2189EB9D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B6F9E3-135C-4663-ABA6-C031260B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0E6DFC-278D-4744-BD55-E4E9E7C4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924C-FB31-4057-88E2-EF60C7E2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448FAD-A5DE-4F7A-8662-354FF934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FEC2D7-70E3-42FD-A8F0-C584C226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D6FC52-9AFA-4B45-B774-EB0EFA10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B8303B-26F8-4FE7-A651-7FCDAE11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3FCD09-2BC8-4B58-B3A2-EB030704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DFB5C0-6EFB-483F-A0E3-E24E7223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621423-2994-40FA-8C02-5C9C594F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BD36A92-553D-4864-9586-A7C9F2FD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D5BCAEE-5417-4F64-8199-84353ACD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4C179FB-CE16-4459-86DE-68F2E827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0E49-A4F4-4494-AE09-95706D07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8C6BB0D-CECD-43E2-A296-EEFEE3E3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CACFE06-A8F5-4B57-BCCD-F0F0A01E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5DF22DC-F998-4F13-B9C6-FF8CC935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F76C5B1-2CB0-413E-939B-C526D283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C11870E-7D92-4D86-A36A-AB11E811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D0B4D8C-FD4F-4EDC-93E3-009EB98A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5FC1A12-1175-4739-BEB9-CE0E0C2E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6FFED28-D25D-4A39-8397-505B7169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F840B0E-45F9-442E-8D00-7D056A25C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DF62B3-FCB4-401A-BFA2-99C74FD44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778D-B9EB-4119-B0B1-57911D5B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AAFE7A-F9B5-40BA-9CEB-213C2318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76184E-D25C-4A7D-9F1D-7E568BED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54251A-9C51-4E48-A0B1-9778146D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0D00F9-5DB4-4957-B2E8-A20148EE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F0F105-C6CF-4BE2-A61C-4DA14981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2F8AC8-E238-469B-A3BF-3AA25C2D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B6D07B-F839-4E61-8A08-1FDDF9A0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D97090-C478-49DD-8647-51A37398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579943-7B91-4F43-BDE6-9245201A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8434AE-ED08-4081-AFF5-872971F1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45E2-2BB8-4560-8171-85AE2467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358C6E-FB9C-4CB6-87CF-60E044B5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C6A923-9908-482C-8CFA-641E71183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20F1C1-00AD-4CFA-ADB7-56604E2E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3E2267-56CD-41B7-869C-444C4AA2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D7FB43-8662-4CDE-BED0-AECE8956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8FA179-0570-41A9-87AC-4EB5EBF2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1F5A7F-8D96-4433-8D01-5C9F18F4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DDAB39-7025-4AEE-9974-92717E23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896781-C7B0-425D-A324-E0956AF7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639959-A42B-408E-9D9B-ECCD061A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186C-078F-4CFA-8A15-87F40E59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371213-64B0-4DB5-ADE6-7DFE0E84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C6DC3C-982E-4CD6-BC9F-11EC95B2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4C395F-EE72-421D-9BCE-1E3E17078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4B993B-49C1-4EAF-B869-D8B7348DD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B674E5-F2F9-4742-8A1B-E3EB2FC0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39CD4D-27D7-47F5-898E-F5B90263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A825DB-72DC-4E8C-914E-70E71C3C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3A2883-889A-4C87-A4DE-30E0460B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A2F31C-285B-4A2D-A14D-20526099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4A7366-AB66-417D-BC19-DC5C0F3B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A603-E808-4661-8D50-ABF0A62F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EA86-4190-486F-886B-8AE3F032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7ED89F-FDBD-468F-8BA7-FA98852F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A73B59-7D32-4177-9775-8BE89E32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FE6436-246F-4EDA-87C3-EE747159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B1A000-A4DE-4AD1-90C4-D438E509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280F57-74BE-446D-ADB6-39135E18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1E7BEB-1929-43E7-B5CB-84016FDAD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9399FA-C3B9-4E3F-8185-8545EAD0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AF68F2-6AF2-4FC1-923B-915FF1F1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4AD6F4-6347-4168-A922-9A9EFFCA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F7A3B0-9747-4043-82F7-15D30797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F745-732F-47AD-BD6C-3E7F1114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1DBF6F-DBA4-41BE-9AC2-8B7687E5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4E76EA-4DB1-4B5C-A00B-A2BD369F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5A145F-6D6D-4E74-AC8F-4846F610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646C12-EF55-45D9-90A2-D2192E08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F05AE0-A575-4654-B2C4-488E98E9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ABB7E6-CA67-43C4-B980-A4EDE48B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E0103F-77BE-42B0-B15E-46633542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B350-BEBD-44BF-B741-924A9E78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204E-1C74-4984-9F72-2F7E6DE0F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FC18-C6D1-4C67-9183-66E6D5C5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2D23F-B982-4349-AE43-EEE75A2F4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B6D38-F786-45F0-BE9D-B5774370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89B7A-B6A7-4D3E-AAE6-0509D2F9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4F715-2AA2-41F0-B058-A7F3B2D5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8B2B5-7830-48D4-BD5B-1F43E8B4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F47B-C3CC-4F9A-86AA-D14B45E2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FF224-2199-410F-9892-7C0555BB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73DC4-4A2D-41B9-B4B8-B535A8D9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5D3B4-EE42-470B-8FC1-846FCAA4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FA182-F782-4A88-92C3-72348DCD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92CD7-0C96-4FB0-A5A1-884360BE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E0845-F4D3-4270-BD00-38768012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A32ED-55EF-49FF-9276-BE06B6FE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42A69-8E6D-40B0-807A-71190D881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6505A-4E14-4C2B-BD3B-5BEF9BE3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E7B1C-1F80-41A2-95BE-617D323C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D8DC-7C13-40C3-AA12-DE54A1F5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476D0-D96E-4D27-B0F4-E5F1D776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A9F76-E12C-4080-B101-85B3F3A3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503B2-9E20-43FA-93B7-30F18118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46056-81F0-49B0-BA4E-2722B724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B2FEF-BF6A-4A9B-9812-5587D258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01E63-ACB4-4515-856C-78CB7EB5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003E6-B051-4218-937A-0F29AF80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44179-7514-4DB4-9823-E7A92DD7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9C463-F9C5-4C99-A641-34E842E5D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58D06-4C90-41FA-A5C3-1EE8397EF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50AA-0583-4733-B41B-4285E95D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FB833-9231-4D6C-9345-7CA1C112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FDCF0-99F8-45CA-AD59-CD3705EF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9D9AC-53A4-419B-942E-11B8FF47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8D65B-0E84-4D3D-8000-63845A91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47996-20F2-4D4B-B0C8-044733CF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ABCB4-8B0A-4B24-9D8F-5A273D87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7E535-C3E1-4569-A281-7AB4E1B8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6AB81-B8AC-4934-BE4D-1D96DBF0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478D1-5B95-487F-AC2F-FD269CC6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AB09E-DFC6-4097-82AA-5D7A9CC9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C125-48C4-4528-8B67-0E56C3E8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8EF74-6480-4A2D-8B6C-8378259C9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10E18-67FD-4923-B160-82C6F9FC9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E6195-2130-4B5B-8DC1-1EB9DD5C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E16D3-F4E8-43C7-A28D-C0779794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ECBCC-B16F-4562-864A-A3B5938A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B9496-A6DB-4326-A7C0-4F1E345C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5C292-5185-4F47-A610-5C6DD61D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1DAF5-BC40-4085-9C88-6D7DB428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221F0-E72E-4DD4-83B4-DA90B1AC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A8419-DAB9-4253-9528-4415BF1B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C4B7-C85E-472F-A7DE-6197A9F7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81535-EB37-42A9-A4AA-1CE66D50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0CC98-C4E9-4B7F-A80D-BF45A6905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85FBF-EFA5-4B64-8CEC-725925B5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6E199-FE1E-4702-8FB3-C928F7BB1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0E7DB-7BFE-4DAF-B9ED-216D196F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3B563-8D4E-4684-87FD-D852AB19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AD265-AF3F-4C04-8684-15D1D966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9CBDA-E268-4AFD-AC48-FB40A2C2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57CDD-A37D-4D5E-B126-A5145232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CA3A1-9889-4445-92DE-1C35CB62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83EC-CD03-463B-9046-D4A62F70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59021-2DE8-47AC-9946-CA486982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1C025-FBF8-4266-80B7-A34951F3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C123A-F74D-4EC6-8EC2-2BF8DDB0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C9BF1-5A23-4C0B-A9FF-202C0D626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C43C0-39DF-4B32-9EA8-239639974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071A9-55D3-42A8-881E-AB4368B3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292C2-4413-4982-B8F8-C47A0359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15E85-3350-4BCE-ADB8-221A8276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5008D-6965-471B-BFE9-C83889CD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52709-597B-4787-B6AE-F99AF4F5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810D-E779-4CDF-A98F-10697978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11E51-88F4-4C0C-8979-E5A33312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13EA1-237F-462D-864E-DA490CDE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B3706-9398-410D-97C7-BEF83181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E5C97-13F2-4A9C-B0E5-498EBA28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54603-AF4C-4158-8927-D8B43279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B1511-09FC-46BC-93C7-148DFD94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6FCCB-EB9C-482F-93E3-6A320447C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148C5A-DC71-4265-801B-F7F49FB2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7CDA7C-8971-4486-812F-37D4AA52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3EFB1F-27DF-46C6-B3BE-3A810AED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DA60-504A-4DA8-8998-D3CBB86F7C3E}" type="slidenum"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0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8A4A-E975-4C57-9CA0-8396C4CD06E7}" type="slidenum"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reeform 2"/>
          <p:cNvSpPr/>
          <p:nvPr/>
        </p:nvSpPr>
        <p:spPr>
          <a:xfrm>
            <a:off x="838080" y="2273400"/>
            <a:ext cx="7772400" cy="11588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158840"/>
              <a:gd name="textAreaBottom" fmla="*/ 1159200 h 1158840"/>
            </a:gdLst>
            <a:ahLst/>
            <a:rect l="textAreaLeft" t="textAreaTop" r="textAreaRight" b="textAreaBottom"/>
            <a:pathLst>
              <a:path w="4864" h="769">
                <a:moveTo>
                  <a:pt x="306" y="4"/>
                </a:moveTo>
                <a:cubicBezTo>
                  <a:pt x="265" y="21"/>
                  <a:pt x="307" y="25"/>
                  <a:pt x="266" y="42"/>
                </a:cubicBezTo>
                <a:cubicBezTo>
                  <a:pt x="228" y="27"/>
                  <a:pt x="225" y="21"/>
                  <a:pt x="167" y="42"/>
                </a:cubicBezTo>
                <a:cubicBezTo>
                  <a:pt x="141" y="52"/>
                  <a:pt x="142" y="90"/>
                  <a:pt x="107" y="103"/>
                </a:cubicBezTo>
                <a:cubicBezTo>
                  <a:pt x="84" y="130"/>
                  <a:pt x="69" y="156"/>
                  <a:pt x="46" y="182"/>
                </a:cubicBezTo>
                <a:cubicBezTo>
                  <a:pt x="53" y="188"/>
                  <a:pt x="61" y="196"/>
                  <a:pt x="69" y="200"/>
                </a:cubicBezTo>
                <a:cubicBezTo>
                  <a:pt x="76" y="204"/>
                  <a:pt x="94" y="200"/>
                  <a:pt x="91" y="209"/>
                </a:cubicBezTo>
                <a:cubicBezTo>
                  <a:pt x="89" y="218"/>
                  <a:pt x="47" y="232"/>
                  <a:pt x="38" y="235"/>
                </a:cubicBezTo>
                <a:cubicBezTo>
                  <a:pt x="20" y="298"/>
                  <a:pt x="37" y="278"/>
                  <a:pt x="0" y="306"/>
                </a:cubicBezTo>
                <a:cubicBezTo>
                  <a:pt x="5" y="314"/>
                  <a:pt x="11" y="322"/>
                  <a:pt x="15" y="332"/>
                </a:cubicBezTo>
                <a:cubicBezTo>
                  <a:pt x="27" y="345"/>
                  <a:pt x="65" y="366"/>
                  <a:pt x="69" y="385"/>
                </a:cubicBezTo>
                <a:cubicBezTo>
                  <a:pt x="71" y="398"/>
                  <a:pt x="28" y="428"/>
                  <a:pt x="38" y="447"/>
                </a:cubicBezTo>
                <a:cubicBezTo>
                  <a:pt x="28" y="480"/>
                  <a:pt x="110" y="494"/>
                  <a:pt x="129" y="499"/>
                </a:cubicBezTo>
                <a:cubicBezTo>
                  <a:pt x="157" y="521"/>
                  <a:pt x="162" y="579"/>
                  <a:pt x="198" y="587"/>
                </a:cubicBezTo>
                <a:cubicBezTo>
                  <a:pt x="275" y="607"/>
                  <a:pt x="321" y="631"/>
                  <a:pt x="400" y="635"/>
                </a:cubicBezTo>
                <a:cubicBezTo>
                  <a:pt x="471" y="643"/>
                  <a:pt x="513" y="654"/>
                  <a:pt x="568" y="655"/>
                </a:cubicBezTo>
                <a:cubicBezTo>
                  <a:pt x="628" y="661"/>
                  <a:pt x="700" y="664"/>
                  <a:pt x="760" y="671"/>
                </a:cubicBezTo>
                <a:cubicBezTo>
                  <a:pt x="817" y="693"/>
                  <a:pt x="869" y="677"/>
                  <a:pt x="928" y="699"/>
                </a:cubicBezTo>
                <a:cubicBezTo>
                  <a:pt x="1070" y="753"/>
                  <a:pt x="1355" y="693"/>
                  <a:pt x="1355" y="693"/>
                </a:cubicBezTo>
                <a:cubicBezTo>
                  <a:pt x="1539" y="731"/>
                  <a:pt x="1520" y="737"/>
                  <a:pt x="1751" y="746"/>
                </a:cubicBezTo>
                <a:cubicBezTo>
                  <a:pt x="1912" y="769"/>
                  <a:pt x="1924" y="727"/>
                  <a:pt x="2228" y="743"/>
                </a:cubicBezTo>
                <a:cubicBezTo>
                  <a:pt x="2298" y="752"/>
                  <a:pt x="2337" y="736"/>
                  <a:pt x="2388" y="739"/>
                </a:cubicBezTo>
                <a:cubicBezTo>
                  <a:pt x="2439" y="742"/>
                  <a:pt x="2496" y="758"/>
                  <a:pt x="2535" y="762"/>
                </a:cubicBezTo>
                <a:cubicBezTo>
                  <a:pt x="2574" y="766"/>
                  <a:pt x="2586" y="753"/>
                  <a:pt x="2624" y="761"/>
                </a:cubicBezTo>
                <a:cubicBezTo>
                  <a:pt x="2654" y="767"/>
                  <a:pt x="2674" y="747"/>
                  <a:pt x="2710" y="746"/>
                </a:cubicBezTo>
                <a:cubicBezTo>
                  <a:pt x="2816" y="740"/>
                  <a:pt x="2923" y="740"/>
                  <a:pt x="3030" y="737"/>
                </a:cubicBezTo>
                <a:cubicBezTo>
                  <a:pt x="3165" y="698"/>
                  <a:pt x="3192" y="700"/>
                  <a:pt x="3372" y="693"/>
                </a:cubicBezTo>
                <a:cubicBezTo>
                  <a:pt x="3491" y="677"/>
                  <a:pt x="3585" y="649"/>
                  <a:pt x="3707" y="640"/>
                </a:cubicBezTo>
                <a:cubicBezTo>
                  <a:pt x="3778" y="612"/>
                  <a:pt x="3647" y="661"/>
                  <a:pt x="3814" y="623"/>
                </a:cubicBezTo>
                <a:cubicBezTo>
                  <a:pt x="3939" y="593"/>
                  <a:pt x="3882" y="589"/>
                  <a:pt x="4057" y="579"/>
                </a:cubicBezTo>
                <a:cubicBezTo>
                  <a:pt x="4154" y="551"/>
                  <a:pt x="4197" y="549"/>
                  <a:pt x="4316" y="543"/>
                </a:cubicBezTo>
                <a:cubicBezTo>
                  <a:pt x="4293" y="535"/>
                  <a:pt x="4233" y="529"/>
                  <a:pt x="4225" y="526"/>
                </a:cubicBezTo>
                <a:cubicBezTo>
                  <a:pt x="4217" y="523"/>
                  <a:pt x="4240" y="518"/>
                  <a:pt x="4247" y="517"/>
                </a:cubicBezTo>
                <a:cubicBezTo>
                  <a:pt x="4275" y="513"/>
                  <a:pt x="4303" y="511"/>
                  <a:pt x="4331" y="508"/>
                </a:cubicBezTo>
                <a:cubicBezTo>
                  <a:pt x="4303" y="505"/>
                  <a:pt x="4275" y="504"/>
                  <a:pt x="4247" y="499"/>
                </a:cubicBezTo>
                <a:cubicBezTo>
                  <a:pt x="4240" y="498"/>
                  <a:pt x="4221" y="499"/>
                  <a:pt x="4225" y="491"/>
                </a:cubicBezTo>
                <a:cubicBezTo>
                  <a:pt x="4230" y="480"/>
                  <a:pt x="4245" y="485"/>
                  <a:pt x="4255" y="482"/>
                </a:cubicBezTo>
                <a:cubicBezTo>
                  <a:pt x="4318" y="494"/>
                  <a:pt x="4297" y="507"/>
                  <a:pt x="4346" y="526"/>
                </a:cubicBezTo>
                <a:cubicBezTo>
                  <a:pt x="4398" y="511"/>
                  <a:pt x="4453" y="470"/>
                  <a:pt x="4506" y="464"/>
                </a:cubicBezTo>
                <a:cubicBezTo>
                  <a:pt x="4552" y="460"/>
                  <a:pt x="4598" y="458"/>
                  <a:pt x="4643" y="455"/>
                </a:cubicBezTo>
                <a:cubicBezTo>
                  <a:pt x="4690" y="420"/>
                  <a:pt x="4742" y="423"/>
                  <a:pt x="4795" y="411"/>
                </a:cubicBezTo>
                <a:cubicBezTo>
                  <a:pt x="4834" y="382"/>
                  <a:pt x="4813" y="403"/>
                  <a:pt x="4849" y="341"/>
                </a:cubicBezTo>
                <a:cubicBezTo>
                  <a:pt x="4854" y="332"/>
                  <a:pt x="4864" y="314"/>
                  <a:pt x="4864" y="314"/>
                </a:cubicBezTo>
                <a:cubicBezTo>
                  <a:pt x="4803" y="279"/>
                  <a:pt x="4742" y="285"/>
                  <a:pt x="4674" y="279"/>
                </a:cubicBezTo>
                <a:cubicBezTo>
                  <a:pt x="4490" y="287"/>
                  <a:pt x="4499" y="279"/>
                  <a:pt x="4384" y="306"/>
                </a:cubicBezTo>
                <a:cubicBezTo>
                  <a:pt x="4293" y="303"/>
                  <a:pt x="4202" y="303"/>
                  <a:pt x="4110" y="297"/>
                </a:cubicBezTo>
                <a:cubicBezTo>
                  <a:pt x="4103" y="297"/>
                  <a:pt x="4126" y="288"/>
                  <a:pt x="4133" y="288"/>
                </a:cubicBezTo>
                <a:cubicBezTo>
                  <a:pt x="4187" y="288"/>
                  <a:pt x="4240" y="294"/>
                  <a:pt x="4293" y="297"/>
                </a:cubicBezTo>
                <a:cubicBezTo>
                  <a:pt x="4391" y="282"/>
                  <a:pt x="4444" y="268"/>
                  <a:pt x="4552" y="262"/>
                </a:cubicBezTo>
                <a:cubicBezTo>
                  <a:pt x="4601" y="247"/>
                  <a:pt x="4610" y="232"/>
                  <a:pt x="4651" y="200"/>
                </a:cubicBezTo>
                <a:cubicBezTo>
                  <a:pt x="4609" y="188"/>
                  <a:pt x="4562" y="193"/>
                  <a:pt x="4521" y="174"/>
                </a:cubicBezTo>
                <a:cubicBezTo>
                  <a:pt x="4514" y="171"/>
                  <a:pt x="4516" y="156"/>
                  <a:pt x="4514" y="147"/>
                </a:cubicBezTo>
                <a:cubicBezTo>
                  <a:pt x="4141" y="166"/>
                  <a:pt x="4291" y="156"/>
                  <a:pt x="4065" y="174"/>
                </a:cubicBezTo>
                <a:cubicBezTo>
                  <a:pt x="4015" y="182"/>
                  <a:pt x="3972" y="194"/>
                  <a:pt x="3920" y="174"/>
                </a:cubicBezTo>
                <a:cubicBezTo>
                  <a:pt x="3911" y="171"/>
                  <a:pt x="3935" y="160"/>
                  <a:pt x="3943" y="156"/>
                </a:cubicBezTo>
                <a:cubicBezTo>
                  <a:pt x="3951" y="152"/>
                  <a:pt x="3958" y="150"/>
                  <a:pt x="3966" y="147"/>
                </a:cubicBezTo>
                <a:cubicBezTo>
                  <a:pt x="3918" y="110"/>
                  <a:pt x="3968" y="135"/>
                  <a:pt x="3935" y="77"/>
                </a:cubicBezTo>
                <a:cubicBezTo>
                  <a:pt x="3812" y="86"/>
                  <a:pt x="3702" y="113"/>
                  <a:pt x="3578" y="121"/>
                </a:cubicBezTo>
                <a:cubicBezTo>
                  <a:pt x="3524" y="128"/>
                  <a:pt x="3477" y="135"/>
                  <a:pt x="3425" y="156"/>
                </a:cubicBezTo>
                <a:cubicBezTo>
                  <a:pt x="3342" y="188"/>
                  <a:pt x="3248" y="162"/>
                  <a:pt x="3159" y="165"/>
                </a:cubicBezTo>
                <a:cubicBezTo>
                  <a:pt x="2928" y="254"/>
                  <a:pt x="2813" y="169"/>
                  <a:pt x="2544" y="191"/>
                </a:cubicBezTo>
                <a:cubicBezTo>
                  <a:pt x="2445" y="200"/>
                  <a:pt x="2305" y="198"/>
                  <a:pt x="2260" y="187"/>
                </a:cubicBezTo>
                <a:cubicBezTo>
                  <a:pt x="2172" y="153"/>
                  <a:pt x="2149" y="194"/>
                  <a:pt x="2056" y="195"/>
                </a:cubicBezTo>
                <a:cubicBezTo>
                  <a:pt x="1964" y="187"/>
                  <a:pt x="1913" y="188"/>
                  <a:pt x="1880" y="175"/>
                </a:cubicBezTo>
                <a:cubicBezTo>
                  <a:pt x="1790" y="181"/>
                  <a:pt x="1677" y="212"/>
                  <a:pt x="1591" y="191"/>
                </a:cubicBezTo>
                <a:cubicBezTo>
                  <a:pt x="1548" y="181"/>
                  <a:pt x="1503" y="186"/>
                  <a:pt x="1460" y="175"/>
                </a:cubicBezTo>
                <a:cubicBezTo>
                  <a:pt x="1435" y="185"/>
                  <a:pt x="1426" y="155"/>
                  <a:pt x="1401" y="165"/>
                </a:cubicBezTo>
                <a:cubicBezTo>
                  <a:pt x="1252" y="156"/>
                  <a:pt x="1118" y="135"/>
                  <a:pt x="967" y="130"/>
                </a:cubicBezTo>
                <a:cubicBezTo>
                  <a:pt x="926" y="125"/>
                  <a:pt x="836" y="116"/>
                  <a:pt x="799" y="103"/>
                </a:cubicBezTo>
                <a:cubicBezTo>
                  <a:pt x="798" y="103"/>
                  <a:pt x="754" y="62"/>
                  <a:pt x="746" y="59"/>
                </a:cubicBezTo>
                <a:cubicBezTo>
                  <a:pt x="686" y="39"/>
                  <a:pt x="609" y="39"/>
                  <a:pt x="548" y="33"/>
                </a:cubicBezTo>
                <a:cubicBezTo>
                  <a:pt x="523" y="22"/>
                  <a:pt x="497" y="17"/>
                  <a:pt x="472" y="6"/>
                </a:cubicBezTo>
                <a:cubicBezTo>
                  <a:pt x="441" y="9"/>
                  <a:pt x="411" y="11"/>
                  <a:pt x="381" y="15"/>
                </a:cubicBezTo>
                <a:cubicBezTo>
                  <a:pt x="353" y="15"/>
                  <a:pt x="325" y="0"/>
                  <a:pt x="306" y="4"/>
                </a:cubicBezTo>
                <a:close/>
              </a:path>
            </a:pathLst>
          </a:custGeom>
          <a:gradFill rotWithShape="0">
            <a:gsLst>
              <a:gs pos="0">
                <a:srgbClr val="91bbb6"/>
              </a:gs>
              <a:gs pos="100000">
                <a:srgbClr val="caded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75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022400" indent="-351000">
              <a:spcBef>
                <a:spcPts val="751"/>
              </a:spcBef>
              <a:buClr>
                <a:srgbClr val="657a56"/>
              </a:buClr>
              <a:buSzPct val="6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339920" indent="-316080">
              <a:spcBef>
                <a:spcPts val="751"/>
              </a:spcBef>
              <a:buClr>
                <a:srgbClr val="59877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681200" indent="-339840">
              <a:spcBef>
                <a:spcPts val="751"/>
              </a:spcBef>
              <a:buClr>
                <a:srgbClr val="657a56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4768-D0A8-4E60-A503-8203E424FE40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9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EB3A-A859-4673-B006-5D29198AB590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7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3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3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E1C8-14F1-4931-A7C0-AD20ACD9F512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89AB-7907-4A3F-8FF6-9125F49E4989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6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76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4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775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779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27DC-0FA9-4825-BC64-B1DF7E1BFCDB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Line 2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3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4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5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6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7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8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9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10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11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12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13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14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15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16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17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18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45" name="Group 20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6" name="Rectangle 21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Rectangle 22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Rectangle 23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Rectangle 24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Rectangle 25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1" name="Rectangle 26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Oval 27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28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9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30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46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47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A2D6-EB8E-48A3-B1F0-1A8FA69F910D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898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0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4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5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5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8A97-CDAA-42EC-96D8-045BD3DAF0E7}" type="slidenum">
              <a:rPr b="1" lang="ko-KR" sz="2600" spc="-1" strike="noStrike">
                <a:solidFill>
                  <a:srgbClr val="ffffff"/>
                </a:solidFill>
                <a:latin typeface="굴림"/>
                <a:ea typeface="굴림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4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1ABF-BBDC-46F9-B9E6-E49B93790DCD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2"/>
          <p:cNvSpPr/>
          <p:nvPr/>
        </p:nvSpPr>
        <p:spPr>
          <a:xfrm>
            <a:off x="685800" y="228600"/>
            <a:ext cx="8153280" cy="1158840"/>
          </a:xfrm>
          <a:custGeom>
            <a:avLst/>
            <a:gdLst>
              <a:gd name="textAreaLeft" fmla="*/ 0 w 8153280"/>
              <a:gd name="textAreaRight" fmla="*/ 8153640 w 8153280"/>
              <a:gd name="textAreaTop" fmla="*/ 0 h 1158840"/>
              <a:gd name="textAreaBottom" fmla="*/ 1159200 h 1158840"/>
            </a:gdLst>
            <a:ahLst/>
            <a:rect l="textAreaLeft" t="textAreaTop" r="textAreaRight" b="textAreaBottom"/>
            <a:pathLst>
              <a:path w="4864" h="769">
                <a:moveTo>
                  <a:pt x="306" y="4"/>
                </a:moveTo>
                <a:cubicBezTo>
                  <a:pt x="265" y="21"/>
                  <a:pt x="307" y="25"/>
                  <a:pt x="266" y="42"/>
                </a:cubicBezTo>
                <a:cubicBezTo>
                  <a:pt x="228" y="27"/>
                  <a:pt x="225" y="21"/>
                  <a:pt x="167" y="42"/>
                </a:cubicBezTo>
                <a:cubicBezTo>
                  <a:pt x="141" y="52"/>
                  <a:pt x="142" y="90"/>
                  <a:pt x="107" y="103"/>
                </a:cubicBezTo>
                <a:cubicBezTo>
                  <a:pt x="84" y="130"/>
                  <a:pt x="69" y="156"/>
                  <a:pt x="46" y="182"/>
                </a:cubicBezTo>
                <a:cubicBezTo>
                  <a:pt x="53" y="188"/>
                  <a:pt x="61" y="196"/>
                  <a:pt x="69" y="200"/>
                </a:cubicBezTo>
                <a:cubicBezTo>
                  <a:pt x="76" y="204"/>
                  <a:pt x="94" y="200"/>
                  <a:pt x="91" y="209"/>
                </a:cubicBezTo>
                <a:cubicBezTo>
                  <a:pt x="89" y="218"/>
                  <a:pt x="47" y="232"/>
                  <a:pt x="38" y="235"/>
                </a:cubicBezTo>
                <a:cubicBezTo>
                  <a:pt x="20" y="298"/>
                  <a:pt x="37" y="278"/>
                  <a:pt x="0" y="306"/>
                </a:cubicBezTo>
                <a:cubicBezTo>
                  <a:pt x="5" y="314"/>
                  <a:pt x="11" y="322"/>
                  <a:pt x="15" y="332"/>
                </a:cubicBezTo>
                <a:cubicBezTo>
                  <a:pt x="27" y="345"/>
                  <a:pt x="65" y="366"/>
                  <a:pt x="69" y="385"/>
                </a:cubicBezTo>
                <a:cubicBezTo>
                  <a:pt x="71" y="398"/>
                  <a:pt x="28" y="428"/>
                  <a:pt x="38" y="447"/>
                </a:cubicBezTo>
                <a:cubicBezTo>
                  <a:pt x="28" y="480"/>
                  <a:pt x="110" y="494"/>
                  <a:pt x="129" y="499"/>
                </a:cubicBezTo>
                <a:cubicBezTo>
                  <a:pt x="157" y="521"/>
                  <a:pt x="162" y="579"/>
                  <a:pt x="198" y="587"/>
                </a:cubicBezTo>
                <a:cubicBezTo>
                  <a:pt x="275" y="607"/>
                  <a:pt x="321" y="631"/>
                  <a:pt x="400" y="635"/>
                </a:cubicBezTo>
                <a:cubicBezTo>
                  <a:pt x="471" y="643"/>
                  <a:pt x="513" y="654"/>
                  <a:pt x="568" y="655"/>
                </a:cubicBezTo>
                <a:cubicBezTo>
                  <a:pt x="628" y="661"/>
                  <a:pt x="700" y="664"/>
                  <a:pt x="760" y="671"/>
                </a:cubicBezTo>
                <a:cubicBezTo>
                  <a:pt x="817" y="693"/>
                  <a:pt x="869" y="677"/>
                  <a:pt x="928" y="699"/>
                </a:cubicBezTo>
                <a:cubicBezTo>
                  <a:pt x="1070" y="753"/>
                  <a:pt x="1355" y="693"/>
                  <a:pt x="1355" y="693"/>
                </a:cubicBezTo>
                <a:cubicBezTo>
                  <a:pt x="1539" y="731"/>
                  <a:pt x="1520" y="737"/>
                  <a:pt x="1751" y="746"/>
                </a:cubicBezTo>
                <a:cubicBezTo>
                  <a:pt x="1912" y="769"/>
                  <a:pt x="1924" y="727"/>
                  <a:pt x="2228" y="743"/>
                </a:cubicBezTo>
                <a:cubicBezTo>
                  <a:pt x="2298" y="752"/>
                  <a:pt x="2337" y="736"/>
                  <a:pt x="2388" y="739"/>
                </a:cubicBezTo>
                <a:cubicBezTo>
                  <a:pt x="2439" y="742"/>
                  <a:pt x="2496" y="758"/>
                  <a:pt x="2535" y="762"/>
                </a:cubicBezTo>
                <a:cubicBezTo>
                  <a:pt x="2574" y="766"/>
                  <a:pt x="2586" y="753"/>
                  <a:pt x="2624" y="761"/>
                </a:cubicBezTo>
                <a:cubicBezTo>
                  <a:pt x="2654" y="767"/>
                  <a:pt x="2674" y="747"/>
                  <a:pt x="2710" y="746"/>
                </a:cubicBezTo>
                <a:cubicBezTo>
                  <a:pt x="2816" y="740"/>
                  <a:pt x="2923" y="740"/>
                  <a:pt x="3030" y="737"/>
                </a:cubicBezTo>
                <a:cubicBezTo>
                  <a:pt x="3165" y="698"/>
                  <a:pt x="3192" y="700"/>
                  <a:pt x="3372" y="693"/>
                </a:cubicBezTo>
                <a:cubicBezTo>
                  <a:pt x="3491" y="677"/>
                  <a:pt x="3585" y="649"/>
                  <a:pt x="3707" y="640"/>
                </a:cubicBezTo>
                <a:cubicBezTo>
                  <a:pt x="3778" y="612"/>
                  <a:pt x="3647" y="661"/>
                  <a:pt x="3814" y="623"/>
                </a:cubicBezTo>
                <a:cubicBezTo>
                  <a:pt x="3939" y="593"/>
                  <a:pt x="3882" y="589"/>
                  <a:pt x="4057" y="579"/>
                </a:cubicBezTo>
                <a:cubicBezTo>
                  <a:pt x="4154" y="551"/>
                  <a:pt x="4197" y="549"/>
                  <a:pt x="4316" y="543"/>
                </a:cubicBezTo>
                <a:cubicBezTo>
                  <a:pt x="4293" y="535"/>
                  <a:pt x="4233" y="529"/>
                  <a:pt x="4225" y="526"/>
                </a:cubicBezTo>
                <a:cubicBezTo>
                  <a:pt x="4217" y="523"/>
                  <a:pt x="4240" y="518"/>
                  <a:pt x="4247" y="517"/>
                </a:cubicBezTo>
                <a:cubicBezTo>
                  <a:pt x="4275" y="513"/>
                  <a:pt x="4303" y="511"/>
                  <a:pt x="4331" y="508"/>
                </a:cubicBezTo>
                <a:cubicBezTo>
                  <a:pt x="4303" y="505"/>
                  <a:pt x="4275" y="504"/>
                  <a:pt x="4247" y="499"/>
                </a:cubicBezTo>
                <a:cubicBezTo>
                  <a:pt x="4240" y="498"/>
                  <a:pt x="4221" y="499"/>
                  <a:pt x="4225" y="491"/>
                </a:cubicBezTo>
                <a:cubicBezTo>
                  <a:pt x="4230" y="480"/>
                  <a:pt x="4245" y="485"/>
                  <a:pt x="4255" y="482"/>
                </a:cubicBezTo>
                <a:cubicBezTo>
                  <a:pt x="4318" y="494"/>
                  <a:pt x="4297" y="507"/>
                  <a:pt x="4346" y="526"/>
                </a:cubicBezTo>
                <a:cubicBezTo>
                  <a:pt x="4398" y="511"/>
                  <a:pt x="4453" y="470"/>
                  <a:pt x="4506" y="464"/>
                </a:cubicBezTo>
                <a:cubicBezTo>
                  <a:pt x="4552" y="460"/>
                  <a:pt x="4598" y="458"/>
                  <a:pt x="4643" y="455"/>
                </a:cubicBezTo>
                <a:cubicBezTo>
                  <a:pt x="4690" y="420"/>
                  <a:pt x="4742" y="423"/>
                  <a:pt x="4795" y="411"/>
                </a:cubicBezTo>
                <a:cubicBezTo>
                  <a:pt x="4834" y="382"/>
                  <a:pt x="4813" y="403"/>
                  <a:pt x="4849" y="341"/>
                </a:cubicBezTo>
                <a:cubicBezTo>
                  <a:pt x="4854" y="332"/>
                  <a:pt x="4864" y="314"/>
                  <a:pt x="4864" y="314"/>
                </a:cubicBezTo>
                <a:cubicBezTo>
                  <a:pt x="4803" y="279"/>
                  <a:pt x="4742" y="285"/>
                  <a:pt x="4674" y="279"/>
                </a:cubicBezTo>
                <a:cubicBezTo>
                  <a:pt x="4490" y="287"/>
                  <a:pt x="4499" y="279"/>
                  <a:pt x="4384" y="306"/>
                </a:cubicBezTo>
                <a:cubicBezTo>
                  <a:pt x="4293" y="303"/>
                  <a:pt x="4202" y="303"/>
                  <a:pt x="4110" y="297"/>
                </a:cubicBezTo>
                <a:cubicBezTo>
                  <a:pt x="4103" y="297"/>
                  <a:pt x="4126" y="288"/>
                  <a:pt x="4133" y="288"/>
                </a:cubicBezTo>
                <a:cubicBezTo>
                  <a:pt x="4187" y="288"/>
                  <a:pt x="4240" y="294"/>
                  <a:pt x="4293" y="297"/>
                </a:cubicBezTo>
                <a:cubicBezTo>
                  <a:pt x="4391" y="282"/>
                  <a:pt x="4444" y="268"/>
                  <a:pt x="4552" y="262"/>
                </a:cubicBezTo>
                <a:cubicBezTo>
                  <a:pt x="4601" y="247"/>
                  <a:pt x="4610" y="232"/>
                  <a:pt x="4651" y="200"/>
                </a:cubicBezTo>
                <a:cubicBezTo>
                  <a:pt x="4609" y="188"/>
                  <a:pt x="4562" y="193"/>
                  <a:pt x="4521" y="174"/>
                </a:cubicBezTo>
                <a:cubicBezTo>
                  <a:pt x="4514" y="171"/>
                  <a:pt x="4516" y="156"/>
                  <a:pt x="4514" y="147"/>
                </a:cubicBezTo>
                <a:cubicBezTo>
                  <a:pt x="4141" y="166"/>
                  <a:pt x="4291" y="156"/>
                  <a:pt x="4065" y="174"/>
                </a:cubicBezTo>
                <a:cubicBezTo>
                  <a:pt x="4015" y="182"/>
                  <a:pt x="3972" y="194"/>
                  <a:pt x="3920" y="174"/>
                </a:cubicBezTo>
                <a:cubicBezTo>
                  <a:pt x="3911" y="171"/>
                  <a:pt x="3935" y="160"/>
                  <a:pt x="3943" y="156"/>
                </a:cubicBezTo>
                <a:cubicBezTo>
                  <a:pt x="3951" y="152"/>
                  <a:pt x="3958" y="150"/>
                  <a:pt x="3966" y="147"/>
                </a:cubicBezTo>
                <a:cubicBezTo>
                  <a:pt x="3918" y="110"/>
                  <a:pt x="3968" y="135"/>
                  <a:pt x="3935" y="77"/>
                </a:cubicBezTo>
                <a:cubicBezTo>
                  <a:pt x="3812" y="86"/>
                  <a:pt x="3702" y="113"/>
                  <a:pt x="3578" y="121"/>
                </a:cubicBezTo>
                <a:cubicBezTo>
                  <a:pt x="3524" y="128"/>
                  <a:pt x="3477" y="135"/>
                  <a:pt x="3425" y="156"/>
                </a:cubicBezTo>
                <a:cubicBezTo>
                  <a:pt x="3342" y="188"/>
                  <a:pt x="3248" y="162"/>
                  <a:pt x="3159" y="165"/>
                </a:cubicBezTo>
                <a:cubicBezTo>
                  <a:pt x="2928" y="254"/>
                  <a:pt x="2813" y="169"/>
                  <a:pt x="2544" y="191"/>
                </a:cubicBezTo>
                <a:cubicBezTo>
                  <a:pt x="2445" y="200"/>
                  <a:pt x="2305" y="198"/>
                  <a:pt x="2260" y="187"/>
                </a:cubicBezTo>
                <a:cubicBezTo>
                  <a:pt x="2172" y="153"/>
                  <a:pt x="2149" y="194"/>
                  <a:pt x="2056" y="195"/>
                </a:cubicBezTo>
                <a:cubicBezTo>
                  <a:pt x="1964" y="187"/>
                  <a:pt x="1913" y="188"/>
                  <a:pt x="1880" y="175"/>
                </a:cubicBezTo>
                <a:cubicBezTo>
                  <a:pt x="1790" y="181"/>
                  <a:pt x="1677" y="212"/>
                  <a:pt x="1591" y="191"/>
                </a:cubicBezTo>
                <a:cubicBezTo>
                  <a:pt x="1548" y="181"/>
                  <a:pt x="1503" y="186"/>
                  <a:pt x="1460" y="175"/>
                </a:cubicBezTo>
                <a:cubicBezTo>
                  <a:pt x="1435" y="185"/>
                  <a:pt x="1426" y="155"/>
                  <a:pt x="1401" y="165"/>
                </a:cubicBezTo>
                <a:cubicBezTo>
                  <a:pt x="1252" y="156"/>
                  <a:pt x="1118" y="135"/>
                  <a:pt x="967" y="130"/>
                </a:cubicBezTo>
                <a:cubicBezTo>
                  <a:pt x="926" y="125"/>
                  <a:pt x="836" y="116"/>
                  <a:pt x="799" y="103"/>
                </a:cubicBezTo>
                <a:cubicBezTo>
                  <a:pt x="798" y="103"/>
                  <a:pt x="754" y="62"/>
                  <a:pt x="746" y="59"/>
                </a:cubicBezTo>
                <a:cubicBezTo>
                  <a:pt x="686" y="39"/>
                  <a:pt x="609" y="39"/>
                  <a:pt x="548" y="33"/>
                </a:cubicBezTo>
                <a:cubicBezTo>
                  <a:pt x="523" y="22"/>
                  <a:pt x="497" y="17"/>
                  <a:pt x="472" y="6"/>
                </a:cubicBezTo>
                <a:cubicBezTo>
                  <a:pt x="441" y="9"/>
                  <a:pt x="411" y="11"/>
                  <a:pt x="381" y="15"/>
                </a:cubicBezTo>
                <a:cubicBezTo>
                  <a:pt x="353" y="15"/>
                  <a:pt x="325" y="0"/>
                  <a:pt x="306" y="4"/>
                </a:cubicBezTo>
                <a:close/>
              </a:path>
            </a:pathLst>
          </a:custGeom>
          <a:gradFill rotWithShape="0">
            <a:gsLst>
              <a:gs pos="0">
                <a:srgbClr val="91bbb6"/>
              </a:gs>
              <a:gs pos="100000">
                <a:srgbClr val="d4e4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75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022400" indent="-351000">
              <a:spcBef>
                <a:spcPts val="751"/>
              </a:spcBef>
              <a:buClr>
                <a:srgbClr val="657a56"/>
              </a:buClr>
              <a:buSzPct val="6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339920" indent="-316080">
              <a:spcBef>
                <a:spcPts val="751"/>
              </a:spcBef>
              <a:buClr>
                <a:srgbClr val="59877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681200" indent="-339840">
              <a:spcBef>
                <a:spcPts val="751"/>
              </a:spcBef>
              <a:buClr>
                <a:srgbClr val="657a56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1B28-3A03-4CEF-BDDA-71D991F9AC0B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0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0C57-5D5F-4AC7-80B7-0CE2C6D91B63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66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DF1B-A78E-4659-BABF-00A76214254A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9433-AA89-4E2C-B438-B1D9E64631E9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6DD6-F9AA-4729-9E8B-24843AF53AB0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6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7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7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8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9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9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9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9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Line 2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0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1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2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3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4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5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6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7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8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9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20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21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2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23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365" name="Rectangle 24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25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DB5A-2467-49B5-B56C-CDCA66CD32D6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0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1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1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480E-94D0-4BAF-B962-F5A39485F2DB}" type="slidenum">
              <a:rPr b="1" lang="ko-KR" sz="2600" spc="-1" strike="noStrike">
                <a:solidFill>
                  <a:srgbClr val="ffffff"/>
                </a:solidFill>
                <a:latin typeface="굴림"/>
                <a:ea typeface="굴림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E062-9D5D-47C6-93F3-781DCB8E3431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" Target="slide4.xml"/><Relationship Id="rId5" Type="http://schemas.openxmlformats.org/officeDocument/2006/relationships/image" Target="../media/image7.png"/><Relationship Id="rId6" Type="http://schemas.openxmlformats.org/officeDocument/2006/relationships/slide" Target="slide4.xml"/><Relationship Id="rId7" Type="http://schemas.openxmlformats.org/officeDocument/2006/relationships/image" Target="../media/image7.png"/><Relationship Id="rId8" Type="http://schemas.openxmlformats.org/officeDocument/2006/relationships/slide" Target="slide4.xml"/><Relationship Id="rId9" Type="http://schemas.openxmlformats.org/officeDocument/2006/relationships/image" Target="../media/image7.png"/><Relationship Id="rId10" Type="http://schemas.openxmlformats.org/officeDocument/2006/relationships/slide" Target="slide4.xml"/><Relationship Id="rId11" Type="http://schemas.openxmlformats.org/officeDocument/2006/relationships/image" Target="../media/image7.png"/><Relationship Id="rId12" Type="http://schemas.openxmlformats.org/officeDocument/2006/relationships/slide" Target="slide4.xml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9" name="그림 3" descr="25_ilosnow.gif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en-US" sz="6600" spc="-1" strike="noStrike">
                <a:solidFill>
                  <a:srgbClr val="3d62f5"/>
                </a:solidFill>
                <a:latin typeface="Comic Sans MS"/>
              </a:rPr>
              <a:t>JAPANESE</a:t>
            </a:r>
            <a:br>
              <a:rPr sz="6600"/>
            </a:br>
            <a:r>
              <a:rPr b="0" lang="en-US" sz="6600" spc="-1" strike="noStrike">
                <a:solidFill>
                  <a:srgbClr val="3d62f5"/>
                </a:solidFill>
                <a:latin typeface="Comic Sans MS"/>
              </a:rPr>
              <a:t>MUSIC</a:t>
            </a: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2269800" y="3794040"/>
            <a:ext cx="467820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Yesle Le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Jiyeon Le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BLK:B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HY목각파임B"/>
                <a:ea typeface="HY목각파임B"/>
              </a:rPr>
              <a:t>International Musicians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1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193080" cy="396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68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68" fill="hold"/>
                                        <p:tgtEl>
                                          <p:spTgt spid="10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68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68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041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041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6" dur="1" fill="hold"/>
                                        <p:tgtEl>
                                          <p:spTgt spid="10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Johnnys &amp;associa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285480" y="1571760"/>
            <a:ext cx="442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ndara"/>
                <a:ea typeface="HY바다L"/>
              </a:rPr>
              <a:t>Johnny&amp;Associates (</a:t>
            </a:r>
            <a:r>
              <a:rPr b="1" lang="ja-JP" sz="1600" spc="-1" strike="noStrike">
                <a:solidFill>
                  <a:srgbClr val="000000"/>
                </a:solidFill>
                <a:latin typeface="Candara"/>
                <a:ea typeface="HY바다L"/>
              </a:rPr>
              <a:t>ジャニーズ</a:t>
            </a:r>
            <a:r>
              <a:rPr b="1" lang="ko-KR" sz="1600" spc="-1" strike="noStrike">
                <a:solidFill>
                  <a:srgbClr val="000000"/>
                </a:solidFill>
                <a:latin typeface="Candara"/>
                <a:ea typeface="HY바다L"/>
              </a:rPr>
              <a:t>事務所</a:t>
            </a:r>
            <a:r>
              <a:rPr b="1" lang="en-US" sz="1600" spc="-1" strike="noStrike">
                <a:solidFill>
                  <a:srgbClr val="000000"/>
                </a:solidFill>
                <a:latin typeface="Candara"/>
                <a:ea typeface="HY바다L"/>
              </a:rPr>
              <a:t>, janīzu jimusho), a well-known boys idol entertainment company in Japan, was established in 1963 by Johnny Kitagawa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ndara"/>
                <a:ea typeface="HY바다L"/>
              </a:rPr>
              <a:t>It accepts and trains talented boys and promotes their debuts to the entertainment industry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ndara"/>
                <a:ea typeface="HY바다L"/>
              </a:rPr>
              <a:t>Starting with group name "Johnnys" in 1962, Johnny&amp;Associates has debuted over twenty groups so far. The most famous groups of today include SMAP(debuted in 1991), TOKIO(1994), V6(1996), Kinki Kids(1997), Arashi(1999), Tackey and Tsubasa(2001), NewS(2003), Kanjani∞(2005), KAT-TUN(2006), and Hey! Say! JUMP(2007)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4" name="그림 7" descr="heysayjumpheysayjump.jpg"/>
          <p:cNvPicPr/>
          <p:nvPr/>
        </p:nvPicPr>
        <p:blipFill>
          <a:blip r:embed="rId1"/>
          <a:stretch/>
        </p:blipFill>
        <p:spPr>
          <a:xfrm>
            <a:off x="4643280" y="1628640"/>
            <a:ext cx="3929400" cy="2372040"/>
          </a:xfrm>
          <a:prstGeom prst="rect">
            <a:avLst/>
          </a:prstGeom>
          <a:ln w="0">
            <a:noFill/>
          </a:ln>
        </p:spPr>
      </p:pic>
      <p:pic>
        <p:nvPicPr>
          <p:cNvPr id="1045" name="그림 8" descr="imagesCA7O2IJ0.jpg"/>
          <p:cNvPicPr/>
          <p:nvPr/>
        </p:nvPicPr>
        <p:blipFill>
          <a:blip r:embed="rId2"/>
          <a:stretch/>
        </p:blipFill>
        <p:spPr>
          <a:xfrm>
            <a:off x="5435640" y="4076640"/>
            <a:ext cx="2357280" cy="2357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그림 1" descr="wallpaper-arashi-co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7" name="TextBox 2"/>
          <p:cNvSpPr/>
          <p:nvPr/>
        </p:nvSpPr>
        <p:spPr>
          <a:xfrm>
            <a:off x="1143000" y="100008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ありがとうごさいま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Y목판L"/>
                <a:ea typeface="HY목판L"/>
              </a:rPr>
              <a:t>CHART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Y바다L"/>
                <a:ea typeface="HY바다L"/>
              </a:rPr>
              <a:t>Traditional music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Y바다L"/>
                <a:ea typeface="HY바다L"/>
              </a:rPr>
              <a:t>New Age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Y바다L"/>
                <a:ea typeface="HY바다L"/>
              </a:rPr>
              <a:t>J-Pop 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Y바다L"/>
                <a:ea typeface="HY바다L"/>
              </a:rPr>
              <a:t>International musician 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Y바다L"/>
                <a:ea typeface="HY바다L"/>
              </a:rPr>
              <a:t>Johnnys &amp; Association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Traditional Music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02944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There are a several types of Japanese traditional music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764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-고딩M"/>
              </a:rPr>
              <a:t>ががく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ncient court music from China and Korea. It is the oldest type of Japanese, traditional music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びわがく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usic played with the </a:t>
            </a:r>
            <a:r>
              <a:rPr b="0" lang="en-US" sz="1400" spc="-1" strike="noStrike" u="sng">
                <a:solidFill>
                  <a:srgbClr val="657a56"/>
                </a:solidFill>
                <a:uFillTx/>
                <a:latin typeface="굴림"/>
                <a:hlinkClick r:id="rId4" action="ppaction://hlinksldjump"/>
              </a:rPr>
              <a:t>Biwa,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 kind of guitar with four strings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のほがく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usic played during </a:t>
            </a:r>
            <a:r>
              <a:rPr b="0" lang="en-US" sz="1400" spc="-1" strike="noStrike" u="sng">
                <a:solidFill>
                  <a:srgbClr val="657a56"/>
                </a:solidFill>
                <a:uFillTx/>
                <a:latin typeface="굴림"/>
                <a:hlinkClick r:id="rId6" action="ppaction://hlinksldjump"/>
              </a:rPr>
              <a:t>Noh performances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t basically consists of a chorus, the Hayashi flute, the Tsuzumi drum, and other instruments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そきょく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usic played with the </a:t>
            </a:r>
            <a:r>
              <a:rPr b="0" lang="en-US" sz="1400" spc="-1" strike="noStrike" u="sng">
                <a:solidFill>
                  <a:srgbClr val="657a56"/>
                </a:solidFill>
                <a:uFillTx/>
                <a:latin typeface="굴림"/>
                <a:hlinkClick r:id="rId8" action="ppaction://hlinksldjump"/>
              </a:rPr>
              <a:t>Koto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, a type of zither with 13 strings. Later also accompanied by Shamisen and Shakuhachi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しぁくはち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usic played with the </a:t>
            </a:r>
            <a:r>
              <a:rPr b="0" lang="en-US" sz="1400" spc="-1" strike="noStrike" u="sng">
                <a:solidFill>
                  <a:srgbClr val="657a56"/>
                </a:solidFill>
                <a:uFillTx/>
                <a:latin typeface="굴림"/>
                <a:hlinkClick r:id="rId10" action="ppaction://hlinksldjump"/>
              </a:rPr>
              <a:t>Shakuhachi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, a bamboo flute that is about 55 cm long. The name of the flute is its length expressed in 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</a:rPr>
              <a:t>shaku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an old Japanese unit of length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しぁみせのんがく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usic played with the </a:t>
            </a:r>
            <a:r>
              <a:rPr b="0" lang="en-US" sz="1400" spc="-1" strike="noStrike" u="sng">
                <a:solidFill>
                  <a:srgbClr val="657a56"/>
                </a:solidFill>
                <a:uFillTx/>
                <a:latin typeface="굴림"/>
                <a:hlinkClick r:id="rId12" action="ppaction://hlinksldjump"/>
              </a:rPr>
              <a:t>Shamisen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, a kind of guitar with only three strings. Kabuki and Bunraku performances are accompanied by the shamisen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みんよ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Japanese folk songs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6" name="雅楽：越天楽  Gagaku-Etenraku.mp3" descr=""/>
          <p:cNvPicPr/>
          <p:nvPr/>
        </p:nvPicPr>
        <p:blipFill>
          <a:blip r:embed="rId14"/>
          <a:stretch/>
        </p:blipFill>
        <p:spPr>
          <a:xfrm>
            <a:off x="1571760" y="16430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07" name="HeikeOdori(Japanese Minyo).mp3" descr=""/>
          <p:cNvPicPr/>
          <p:nvPr/>
        </p:nvPicPr>
        <p:blipFill>
          <a:blip r:embed="rId15"/>
          <a:stretch/>
        </p:blipFill>
        <p:spPr>
          <a:xfrm>
            <a:off x="1571760" y="5572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006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006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582059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00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00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82795" fill="hold"/>
                                        <p:tgtEl>
                                          <p:spTgt spid="10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그림 5" descr="untitled.bmp"/>
          <p:cNvPicPr/>
          <p:nvPr/>
        </p:nvPicPr>
        <p:blipFill>
          <a:blip r:embed="rId1"/>
          <a:stretch/>
        </p:blipFill>
        <p:spPr>
          <a:xfrm>
            <a:off x="5815080" y="0"/>
            <a:ext cx="3328920" cy="2103480"/>
          </a:xfrm>
          <a:prstGeom prst="rect">
            <a:avLst/>
          </a:prstGeom>
          <a:ln w="0">
            <a:noFill/>
          </a:ln>
        </p:spPr>
      </p:pic>
      <p:pic>
        <p:nvPicPr>
          <p:cNvPr id="1009" name="그림 6" descr="Shakuhachi_Set_1-anak1981.jpg"/>
          <p:cNvPicPr/>
          <p:nvPr/>
        </p:nvPicPr>
        <p:blipFill>
          <a:blip r:embed="rId2"/>
          <a:stretch/>
        </p:blipFill>
        <p:spPr>
          <a:xfrm>
            <a:off x="6467400" y="4037040"/>
            <a:ext cx="2676600" cy="2820960"/>
          </a:xfrm>
          <a:prstGeom prst="rect">
            <a:avLst/>
          </a:prstGeom>
          <a:ln w="0">
            <a:noFill/>
          </a:ln>
        </p:spPr>
      </p:pic>
      <p:sp>
        <p:nvSpPr>
          <p:cNvPr id="1010" name="TextBox 7"/>
          <p:cNvSpPr/>
          <p:nvPr/>
        </p:nvSpPr>
        <p:spPr>
          <a:xfrm>
            <a:off x="6983280" y="20001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to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こ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8"/>
          <p:cNvSpPr/>
          <p:nvPr/>
        </p:nvSpPr>
        <p:spPr>
          <a:xfrm>
            <a:off x="4857840" y="5429160"/>
            <a:ext cx="26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kuhac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しゃくは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그림 9" descr="biwa.jpg"/>
          <p:cNvPicPr/>
          <p:nvPr/>
        </p:nvPicPr>
        <p:blipFill>
          <a:blip r:embed="rId3"/>
          <a:stretch/>
        </p:blipFill>
        <p:spPr>
          <a:xfrm>
            <a:off x="0" y="4324320"/>
            <a:ext cx="2571840" cy="2533680"/>
          </a:xfrm>
          <a:prstGeom prst="rect">
            <a:avLst/>
          </a:prstGeom>
          <a:ln w="0">
            <a:noFill/>
          </a:ln>
        </p:spPr>
      </p:pic>
      <p:sp>
        <p:nvSpPr>
          <p:cNvPr id="1013" name="TextBox 10"/>
          <p:cNvSpPr/>
          <p:nvPr/>
        </p:nvSpPr>
        <p:spPr>
          <a:xfrm>
            <a:off x="0" y="38577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wa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びわ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4" name="그림 10" descr="250px-Noh3.jpg"/>
          <p:cNvPicPr/>
          <p:nvPr/>
        </p:nvPicPr>
        <p:blipFill>
          <a:blip r:embed="rId4"/>
          <a:stretch/>
        </p:blipFill>
        <p:spPr>
          <a:xfrm>
            <a:off x="0" y="0"/>
            <a:ext cx="3643200" cy="2681280"/>
          </a:xfrm>
          <a:prstGeom prst="rect">
            <a:avLst/>
          </a:prstGeom>
          <a:ln w="0">
            <a:noFill/>
          </a:ln>
        </p:spPr>
      </p:pic>
      <p:pic>
        <p:nvPicPr>
          <p:cNvPr id="1015" name="그림 11" descr="images.jpg"/>
          <p:cNvPicPr/>
          <p:nvPr/>
        </p:nvPicPr>
        <p:blipFill>
          <a:blip r:embed="rId5"/>
          <a:stretch/>
        </p:blipFill>
        <p:spPr>
          <a:xfrm>
            <a:off x="2500200" y="4714920"/>
            <a:ext cx="2357640" cy="2143080"/>
          </a:xfrm>
          <a:prstGeom prst="rect">
            <a:avLst/>
          </a:prstGeom>
          <a:ln w="0">
            <a:noFill/>
          </a:ln>
        </p:spPr>
      </p:pic>
      <p:sp>
        <p:nvSpPr>
          <p:cNvPr id="1016" name="직사각형 12"/>
          <p:cNvSpPr/>
          <p:nvPr/>
        </p:nvSpPr>
        <p:spPr>
          <a:xfrm>
            <a:off x="2643120" y="4000680"/>
            <a:ext cx="242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mi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し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みせ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직사각형 13"/>
          <p:cNvSpPr/>
          <p:nvPr/>
        </p:nvSpPr>
        <p:spPr>
          <a:xfrm>
            <a:off x="0" y="264312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h Performance(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の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그림 3" descr="32_ilosnow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New age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837720" y="1428840"/>
            <a:ext cx="800748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New age is music of various styles, which is intended to create inspiration, relaxation, and positive feelings, often used by listeners for yoga, massage, inspiration, relaxation, meditation and reading as a method of stress management or to create a peaceful atmosphere in their home or other environments often associated with environmentalism and New Age spirituality.</a:t>
            </a:r>
            <a:endParaRPr b="0" lang="en-US" sz="1900" spc="-1" strike="noStrike">
              <a:solidFill>
                <a:srgbClr val="ffffff"/>
              </a:solidFill>
              <a:latin typeface="굴림"/>
            </a:endParaRPr>
          </a:p>
          <a:p>
            <a:pPr marL="332640" indent="-332640">
              <a:lnSpc>
                <a:spcPct val="15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The most famous New Age music artists are Japanese.</a:t>
            </a:r>
            <a:endParaRPr b="0" lang="en-US" sz="1900" spc="-1" strike="noStrike">
              <a:solidFill>
                <a:srgbClr val="ffffff"/>
              </a:solidFill>
              <a:latin typeface="굴림"/>
            </a:endParaRPr>
          </a:p>
          <a:p>
            <a:pPr marL="332640" indent="-332640"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Yuki Guramoto</a:t>
            </a:r>
            <a:r>
              <a:rPr b="1" lang="ja-JP" sz="1900" spc="-1" strike="noStrike">
                <a:solidFill>
                  <a:srgbClr val="ffffff"/>
                </a:solidFill>
                <a:latin typeface="굴림"/>
                <a:ea typeface="MS PGothic"/>
              </a:rPr>
              <a:t>（ゆき　ぐらもと）</a:t>
            </a:r>
            <a:r>
              <a:rPr b="1" lang="ko-KR" sz="19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is called the father of new age music in the world.</a:t>
            </a:r>
            <a:endParaRPr b="0" lang="en-US" sz="1900" spc="-1" strike="noStrike">
              <a:solidFill>
                <a:srgbClr val="ffffff"/>
              </a:solidFill>
              <a:latin typeface="굴림"/>
            </a:endParaRPr>
          </a:p>
          <a:p>
            <a:pPr marL="332640" indent="-332640"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Also Hisaishi</a:t>
            </a:r>
            <a:r>
              <a:rPr b="1" lang="ja-JP" sz="1900" spc="-1" strike="noStrike">
                <a:solidFill>
                  <a:srgbClr val="ffffff"/>
                </a:solidFill>
                <a:latin typeface="굴림"/>
                <a:ea typeface="MS PGothic"/>
              </a:rPr>
              <a:t>（ひさいし）</a:t>
            </a:r>
            <a:r>
              <a:rPr b="1" lang="ko-KR" sz="19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Joe and Ryuischi</a:t>
            </a:r>
            <a:r>
              <a:rPr b="1" lang="ko-KR" sz="19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Sakamoto are the famous artist, too</a:t>
            </a:r>
            <a:endParaRPr b="0" lang="en-US" sz="1900" spc="-1" strike="noStrike">
              <a:solidFill>
                <a:srgbClr val="ffffff"/>
              </a:solidFill>
              <a:latin typeface="굴림"/>
            </a:endParaRPr>
          </a:p>
          <a:p>
            <a:pPr marL="332640" indent="-332640"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the reason why Japanese' new age music are popular is because the music is introduced through Japanese animation suitably</a:t>
            </a:r>
            <a:endParaRPr b="0" lang="en-US" sz="19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그림 12" descr="6_ilosnow.gif"/>
          <p:cNvPicPr/>
          <p:nvPr/>
        </p:nvPicPr>
        <p:blipFill>
          <a:blip r:embed="rId2"/>
          <a:stretch/>
        </p:blipFill>
        <p:spPr>
          <a:xfrm>
            <a:off x="0" y="0"/>
            <a:ext cx="9275760" cy="6858000"/>
          </a:xfrm>
          <a:prstGeom prst="rect">
            <a:avLst/>
          </a:prstGeom>
          <a:ln w="0">
            <a:noFill/>
          </a:ln>
        </p:spPr>
      </p:pic>
      <p:pic>
        <p:nvPicPr>
          <p:cNvPr id="1022" name="그림 6" descr="joe-hisaishi.jpg"/>
          <p:cNvPicPr/>
          <p:nvPr/>
        </p:nvPicPr>
        <p:blipFill>
          <a:blip r:embed="rId3"/>
          <a:stretch/>
        </p:blipFill>
        <p:spPr>
          <a:xfrm>
            <a:off x="0" y="0"/>
            <a:ext cx="4243320" cy="3962520"/>
          </a:xfrm>
          <a:prstGeom prst="rect">
            <a:avLst/>
          </a:prstGeom>
          <a:ln w="0">
            <a:noFill/>
          </a:ln>
        </p:spPr>
      </p:pic>
      <p:pic>
        <p:nvPicPr>
          <p:cNvPr id="1023" name="그림 7" descr="767485.jpg"/>
          <p:cNvPicPr/>
          <p:nvPr/>
        </p:nvPicPr>
        <p:blipFill>
          <a:blip r:embed="rId4"/>
          <a:stretch/>
        </p:blipFill>
        <p:spPr>
          <a:xfrm>
            <a:off x="728676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024" name="그림 8" descr="lake louise.jpg"/>
          <p:cNvPicPr/>
          <p:nvPr/>
        </p:nvPicPr>
        <p:blipFill>
          <a:blip r:embed="rId5"/>
          <a:stretch/>
        </p:blipFill>
        <p:spPr>
          <a:xfrm>
            <a:off x="4929120" y="1571760"/>
            <a:ext cx="4214880" cy="2514600"/>
          </a:xfrm>
          <a:prstGeom prst="rect">
            <a:avLst/>
          </a:prstGeom>
          <a:ln w="0">
            <a:noFill/>
          </a:ln>
        </p:spPr>
      </p:pic>
      <p:pic>
        <p:nvPicPr>
          <p:cNvPr id="1025" name="그림 9" descr="ryuichi-sakamoto.jpg"/>
          <p:cNvPicPr/>
          <p:nvPr/>
        </p:nvPicPr>
        <p:blipFill>
          <a:blip r:embed="rId6"/>
          <a:stretch/>
        </p:blipFill>
        <p:spPr>
          <a:xfrm>
            <a:off x="0" y="4495680"/>
            <a:ext cx="3548160" cy="2362320"/>
          </a:xfrm>
          <a:prstGeom prst="rect">
            <a:avLst/>
          </a:prstGeom>
          <a:ln w="0">
            <a:noFill/>
          </a:ln>
        </p:spPr>
      </p:pic>
      <p:pic>
        <p:nvPicPr>
          <p:cNvPr id="1026" name="그림 11" descr="mrlawrenceost_cover.jpg"/>
          <p:cNvPicPr/>
          <p:nvPr/>
        </p:nvPicPr>
        <p:blipFill>
          <a:blip r:embed="rId7"/>
          <a:stretch/>
        </p:blipFill>
        <p:spPr>
          <a:xfrm>
            <a:off x="3500280" y="4500720"/>
            <a:ext cx="2857680" cy="2357280"/>
          </a:xfrm>
          <a:prstGeom prst="rect">
            <a:avLst/>
          </a:prstGeom>
          <a:ln w="0">
            <a:noFill/>
          </a:ln>
        </p:spPr>
      </p:pic>
      <p:sp>
        <p:nvSpPr>
          <p:cNvPr id="1027" name="TextBox 12"/>
          <p:cNvSpPr/>
          <p:nvPr/>
        </p:nvSpPr>
        <p:spPr>
          <a:xfrm>
            <a:off x="0" y="414324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るゅいち さかも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Box 13"/>
          <p:cNvSpPr/>
          <p:nvPr/>
        </p:nvSpPr>
        <p:spPr>
          <a:xfrm>
            <a:off x="4929120" y="57168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くらもと ゆう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Box 14"/>
          <p:cNvSpPr/>
          <p:nvPr/>
        </p:nvSpPr>
        <p:spPr>
          <a:xfrm>
            <a:off x="4311720" y="0"/>
            <a:ext cx="5461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ひさい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ぞ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Yuhki Kuramoto 'Lake Louise'.mp3" descr=""/>
          <p:cNvPicPr/>
          <p:nvPr/>
        </p:nvPicPr>
        <p:blipFill>
          <a:blip r:embed="rId8"/>
          <a:stretch/>
        </p:blipFill>
        <p:spPr>
          <a:xfrm>
            <a:off x="5148360" y="371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31" name="Ryuichi Sakamoto - Rain.mp3" descr=""/>
          <p:cNvPicPr/>
          <p:nvPr/>
        </p:nvPicPr>
        <p:blipFill>
          <a:blip r:embed="rId9"/>
          <a:stretch/>
        </p:blipFill>
        <p:spPr>
          <a:xfrm>
            <a:off x="0" y="4643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32" name="菊次郎の夏　summer.mp3" descr=""/>
          <p:cNvPicPr/>
          <p:nvPr/>
        </p:nvPicPr>
        <p:blipFill>
          <a:blip r:embed="rId10"/>
          <a:stretch/>
        </p:blipFill>
        <p:spPr>
          <a:xfrm>
            <a:off x="3851280" y="357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032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032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86304" fill="hold"/>
                                        <p:tgtEl>
                                          <p:spTgt spid="10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030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030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28256" fill="hold"/>
                                        <p:tgtEl>
                                          <p:spTgt spid="10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1031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031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215723" fill="hold"/>
                                        <p:tgtEl>
                                          <p:spTgt spid="10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J-Pop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611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02840" indent="-402840" algn="just">
              <a:lnSpc>
                <a:spcPct val="200000"/>
              </a:lnSpc>
              <a:spcBef>
                <a:spcPts val="499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ndara"/>
                <a:ea typeface="HY바다L"/>
              </a:rPr>
              <a:t>J- Pop means ‘Japanese pop’ but is also a loosely defined musical genre that entered the musical mainstream of Japan in the 1990s. 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marL="402840" indent="-402840" algn="just">
              <a:lnSpc>
                <a:spcPct val="200000"/>
              </a:lnSpc>
              <a:spcBef>
                <a:spcPts val="499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ndara"/>
                <a:ea typeface="HY바다L"/>
              </a:rPr>
              <a:t>The Japanese music industry is the second largest country in the world. 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marL="402840" indent="-402840" algn="just">
              <a:lnSpc>
                <a:spcPct val="200000"/>
              </a:lnSpc>
              <a:spcBef>
                <a:spcPts val="499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ndara"/>
              </a:rPr>
              <a:t>The Most j-pop singers are organized by in a group. The largest group of j-pop singer is 108 members in a group.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marL="402840" indent="-402840" algn="just">
              <a:lnSpc>
                <a:spcPct val="200000"/>
              </a:lnSpc>
              <a:spcBef>
                <a:spcPts val="499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ndara"/>
              </a:rPr>
              <a:t>It was coined by the Japanese media to distinguish Japanese music from foreign music and now refers to most of Japanese popular music.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marL="402840" indent="-402840" algn="just">
              <a:lnSpc>
                <a:spcPct val="100000"/>
              </a:lnSpc>
              <a:spcBef>
                <a:spcPts val="499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transition>
    <p:strips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4" dur="2000" fill="hold"/>
                                        <p:tgtEl>
                                          <p:spTgt spid="10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6697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703dff"/>
                </a:solidFill>
                <a:latin typeface="HY얕은샘물M"/>
                <a:ea typeface="HY얕은샘물M"/>
              </a:rPr>
              <a:t>J-Pop</a:t>
            </a:r>
            <a:endParaRPr b="0" lang="en-US" sz="8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6" name="동영상_0001.wmv" descr=""/>
          <p:cNvPicPr/>
          <p:nvPr/>
        </p:nvPicPr>
        <p:blipFill>
          <a:blip r:embed="rId1"/>
          <a:stretch/>
        </p:blipFill>
        <p:spPr>
          <a:xfrm>
            <a:off x="1714680" y="17146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036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036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5" dur="1" fill="hold"/>
                                        <p:tgtEl>
                                          <p:spTgt spid="10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그림 3" descr="10_ilosnow.gif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10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HY목각파임B"/>
                <a:ea typeface="HY목각파임B"/>
              </a:rPr>
              <a:t>International musicians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HY센스L"/>
                <a:ea typeface="HY센스L"/>
              </a:rPr>
              <a:t>In Japan, there are many international musicians; Caucasian(American, Canadians, Australian, Korean, Chinese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  <a:ea typeface="HY센스L"/>
              </a:rPr>
              <a:t>…</a:t>
            </a:r>
            <a:r>
              <a:rPr b="0" lang="en-US" sz="3600" spc="-1" strike="noStrike">
                <a:solidFill>
                  <a:srgbClr val="003366"/>
                </a:solidFill>
                <a:latin typeface="HY센스L"/>
                <a:ea typeface="HY센스L"/>
              </a:rPr>
              <a:t>.)</a:t>
            </a:r>
            <a:endParaRPr b="0" lang="en-US" sz="3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HY센스L"/>
                <a:ea typeface="HY센스L"/>
              </a:rPr>
              <a:t>Because people wants to listen more variety songs.</a:t>
            </a:r>
            <a:endParaRPr b="0" lang="en-US" sz="3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p:transition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68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68" fill="hold"/>
                                        <p:tgtEl>
                                          <p:spTgt spid="10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68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68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7:57:29Z</dcterms:created>
  <dc:creator>SD#34</dc:creator>
  <dc:description/>
  <dc:language>en-US</dc:language>
  <cp:lastModifiedBy>Owner</cp:lastModifiedBy>
  <dcterms:modified xsi:type="dcterms:W3CDTF">2009-12-17T05:45:15Z</dcterms:modified>
  <cp:revision>66</cp:revision>
  <dc:subject/>
  <dc:title> JAPANESE MUSIC </dc:title>
</cp:coreProperties>
</file>