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5.png" ContentType="image/png"/>
  <Override PartName="/ppt/media/image4.wmf" ContentType="image/x-wmf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2C5-1E2A-4CED-BF4D-459DE76D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BAD-5D6A-4273-B910-8D94F09A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497AD4-0C59-4EEA-8E58-64270B30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FE0DDE-C67C-427F-A796-EC2591B1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37284B-DAAD-4545-8F3B-1E36D68E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307CE3-2C5A-444D-830C-B95ED963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FBF5A2-3686-4286-B882-5573B183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627DF3-5DF6-4411-B7B0-E2132FA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3FF69C-ECDF-4F9B-8506-4FD14643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2FF8F3-171C-400A-A166-312A15BF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C89F8C-1DF1-4E03-AE92-D4A9FE58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BAFB8-DFBA-422A-AF9F-E1D12151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5D2-EB8A-49BF-ADD1-737BBF8C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7208F-DC6B-4C28-8875-2F35CE1D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1E75A-7EF8-4745-A385-21E7B0A9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DF765-C9A5-4DD4-BF1B-78E35FCD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1D55C-A6AA-4D39-961B-CB04DE95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8DD27-B3FA-42B7-B161-1631EC8C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9FBBC-1AAE-412B-96E5-84083714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A8552-FBD7-4CED-8D55-9C7BF6AF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1FC19-4514-422B-AA49-F052B386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16991-2F41-40FE-9EFC-5FF7CE91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BCD23-964E-4C25-A62B-B2D85479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398-D0F3-4192-8508-329760E8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89F79-681F-495D-AB97-EEEF56D2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885E6-CDC5-4EEC-B6A1-287A1CAC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275B3-EF7C-4FCE-8C33-30AE613D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201AE-D5F1-4526-8580-BECE3BC5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1F1AE-117F-4823-B6A6-7B6639CD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7AB0E-B786-4C0D-B72F-7FC57F49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3160D-8B37-4D79-8B66-CC94C396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F2D75-B9FF-49C2-9EB5-3F669CD9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71F33-426F-4E22-B0F6-C830DCF8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C5FDF-CE24-4444-AE08-82FFBE85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5846-075F-4037-AD48-CC4C8961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8EC37-8731-4532-8652-ADD311D2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1829F-14B3-4F4F-BF93-61DF057B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3D9B6-3957-429C-9315-906451A9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4963B-0044-4B4D-8AA4-0D00F2BB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60A42-8C46-47B0-8325-4DEA3ED0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5C4C4-0605-43CF-932D-6FEA63FC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1228C-7F62-4ACE-BADC-F4C9C134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30AA8-B0DD-4D44-B4AA-FFBC9EB8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AF351-0BF0-4DAB-BB30-7251DE36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8BC94-6CB5-4244-B0CB-418B8A23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3759-82AC-4B69-8D10-41683B67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02999-19A0-41A8-861E-9727B695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62079-83A3-4045-933F-F403130D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1C3B0-616F-4C04-A5DA-CC0CDF21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B3630-D91C-46C0-BC34-23CF5696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4D9A3-3AC8-4924-B6DB-269E9302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3C1BF-0A65-4E1B-8A08-1428C3DE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4C334-5654-4C22-A33F-C4421595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2C725-CEB3-4CB8-B565-8C0176CC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605FF-78AE-4C8A-9812-4F06D5B6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BAB2B-D1DA-4EF6-B444-4A254CD4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F7CC-26F8-4D6F-9E64-18B85C3B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5BD53-9610-4268-A148-66F8196F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2CDD0-271C-4037-A412-462DD634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38B52-7835-4D7C-A5D1-4618872C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8E85F-2F40-429F-99A6-3BFEE776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B9A68-18D2-4FE4-A27C-C0C4993C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08733-0E69-4965-838D-0D1272AF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A5B2B-E220-45C1-B0D5-730302C7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FD78CE-D9DC-4B6A-ADB4-667DC606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4E544F-762E-465E-887F-F21A1413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D793F0-C278-410C-B28B-BBD06EE3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BB10-3D17-4BCD-ADB7-BAAB7469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04160F-28B6-49C4-A209-56717882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BFBEDA-8F3C-4013-9401-8852CDF4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A18CA6-C727-4387-8991-AC5A20A9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AF5927-6A67-46E7-92D1-BA74744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19318A-F889-4B5A-8F89-3DC3852F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DECA08-B00E-4989-8DF0-657B5B24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66D56A-88C9-4989-BF96-C9C08E95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7E8CD2-2E8B-4D3F-B38E-9C03F708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5EF8C0-74E1-476D-8815-9C817648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6C65B-D93D-42B4-A729-75B15CC5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E9AF-98E0-458C-A97D-855DC812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E5295A-33A9-426C-BE12-A3DAC5D4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09EBB-15A8-4E95-A2B5-24A01160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D7EE25-F361-4787-A34C-CD08C2AE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0CDD6-0459-468F-8FF5-04517C23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2AAE4-4B06-4395-A721-9949B711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526D7-5ADD-4A9B-9F7C-54EBC22B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C8323-CA29-4A36-B820-408A81B6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67289-033A-4A19-99C1-9ED19A71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F08F02-4FD0-4EE0-9141-3EEB309D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8063E-94E6-4CBE-B08D-EF35179E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5A6F-3D57-46AB-BBD9-B3B7B080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34C2C-FBC3-41F2-9607-23D3B1A5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759085-F5CF-42DE-A24A-6CC12EDE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BB655A-56E3-4F64-9F3F-C00EFAE0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B158C-A8AD-48BB-8C33-FD234806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6A61F6-1342-42D2-83FB-87A34DF4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A8AA46-6A02-49A4-B21E-7A823BC8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092FF-8905-4ECC-8464-3CFCFF9C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B5FEC-6FDD-49B3-9CD7-36E15E8D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6F2C2D-E2B2-4524-9857-34701166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AC159-64C3-477E-AA01-24B3A67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55B2-FC7F-4474-B8AD-08AEEAA6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91F80-08A0-4B39-A009-9CF576E2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0D62C7-A244-4769-83E7-1C874331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57453C-79B1-443E-881A-B00333FD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A525A-FDAA-42E8-B24D-F9219F0B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DF44E9-50E4-479A-97D4-185B7796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41AB8-E150-4DA2-BD28-337EF249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BF4285-C4CA-441B-8854-7B431F0B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CDF1E-D542-49CF-9630-EE41307A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4DE03-90B0-4038-BBC6-EA50CA97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9A4EA-4C45-41A3-B874-8852F9A5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938-45E4-429C-B9B2-04DB276A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9B68-A519-44FB-868A-0526A909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1CF299-6E6D-48DD-86CC-EFE5CA5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816C63-C0D8-4AA9-8147-022A7EBF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471DF9-DFCA-4FF5-874A-8F69CE45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8174B-D910-46B0-98E4-CF5767A5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ECE49-D674-4182-92AF-010CBB7A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03E1B-7FE8-4FD3-9D62-9B049EB4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920FA-78B3-4EBB-88FF-32D53534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BF6D5-448A-47FE-AF4F-48F52608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F0812-21CA-486D-8F15-1A9704FF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3DB4E9-42D8-4EE7-82B2-25E60AF4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B87A-26F1-4AC8-876E-D53A29F8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23288B-5C09-4209-92DE-F05C50FA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03CDD5-58F0-4C66-9A24-6345DCA9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E6B2A8-E77B-47C2-9F0A-C8AF1E66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31E72-467F-4BD1-BB6F-EA0CF633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FC3181-A95D-481F-B598-F21563F9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B69755-6DDC-4D5F-BD36-AEDDDD49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9A487E-1454-45FD-9BB6-5E25F954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E2D4-0987-4B09-BFC4-F2B689D3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6A0C-2324-45BA-B1C5-B770493D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07B0-08A4-4D1A-8FCD-4EC5F61D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C0B6-B4FF-47CC-9B78-9E8A8992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4966F-55F0-434D-895D-3C531DFE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DA06-D8E1-4744-B1DB-1E712920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8453-398E-440C-9B05-D4E28BCC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3F24D-029B-4CE5-B152-ACA28940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8FD-B9CF-4632-99E1-9C5D0293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26EE-8C8C-4B12-90B8-FF442520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0E804-6106-4841-8630-27E72769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C2DF-76CF-4C29-BD75-CF93858B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3858-7EA6-4F36-A224-6FC8C5D2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259F-EE79-4AAB-9BE5-DC52EFBF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4CC1-B2CD-4323-9077-B8EBEB8E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385C-7229-473C-9E81-C014797F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56CE3-448C-42C4-8837-1B09DDDE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55E7F-F9E8-4D23-B1E3-A6B4F9DF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1D064-BC33-4696-A279-A363A8F1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36D-3CDD-433F-B33C-522C6909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D69D5-6BCF-4805-A3C5-54931A21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1E59D-7B8D-400D-8DD7-22A9110D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9E3BE-6213-4B3A-B5DB-21448B9B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6D7E9-5224-4AC2-8BE8-9F45895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52F8-BCEB-40A5-9BB1-55E671E6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B06E3-FACC-4466-9A7E-46DB68E5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B821-13AC-465E-94B8-68F061C9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03E14-5A99-411C-BE29-D3F1A7F0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FDEC7-84F5-426F-B09B-39236599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B9B33-44E1-4B8C-A6A7-09A9846F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005-4766-46B3-96AC-2D6DD3AC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02E7E-9F23-447E-9C35-0345F5D6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6C547-4FCB-48B2-BEB8-7F5F03CB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F9A9C-3A26-4546-894B-0436E7B3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67302-3434-481C-A2DE-0753D7CB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442BF-6043-4B02-8A5F-7E2B94DF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1593F-F0C6-4A62-84B5-652AF1CF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3AAC6-302B-4283-85B0-E04A2760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DE778-DC8A-4503-B381-F0760F5E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1B18B-5990-4F11-A5A6-70AF1B95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96065-3C9C-4D96-A1F5-A400FBFB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512-85C1-4E12-A89B-77264CF7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CF707-1BB7-4024-AF5C-07E9FF23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9694C-0C5C-4F9F-84B6-470B779B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91AD2-ACD3-4E45-BBE2-496EB99B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3FD96-4525-480B-9498-BCEB643B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ECF44-49E9-40B3-92C2-9AEB7B8D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73A15-6453-485F-A94D-596DA90B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EE170-5B5B-43E8-9187-A9559B9D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973B1-353D-4D1B-9711-E95FD472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6C8A5-F117-4F4E-A6E8-A74174C0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BFE93-9DE4-4C21-8C2B-8779B791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650-251A-472C-A7ED-974D9AA8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47A23-DFA9-4089-8A5A-C6A79C05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C96A1-C66D-438C-8CD5-579589F3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6157C-10E5-4CE4-84BA-712515E2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FE6B2-3756-4929-A38A-9DEC8D54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77256-3FA3-4882-8AAF-2863B0F2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6EAD6-F3D0-4B18-8216-589A7DA6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DC817-FD7B-4A96-A2F9-0F7CB229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2BC7D-4816-48E0-961E-3BFFE641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4BA38-6528-4869-8582-F473D020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E2FDA-2973-4AC1-981B-C6E4FDA3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905-37E2-4936-9494-268C7A8D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59BCB-D1FE-445A-96FC-F4E26919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E9AF0-67D4-4EF6-96CF-1B87732F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EF637-B31A-4050-AA07-6C68B3F0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29B5-53E6-404B-A580-5C7A742B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90D6D-500F-4D51-93CD-0F1DD526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2BC38-CCAC-4EBD-AA86-8E9C5DC7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A87D3-7AF1-46B9-85FB-D3322655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63BD5-5C51-4952-92D8-C174B8C2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F9925-EA55-4BCA-BB0E-809BFFE6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44AF4-A0D7-45F1-A513-71715282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45D-C4AF-4BAD-AF5F-076BA005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8D7C8-CAA9-43E7-B06E-E6772A0D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18F17-D8EC-427E-A785-B4CC9203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E1513-5FAB-4546-BB07-05200E9F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49F58-AE43-4013-A68E-86353E36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3F40E-8000-42E2-970E-2E59DFF7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8DA81-D0F2-47A0-B964-41C06A5F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8017D-24F1-4CF7-8F45-400448F2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70A100-C7B0-43EF-84F4-B9B68B87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0F745B-248C-4B57-BFD7-15B63CF1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8D89A5-837B-4971-AC84-4CA403B6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744F-12CD-4D50-94A7-6E1D3382898D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0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21C8-C965-451B-AC45-189F5BC7F3DD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2"/>
          <p:cNvSpPr/>
          <p:nvPr/>
        </p:nvSpPr>
        <p:spPr>
          <a:xfrm>
            <a:off x="838080" y="2273400"/>
            <a:ext cx="7772400" cy="11588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cade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0235-59CD-4EEE-9DA4-5BA2AE944B0A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9E45-77DF-4957-AFFA-6551924377B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7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FC3C-4906-4FB3-9FDA-287DAB2C14F9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73C3-E8EF-4F1F-A759-7AB440E5C75C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A33B-B91B-4104-9C13-78F358221BB5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45" name="Group 20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6" name="Rectangle 21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22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23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24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25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Rectangle 26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Oval 27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8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9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30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6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47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D11B-862A-41C1-A8F0-1138EC5C37F6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9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0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C564-E87C-4B5D-B1CB-DB57B43F3B11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0978-FC9F-42BC-BFF1-5E1A7BDB9FE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>
            <a:off x="685800" y="228600"/>
            <a:ext cx="8153280" cy="1158840"/>
          </a:xfrm>
          <a:custGeom>
            <a:avLst/>
            <a:gdLst>
              <a:gd name="textAreaLeft" fmla="*/ 0 w 8153280"/>
              <a:gd name="textAreaRight" fmla="*/ 8153640 w 81532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d4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6D9D-9AC2-4258-B777-0534F9B5F2F2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E01A-2164-418D-8325-4588726F2E2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2556-0192-4CE2-A276-2ADC46D82465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BED1-93EC-4AF9-830A-5BA786D14BFD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985A-0154-4ADB-9272-7BA1D66EB3A2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9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1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3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365" name="Rectangle 24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25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948C-F0D2-403F-8969-1CE6159A7E56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0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1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20D2-3DCF-4368-A990-84C0D422AD95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BCF8-D7DF-4472-BD51-8846A0CFA5C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image" Target="../media/image7.png"/><Relationship Id="rId12" Type="http://schemas.openxmlformats.org/officeDocument/2006/relationships/slide" Target="slide4.xml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그림 3" descr="25_ilosnow.gif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JAPANESE</a:t>
            </a:r>
            <a:br>
              <a:rPr sz="6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MUSIC</a:t>
            </a: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2269800" y="3794040"/>
            <a:ext cx="46782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Yesle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iyeon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BLK:B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HY목각파임B"/>
                <a:ea typeface="HY목각파임B"/>
              </a:rPr>
              <a:t>International Musician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93080" cy="39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68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68" fill="hold"/>
                                        <p:tgtEl>
                                          <p:spTgt spid="10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4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4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10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ohnnys &amp;associ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85480" y="1571760"/>
            <a:ext cx="44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Johnny&amp;Associates (</a:t>
            </a:r>
            <a:r>
              <a:rPr b="1" lang="ja-JP" sz="1600" spc="-1" strike="noStrike">
                <a:solidFill>
                  <a:srgbClr val="000000"/>
                </a:solidFill>
                <a:latin typeface="Candara"/>
                <a:ea typeface="HY바다L"/>
              </a:rPr>
              <a:t>ジャニーズ</a:t>
            </a:r>
            <a:r>
              <a:rPr b="1" lang="ko-KR" sz="1600" spc="-1" strike="noStrike">
                <a:solidFill>
                  <a:srgbClr val="000000"/>
                </a:solidFill>
                <a:latin typeface="Candara"/>
                <a:ea typeface="HY바다L"/>
              </a:rPr>
              <a:t>事務所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, janīzu jimusho), a well-known boys idol entertainment company in Japan, was established in 1963 by Johnny Kitagawa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It accepts and trains talented boys and promotes their debuts to the entertainment industry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Starting with group name "Johnnys" in 1962, Johnny&amp;Associates has debuted over twenty groups so far. The most famous groups of today include SMAP(debuted in 1991), TOKIO(1994), V6(1996), Kinki Kids(1997), Arashi(1999), Tackey and Tsubasa(2001), NewS(2003), Kanjani∞(2005), KAT-TUN(2006), and Hey! Say! JUMP(2007)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4" name="그림 7" descr="heysayjumpheysayjump.jpg"/>
          <p:cNvPicPr/>
          <p:nvPr/>
        </p:nvPicPr>
        <p:blipFill>
          <a:blip r:embed="rId1"/>
          <a:stretch/>
        </p:blipFill>
        <p:spPr>
          <a:xfrm>
            <a:off x="4643280" y="1628640"/>
            <a:ext cx="3929400" cy="2372040"/>
          </a:xfrm>
          <a:prstGeom prst="rect">
            <a:avLst/>
          </a:prstGeom>
          <a:ln w="0">
            <a:noFill/>
          </a:ln>
        </p:spPr>
      </p:pic>
      <p:pic>
        <p:nvPicPr>
          <p:cNvPr id="1045" name="그림 8" descr="imagesCA7O2IJ0.jpg"/>
          <p:cNvPicPr/>
          <p:nvPr/>
        </p:nvPicPr>
        <p:blipFill>
          <a:blip r:embed="rId2"/>
          <a:stretch/>
        </p:blipFill>
        <p:spPr>
          <a:xfrm>
            <a:off x="5435640" y="407664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그림 1" descr="wallpaper-arashi-c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2"/>
          <p:cNvSpPr/>
          <p:nvPr/>
        </p:nvSpPr>
        <p:spPr>
          <a:xfrm>
            <a:off x="1143000" y="100008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さいま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Y목판L"/>
                <a:ea typeface="HY목판L"/>
              </a:rPr>
              <a:t>CHAR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Traditional music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New Age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-Pop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International musician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ohnnys &amp; Association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Traditional Music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0294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here are a several types of Japanese traditional music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764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-고딩M"/>
              </a:rPr>
              <a:t>が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ncient court music from China and Korea. It is the oldest type of Japanese, traditional music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びわ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4" action="ppaction://hlinksldjump"/>
              </a:rPr>
              <a:t>Biwa,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 kind of guitar with four stri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のほ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during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6" action="ppaction://hlinksldjump"/>
              </a:rPr>
              <a:t>Noh performances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t basically consists of a chorus, the Hayashi flute, the Tsuzumi drum, and other instrument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そきょ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8" action="ppaction://hlinksldjump"/>
              </a:rPr>
              <a:t>Koto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type of zither with 13 strings. Later also accompanied by Shamisen and Shakuhachi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くはち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0" action="ppaction://hlinksldjump"/>
              </a:rPr>
              <a:t>Shakuhachi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bamboo flute that is about 55 cm long. The name of the flute is its length expressed in 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</a:rPr>
              <a:t>shaku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an old Japanese unit of length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みせのん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2" action="ppaction://hlinksldjump"/>
              </a:rPr>
              <a:t>Shamisen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kind of guitar with only three strings. Kabuki and Bunraku performances are accompanied by the shamisen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みんよ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apanese folk so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6" name="雅楽：越天楽  Gagaku-Etenraku.mp3" descr=""/>
          <p:cNvPicPr/>
          <p:nvPr/>
        </p:nvPicPr>
        <p:blipFill>
          <a:blip r:embed="rId14"/>
          <a:stretch/>
        </p:blipFill>
        <p:spPr>
          <a:xfrm>
            <a:off x="1571760" y="1643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7" name="HeikeOdori(Japanese Minyo).mp3" descr=""/>
          <p:cNvPicPr/>
          <p:nvPr/>
        </p:nvPicPr>
        <p:blipFill>
          <a:blip r:embed="rId15"/>
          <a:stretch/>
        </p:blipFill>
        <p:spPr>
          <a:xfrm>
            <a:off x="1571760" y="5572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582059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2795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그림 5" descr="untitled.bmp"/>
          <p:cNvPicPr/>
          <p:nvPr/>
        </p:nvPicPr>
        <p:blipFill>
          <a:blip r:embed="rId1"/>
          <a:stretch/>
        </p:blipFill>
        <p:spPr>
          <a:xfrm>
            <a:off x="5815080" y="0"/>
            <a:ext cx="3328920" cy="2103480"/>
          </a:xfrm>
          <a:prstGeom prst="rect">
            <a:avLst/>
          </a:prstGeom>
          <a:ln w="0">
            <a:noFill/>
          </a:ln>
        </p:spPr>
      </p:pic>
      <p:pic>
        <p:nvPicPr>
          <p:cNvPr id="1009" name="그림 6" descr="Shakuhachi_Set_1-anak1981.jpg"/>
          <p:cNvPicPr/>
          <p:nvPr/>
        </p:nvPicPr>
        <p:blipFill>
          <a:blip r:embed="rId2"/>
          <a:stretch/>
        </p:blipFill>
        <p:spPr>
          <a:xfrm>
            <a:off x="6467400" y="4037040"/>
            <a:ext cx="2676600" cy="2820960"/>
          </a:xfrm>
          <a:prstGeom prst="rect">
            <a:avLst/>
          </a:prstGeom>
          <a:ln w="0">
            <a:noFill/>
          </a:ln>
        </p:spPr>
      </p:pic>
      <p:sp>
        <p:nvSpPr>
          <p:cNvPr id="1010" name="TextBox 7"/>
          <p:cNvSpPr/>
          <p:nvPr/>
        </p:nvSpPr>
        <p:spPr>
          <a:xfrm>
            <a:off x="6983280" y="20001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t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こ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8"/>
          <p:cNvSpPr/>
          <p:nvPr/>
        </p:nvSpPr>
        <p:spPr>
          <a:xfrm>
            <a:off x="4857840" y="54291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uha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くは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그림 9" descr="biwa.jpg"/>
          <p:cNvPicPr/>
          <p:nvPr/>
        </p:nvPicPr>
        <p:blipFill>
          <a:blip r:embed="rId3"/>
          <a:stretch/>
        </p:blipFill>
        <p:spPr>
          <a:xfrm>
            <a:off x="0" y="4324320"/>
            <a:ext cx="2571840" cy="2533680"/>
          </a:xfrm>
          <a:prstGeom prst="rect">
            <a:avLst/>
          </a:prstGeom>
          <a:ln w="0">
            <a:noFill/>
          </a:ln>
        </p:spPr>
      </p:pic>
      <p:sp>
        <p:nvSpPr>
          <p:cNvPr id="1013" name="TextBox 10"/>
          <p:cNvSpPr/>
          <p:nvPr/>
        </p:nvSpPr>
        <p:spPr>
          <a:xfrm>
            <a:off x="0" y="38577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wa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び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그림 10" descr="250px-Noh3.jpg"/>
          <p:cNvPicPr/>
          <p:nvPr/>
        </p:nvPicPr>
        <p:blipFill>
          <a:blip r:embed="rId4"/>
          <a:stretch/>
        </p:blipFill>
        <p:spPr>
          <a:xfrm>
            <a:off x="0" y="0"/>
            <a:ext cx="3643200" cy="2681280"/>
          </a:xfrm>
          <a:prstGeom prst="rect">
            <a:avLst/>
          </a:prstGeom>
          <a:ln w="0">
            <a:noFill/>
          </a:ln>
        </p:spPr>
      </p:pic>
      <p:pic>
        <p:nvPicPr>
          <p:cNvPr id="1015" name="그림 11" descr="images.jpg"/>
          <p:cNvPicPr/>
          <p:nvPr/>
        </p:nvPicPr>
        <p:blipFill>
          <a:blip r:embed="rId5"/>
          <a:stretch/>
        </p:blipFill>
        <p:spPr>
          <a:xfrm>
            <a:off x="2500200" y="4714920"/>
            <a:ext cx="2357640" cy="2143080"/>
          </a:xfrm>
          <a:prstGeom prst="rect">
            <a:avLst/>
          </a:prstGeom>
          <a:ln w="0">
            <a:noFill/>
          </a:ln>
        </p:spPr>
      </p:pic>
      <p:sp>
        <p:nvSpPr>
          <p:cNvPr id="1016" name="직사각형 12"/>
          <p:cNvSpPr/>
          <p:nvPr/>
        </p:nvSpPr>
        <p:spPr>
          <a:xfrm>
            <a:off x="2643120" y="40006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m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みせ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직사각형 13"/>
          <p:cNvSpPr/>
          <p:nvPr/>
        </p:nvSpPr>
        <p:spPr>
          <a:xfrm>
            <a:off x="0" y="264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h Performance(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の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그림 3" descr="32_ilosnow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New age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New age is music of various styles, which is intended to create inspiration, relaxation, and positive feelings, often used by listeners for yoga, massage, inspiration, relaxation, meditation and reading as a method of stress management or to create a peaceful atmosphere in their home or other environments often associated with environmentalism and New Age spirituality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lnSpc>
                <a:spcPct val="15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most famous New Age music artists are Japanese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Yuki Guramoto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ゆき　ぐらもと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is called the father of new age music in the world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Also Hisaishi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ひさいし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Joe and Ryuischi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Sakamoto are the famous artist, too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reason why Japanese' new age music are popular is because the music is introduced through Japanese animation suitably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그림 12" descr="6_ilosnow.gif"/>
          <p:cNvPicPr/>
          <p:nvPr/>
        </p:nvPicPr>
        <p:blipFill>
          <a:blip r:embed="rId2"/>
          <a:stretch/>
        </p:blipFill>
        <p:spPr>
          <a:xfrm>
            <a:off x="0" y="0"/>
            <a:ext cx="9275760" cy="6858000"/>
          </a:xfrm>
          <a:prstGeom prst="rect">
            <a:avLst/>
          </a:prstGeom>
          <a:ln w="0">
            <a:noFill/>
          </a:ln>
        </p:spPr>
      </p:pic>
      <p:pic>
        <p:nvPicPr>
          <p:cNvPr id="1022" name="그림 6" descr="joe-hisaishi.jpg"/>
          <p:cNvPicPr/>
          <p:nvPr/>
        </p:nvPicPr>
        <p:blipFill>
          <a:blip r:embed="rId3"/>
          <a:stretch/>
        </p:blipFill>
        <p:spPr>
          <a:xfrm>
            <a:off x="0" y="0"/>
            <a:ext cx="4243320" cy="3962520"/>
          </a:xfrm>
          <a:prstGeom prst="rect">
            <a:avLst/>
          </a:prstGeom>
          <a:ln w="0">
            <a:noFill/>
          </a:ln>
        </p:spPr>
      </p:pic>
      <p:pic>
        <p:nvPicPr>
          <p:cNvPr id="1023" name="그림 7" descr="767485.jpg"/>
          <p:cNvPicPr/>
          <p:nvPr/>
        </p:nvPicPr>
        <p:blipFill>
          <a:blip r:embed="rId4"/>
          <a:stretch/>
        </p:blipFill>
        <p:spPr>
          <a:xfrm>
            <a:off x="728676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24" name="그림 8" descr="lake louise.jpg"/>
          <p:cNvPicPr/>
          <p:nvPr/>
        </p:nvPicPr>
        <p:blipFill>
          <a:blip r:embed="rId5"/>
          <a:stretch/>
        </p:blipFill>
        <p:spPr>
          <a:xfrm>
            <a:off x="4929120" y="1571760"/>
            <a:ext cx="4214880" cy="2514600"/>
          </a:xfrm>
          <a:prstGeom prst="rect">
            <a:avLst/>
          </a:prstGeom>
          <a:ln w="0">
            <a:noFill/>
          </a:ln>
        </p:spPr>
      </p:pic>
      <p:pic>
        <p:nvPicPr>
          <p:cNvPr id="1025" name="그림 9" descr="ryuichi-sakamoto.jpg"/>
          <p:cNvPicPr/>
          <p:nvPr/>
        </p:nvPicPr>
        <p:blipFill>
          <a:blip r:embed="rId6"/>
          <a:stretch/>
        </p:blipFill>
        <p:spPr>
          <a:xfrm>
            <a:off x="0" y="4495680"/>
            <a:ext cx="3548160" cy="2362320"/>
          </a:xfrm>
          <a:prstGeom prst="rect">
            <a:avLst/>
          </a:prstGeom>
          <a:ln w="0">
            <a:noFill/>
          </a:ln>
        </p:spPr>
      </p:pic>
      <p:pic>
        <p:nvPicPr>
          <p:cNvPr id="1026" name="그림 11" descr="mrlawrenceost_cover.jpg"/>
          <p:cNvPicPr/>
          <p:nvPr/>
        </p:nvPicPr>
        <p:blipFill>
          <a:blip r:embed="rId7"/>
          <a:stretch/>
        </p:blipFill>
        <p:spPr>
          <a:xfrm>
            <a:off x="3500280" y="4500720"/>
            <a:ext cx="2857680" cy="2357280"/>
          </a:xfrm>
          <a:prstGeom prst="rect">
            <a:avLst/>
          </a:prstGeom>
          <a:ln w="0">
            <a:noFill/>
          </a:ln>
        </p:spPr>
      </p:pic>
      <p:sp>
        <p:nvSpPr>
          <p:cNvPr id="1027" name="TextBox 12"/>
          <p:cNvSpPr/>
          <p:nvPr/>
        </p:nvSpPr>
        <p:spPr>
          <a:xfrm>
            <a:off x="0" y="41432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るゅいち さかも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4929120" y="5716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らもと ゆう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14"/>
          <p:cNvSpPr/>
          <p:nvPr/>
        </p:nvSpPr>
        <p:spPr>
          <a:xfrm>
            <a:off x="4311720" y="0"/>
            <a:ext cx="546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さい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ぞ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Yuhki Kuramoto 'Lake Louise'.mp3" descr=""/>
          <p:cNvPicPr/>
          <p:nvPr/>
        </p:nvPicPr>
        <p:blipFill>
          <a:blip r:embed="rId8"/>
          <a:stretch/>
        </p:blipFill>
        <p:spPr>
          <a:xfrm>
            <a:off x="514836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1" name="Ryuichi Sakamoto - Rain.mp3" descr=""/>
          <p:cNvPicPr/>
          <p:nvPr/>
        </p:nvPicPr>
        <p:blipFill>
          <a:blip r:embed="rId9"/>
          <a:stretch/>
        </p:blipFill>
        <p:spPr>
          <a:xfrm>
            <a:off x="0" y="4643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2" name="菊次郎の夏　summer.mp3" descr=""/>
          <p:cNvPicPr/>
          <p:nvPr/>
        </p:nvPicPr>
        <p:blipFill>
          <a:blip r:embed="rId10"/>
          <a:stretch/>
        </p:blipFill>
        <p:spPr>
          <a:xfrm>
            <a:off x="385128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86304" fill="hold"/>
                                        <p:tgtEl>
                                          <p:spTgt spid="10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28256" fill="hold"/>
                                        <p:tgtEl>
                                          <p:spTgt spid="10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5723" fill="hold"/>
                                        <p:tgtEl>
                                          <p:spTgt spid="10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-Pop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J- Pop means ‘Japanese pop’ but is also a loosely defined musical genre that entered the musical mainstream of Japan in the 1990s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The Japanese music industry is the second largest country in the world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The Most j-pop singers are organized by in a group. The largest group of j-pop singer is 108 members in a group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It was coined by the Japanese media to distinguish Japanese music from foreign music and now refers to most of Japanese popular music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1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97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03dff"/>
                </a:solidFill>
                <a:latin typeface="HY얕은샘물M"/>
                <a:ea typeface="HY얕은샘물M"/>
              </a:rPr>
              <a:t>J-Pop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6" name="동영상_0001.wmv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0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그림 3" descr="10_ilosnow.gif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HY목각파임B"/>
                <a:ea typeface="HY목각파임B"/>
              </a:rPr>
              <a:t>International musicians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In Japan, there are many international musicians; Caucasian(American, Canadians, Australian, Korean, Chinese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HY센스L"/>
              </a:rPr>
              <a:t>…</a:t>
            </a: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.)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Because people wants to listen more variety songs.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0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7:29Z</dcterms:created>
  <dc:creator>SD#34</dc:creator>
  <dc:description/>
  <dc:language>en-US</dc:language>
  <cp:lastModifiedBy>Owner</cp:lastModifiedBy>
  <dcterms:modified xsi:type="dcterms:W3CDTF">2009-12-17T05:45:15Z</dcterms:modified>
  <cp:revision>66</cp:revision>
  <dc:subject/>
  <dc:title> JAPANESE MUSIC </dc:title>
</cp:coreProperties>
</file>