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9.png" ContentType="image/png"/>
  <Override PartName="/ppt/media/image6.gif" ContentType="image/gif"/>
  <Override PartName="/ppt/media/image11.jpeg" ContentType="image/jpeg"/>
  <Override PartName="/ppt/media/image8.png" ContentType="image/png"/>
  <Override PartName="/ppt/media/image7.png" ContentType="image/png"/>
  <Override PartName="/ppt/media/image10.jpeg" ContentType="image/jpeg"/>
  <Override PartName="/ppt/media/image5.png" ContentType="image/png"/>
  <Override PartName="/ppt/media/image4.wmf" ContentType="image/x-wmf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37C-34EF-40E5-8A26-78E4314B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7206-E373-4428-AEDE-B9162AFF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C95B1E-12CE-416E-B57B-40D6441C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02256E-9E92-4B88-AF26-41622BC7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09B108-5B7B-4855-AC55-9A6B27E3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C620D5-F252-48E3-B296-BDC48022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BA83A1-C85E-4DB9-A47A-3930CCD0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5E06D1-5D4B-4AB1-A6CC-805FE046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FA4901-7A9A-437E-BFA4-DEDABD0E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B0F13C-149A-4A7F-BBA4-A1C6A4BA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3352A7-06E7-4943-A786-EA30F217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B654A-3A24-4D28-A2F4-CF8DE874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E345-AD5A-4FBA-8885-DC0380C8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FC963-588B-4FE9-B5E3-BEDE7689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9C44A-AAF1-462E-812A-DC7C3284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B1411-0339-4CF6-9536-56EE923B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29A9F-7598-4DCD-99D2-D3EB9740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A4FEF-72C9-4941-8697-3B4727E6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73BA1-0A8C-404A-BF5A-92C00A3D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8E59D-585A-4E68-956D-CD91F74E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16760-219C-479B-BA3E-B997C638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BA2FF-0560-4B59-B324-D7F36987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6C361-6D1A-47E4-90D5-89018E9A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904-8410-4DCB-A055-CA7459AF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E7876-51F0-41EA-86E7-2D7722C7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EA7D4-93FB-402C-9FC7-5F9C109D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0B0A2-78E5-4ADA-9EDE-6297AE4C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3D12C-655C-45F3-8CC0-99C69469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11328-4EDA-4D18-95C9-1104DC5C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AFFE0-58AA-4E9D-8613-3EDCDCBA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99A1D-FDBB-4B8D-8F94-98135681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A7CC9-08E5-4F42-AD22-EBFE6549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6C62B-6B16-42C6-8B9F-E2E91C18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9AC40-E1E9-4D9A-A325-4C1BB5D2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0817-66A4-40E5-860A-CEC93889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5ED16-DC22-4418-9A87-B3D91A6E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DCCF0-ADB9-48E5-829D-A4C0159A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4E557-5EA5-42AD-833E-C8FDE798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4B0BE-635B-47EC-BF06-7B391F3F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D484C-37FF-42F0-AF2E-69B2B97B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EEF1B-E3A7-4D5A-9C49-D39824D9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D97FD-C720-4D5D-AEE7-ABC3DAEB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ACF26-800E-40DA-B4F8-C0DA8C8E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FE1BD-AAFA-4DD6-9E2E-3AAEA6B9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84591-BAB7-4879-9847-48FAC687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FE4B-9BFC-4611-A7B2-810AD3EB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D0E97-D2DF-4D92-AE8A-B5C2F714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889B2-4C7D-422A-BBA9-71649E5C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DD826-9416-4F1D-B417-0DD80D8E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E68B1-3BE1-4101-97DA-D48BBB58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58D9A-F2BB-4645-9D04-73CE3A8C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72BE8E-D123-4D21-B861-E8689F83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164014-AC82-468D-9F61-E9CDE35C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0D0B9E-01B5-40E2-A414-298D6281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6370D-C912-4F3E-B690-E588792C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A0535-EA41-4DFE-A97A-7DBC872E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7DF1-2305-4817-82AE-38E052C4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5078B-8FEB-485C-93C7-8676F187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10B36-D279-498B-B622-AC67D41F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AC780-5195-4F58-BC13-273B2FDE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A4D2B-EC98-4FD1-81A5-90E5EF04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933B3-CBA3-43D9-993C-97B1DF40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011FF-B6F2-415F-9CC4-401D7EF0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C8664D-0AEF-4BF0-83A6-BD89ABE4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309BC4-E347-42F3-8A31-678A0D6F2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6D5837-40E5-4775-A102-025EDB11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77E7717-91B0-41F2-9F50-DEF5F084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7659-FCFD-4A46-A4C7-517A7BBF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57E725-0980-4979-B177-54AF7C99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ACE5BC-91E2-4C8D-BD1C-7689B590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A3175F-40CA-4B27-A946-48F0CC25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154A53-5939-4522-9C44-D5116DA3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B318705-AE13-445E-A592-21B06114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556BBAC-3A02-4A5C-98FA-8FAB694D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2CA5DE-61A3-4DA7-B2B4-C3382A28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9260EA-BD24-4666-B923-C685963C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21E1F18-2D49-4A4C-B3B0-38EEFD19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74F19-F505-469C-9E39-ACA8DA29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2B21-4A3C-40B9-A048-AF21F32B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111CF7-9945-4551-A1BF-05B7B477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C920FB-76F7-4EC2-B0A9-F4E7D0F8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F337DC-F6AC-4C9D-9F21-963BBF58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06A943-6045-43FA-AC48-A4B16C97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13CC0F-7281-43D9-A594-A945B868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D95EB3-29E1-4FAE-A975-51CA1AAB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F7B004-0AF4-43E8-AE8B-FF1E9488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17BDA0-A09A-47E3-92A8-3153625A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8A2356-F6A1-4A15-BF6A-B34A0BCD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1BA696-5F80-4E10-8042-4181CCD7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E26B-C99B-4AD8-B63F-81C4A800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2CB143-97FA-423A-AAE9-32D05D6D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F29B4E-B808-4525-86F7-56758196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DD5427-7405-4A09-8F99-58FE0B8C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E0F715-CCAD-4FC6-AB2B-3524A33A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2C09DD-8276-441E-B512-2395BDA5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D05AB7-8F6D-44A8-AD28-F9F27262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718AF1-4098-417A-84D9-0924B082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D4736F-DA9C-4BB3-89DB-209C4FA1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0AC99F-107E-4B0F-BB98-B2433F3E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E4C6D7-4191-4EFB-9355-CB1008AC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4FCD-649F-4644-988C-BFEF181B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132AF4-ED03-4D3D-8BFD-EDCB775A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8CF714-2050-4390-A860-18CD5421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12A447-7461-43EA-8D84-F719B3EA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C9D752-C531-44F2-8B11-24B4C3B1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2B139A-CBA6-415B-9E28-7B68AFE4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A9BD30-90D8-42F2-87AE-5B94BB09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4C9E32-5730-4E57-B262-7AD5DA20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49E450-6B73-47DF-88C1-1156BDF5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EB7605-842A-4FE0-B960-50E2E4F1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E4A0BA-89F4-434D-8FEE-51BADFCC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42BA-E56A-4DF5-9E61-E2B7A97F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D32C-2B25-46C4-A740-4508563B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F44B7D-DD53-4E96-84FD-09823CF4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7E521A-DA6F-4B81-850D-92F7A70F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5B4D15-EC78-43A9-87F6-13554A1A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612103-8B09-4488-9E2B-9295515E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57478D-67C1-43BC-AE6E-7901804F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BD3C44-4AC6-447B-B19B-83AAEBF4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D73EE9-0F0A-40D1-BB2B-9374B42D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C09B5B-7E88-48D1-82A1-8F442978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B2CF7D-1795-4ABA-941B-D48E8562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7217B4-A212-4A75-A398-9522EE6A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86FF-2770-42C2-9F24-05828C86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5CAD13-70AE-4AC6-A864-EEA38987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1505E1-55F1-4D32-82CE-571C3115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9519D1-8748-45DB-936E-8F9F195F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27EAF4-0428-4E1A-BC7B-8767869B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BC3DB5-75AC-407B-88CF-6F43EAC3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77281B-6A79-43A9-88B9-3CE564B2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D28AFC-BC26-4A90-9220-E0CCA567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B0C6-AEAC-4CA6-A183-085C98C9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FD84-3F29-400F-B6A8-C705E86E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E3D6-98D5-449F-AB43-00521E2B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8DACE-2B71-4F2A-966C-F509103F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F68DE-FA3F-493C-A0FC-7EBA756B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6D5B5-D153-4220-BA83-42BB7C34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6DB2A-4CF2-4526-A0EB-0D5575AD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C9B93-6680-4AA2-98C2-5AFAB282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42CE-CBCA-4E97-ACEA-E0D2798D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04CE5-5E7F-4A4B-A707-A912C956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82BA3-ECF4-43DA-9D12-67BBC5D4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08BC6-CFF6-4F20-B83F-1F9917CF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CCC2F-E3B0-4BEF-A152-49257F46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04E2C-5C37-4D99-A134-BE74063F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7F02C-5893-4547-83D1-A097912B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25AC0-E0C2-410D-998F-B3131B26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239A7-BE79-43E9-B9F4-6E1A3BF7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41BC2-53E7-431F-9598-C9D171C7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FD1C8-ABCA-4C57-81A2-D9EA3364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E92-F6EF-4E7C-B184-70236B68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B1A67-C02C-4052-9795-55F69201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33A7E-FC25-43F7-904A-3F6DBE6D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05E6A-DD10-4C1C-889F-7853F157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A0DC0-EEC9-4AD9-9AC5-0D9BA8F6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CF457-1514-408F-8991-BFB879A6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67A58-7135-4448-8FBE-1C5D20E6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5E782-3D2E-4393-9D16-FCCCE22B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04201-3985-4B87-B84B-8A56D472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D8838-5F5E-4119-BF20-318011D5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D729E-8C1F-43DE-B88E-608B08ED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5B0-1F01-4355-92C0-A4FFD1D8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E6DE3-552F-4B27-BBEC-BD18DA67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DDC32-9FF9-4A53-BE20-08185130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D848E-FD86-4A13-BA6C-9027976A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C48B5-B911-4FA8-9024-01F463C1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1DA88-CBF2-4D95-9B84-297C6A37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9E728-9D6A-4C47-91C2-752BD9C6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BD5CB-8685-4DFD-9FAB-871644E3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3F9E1-3725-4689-BDBA-BE1165F2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7434C-A472-4E2A-8EF1-FF587467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EB162-CB40-4E91-807F-071728FC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810-38F8-4D41-A515-D734E767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92329-428F-4564-A6EB-7A7D8333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54A38-109E-451E-AFD5-6C9837FF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92559-14A7-4937-891B-6E178DF5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288CE-EC44-4C77-A81C-DFC14773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02B51-50F5-429F-B5EE-40431C20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22E43-8760-4CC2-85F8-D6C21EFD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C9729-D089-47E2-919F-6F1F53F7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0922B-7B7D-424B-94D2-CCCA4013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A48E9-0F73-48AA-8224-45BD0ED4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B6B03-E3DB-4AA2-95CC-00F2C2E3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BF9-28CE-459B-810C-BEA0CD81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BA434-8B51-4BCB-9B14-5C41A145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CEBB4-B71F-4D08-80BD-3093008F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812D2-2CBE-454F-89D7-D4E9BF63A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9E25D-C1AB-4DC3-B6C7-6DDDCA94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CE341-42D4-424A-A9C6-EC1F869D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757B2-DF65-475C-B446-C1CF4E36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81224-81E7-4541-ADE1-3A610456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6A4EA-73EB-4CB2-95D9-33944851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AAA65-898A-401A-903E-CBF855C3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48984-B28F-4FF8-A9A4-6549293F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F66-75E9-4A6C-B8B4-4C22AC4B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A0005-E3CA-4E02-93D4-DBB67DBE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A98FF-B1E5-4C45-B39B-1EF7C956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DF7E5-B19C-492A-85D6-C8FE6F7D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F085D-0E0B-4EC1-9E4A-228E4411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C1FD0-163F-45BD-84DC-54AF6422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0B40E-12EA-4221-890D-BAD94FE6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BA03A-8AB9-4C60-A428-833BE988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1F919-85FD-430B-A1DD-C7069BA8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26307-9465-4BB8-8F2D-A95E3752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17DDF-DF06-4F5F-9A6B-B7780A83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D18-5D90-4A8F-8AD0-E2064BC2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7CDEF-ADE2-4A8A-88AE-0E6707DF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04B47-B4C5-455E-8813-B17A4539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3097B-8B0F-4D43-AEDB-D4CE0A85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13314-C6F9-44BB-8A8B-1B5A942E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FD900-3DC8-41BF-B2DF-3DA2EB77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F7FD3-8ACA-436F-93DB-96F33901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F47E3-67D9-451F-81D6-5EA68393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D285C3-C315-423D-8622-52F6FFDC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550EE7-A79A-42B7-AD02-6DA92294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6832FE-04A2-473C-B5C1-BAA525D7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4F01-3B0C-4A63-AD29-FBD52C09D603}" type="slidenum"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0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8997-0711-4853-8935-B2EDB9C9F44C}" type="slidenum">
              <a:rPr b="0" lang="ko-KR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2"/>
          <p:cNvSpPr/>
          <p:nvPr/>
        </p:nvSpPr>
        <p:spPr>
          <a:xfrm>
            <a:off x="838080" y="2273400"/>
            <a:ext cx="7772400" cy="11588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91bbb6"/>
              </a:gs>
              <a:gs pos="100000">
                <a:srgbClr val="caded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5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022400" indent="-351000">
              <a:spcBef>
                <a:spcPts val="751"/>
              </a:spcBef>
              <a:buClr>
                <a:srgbClr val="657a56"/>
              </a:buClr>
              <a:buSzPct val="6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339920" indent="-316080">
              <a:spcBef>
                <a:spcPts val="751"/>
              </a:spcBef>
              <a:buClr>
                <a:srgbClr val="59877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681200" indent="-339840">
              <a:spcBef>
                <a:spcPts val="751"/>
              </a:spcBef>
              <a:buClr>
                <a:srgbClr val="657a56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10DC-E821-4B91-AA21-2AB9EE322A85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9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6E14-6A15-4EB4-85E0-7AE77D81A93E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7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3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3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32C7-2164-480E-A455-7E0D54AE3E16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CAE2-8BA7-4360-BA2B-70C2FAFD5BC6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6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6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4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775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79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949C-CC4D-4AB0-B154-EABA043431C8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Line 2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3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4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5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6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7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8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9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0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1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12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13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1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5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7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8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45" name="Group 20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6" name="Rectangle 21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22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Rectangle 23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24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Rectangle 25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Rectangle 26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Oval 27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8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9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30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6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47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273A-578E-49C8-ADA4-440B92CCED6F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9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0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4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5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5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581D-8DB8-4ADE-99AB-13B51BB04905}" type="slidenum">
              <a:rPr b="1" lang="ko-KR" sz="2600" spc="-1" strike="noStrike">
                <a:solidFill>
                  <a:srgbClr val="ffffff"/>
                </a:solidFill>
                <a:latin typeface="굴림"/>
                <a:ea typeface="굴림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4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F2EE-6305-40DE-A6AC-B98E1EFC2E72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2"/>
          <p:cNvSpPr/>
          <p:nvPr/>
        </p:nvSpPr>
        <p:spPr>
          <a:xfrm>
            <a:off x="685800" y="228600"/>
            <a:ext cx="8153280" cy="1158840"/>
          </a:xfrm>
          <a:custGeom>
            <a:avLst/>
            <a:gdLst>
              <a:gd name="textAreaLeft" fmla="*/ 0 w 8153280"/>
              <a:gd name="textAreaRight" fmla="*/ 8153640 w 8153280"/>
              <a:gd name="textAreaTop" fmla="*/ 0 h 1158840"/>
              <a:gd name="textAreaBottom" fmla="*/ 1159200 h 1158840"/>
            </a:gdLst>
            <a:ahLst/>
            <a:rect l="textAreaLeft" t="textAreaTop" r="textAreaRight" b="textAreaBottom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91bbb6"/>
              </a:gs>
              <a:gs pos="100000">
                <a:srgbClr val="d4e4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5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022400" indent="-351000">
              <a:spcBef>
                <a:spcPts val="751"/>
              </a:spcBef>
              <a:buClr>
                <a:srgbClr val="657a56"/>
              </a:buClr>
              <a:buSzPct val="6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339920" indent="-316080">
              <a:spcBef>
                <a:spcPts val="751"/>
              </a:spcBef>
              <a:buClr>
                <a:srgbClr val="59877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681200" indent="-339840">
              <a:spcBef>
                <a:spcPts val="751"/>
              </a:spcBef>
              <a:buClr>
                <a:srgbClr val="657a56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ABD1-B49E-41A6-B41B-32170EEBC4C8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C6D2-271A-4DFF-8434-145C58436CE1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698A-081C-4F4E-98BA-8FE8E6AFEB17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0BE4-B6ED-435C-8D28-742C168CF044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06FC-BC4F-423F-B70A-6081A1E44D40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6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7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7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8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9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9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9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9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6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9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20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1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23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365" name="Rectangle 24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25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715A-31D4-4337-BBDD-57FA104CC014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09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10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13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53AC-8C36-4BBC-8E28-2A329E5BF061}" type="slidenum">
              <a:rPr b="1" lang="ko-KR" sz="2600" spc="-1" strike="noStrike">
                <a:solidFill>
                  <a:srgbClr val="ffffff"/>
                </a:solidFill>
                <a:latin typeface="굴림"/>
                <a:ea typeface="굴림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0D77-8332-4EBD-BF02-87223ADA085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4.xml"/><Relationship Id="rId5" Type="http://schemas.openxmlformats.org/officeDocument/2006/relationships/image" Target="../media/image7.png"/><Relationship Id="rId6" Type="http://schemas.openxmlformats.org/officeDocument/2006/relationships/slide" Target="slide4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7.png"/><Relationship Id="rId10" Type="http://schemas.openxmlformats.org/officeDocument/2006/relationships/slide" Target="slide4.xml"/><Relationship Id="rId11" Type="http://schemas.openxmlformats.org/officeDocument/2006/relationships/image" Target="../media/image7.png"/><Relationship Id="rId12" Type="http://schemas.openxmlformats.org/officeDocument/2006/relationships/slide" Target="slide4.xml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그림 3" descr="25_ilosnow.gif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600"/>
            </a:br>
            <a:r>
              <a:rPr b="0" lang="en-US" sz="6600" spc="-1" strike="noStrike">
                <a:solidFill>
                  <a:srgbClr val="3d62f5"/>
                </a:solidFill>
                <a:latin typeface="Comic Sans MS"/>
              </a:rPr>
              <a:t>JAPANESE</a:t>
            </a:r>
            <a:br>
              <a:rPr sz="6600"/>
            </a:br>
            <a:r>
              <a:rPr b="0" lang="en-US" sz="6600" spc="-1" strike="noStrike">
                <a:solidFill>
                  <a:srgbClr val="3d62f5"/>
                </a:solidFill>
                <a:latin typeface="Comic Sans MS"/>
              </a:rPr>
              <a:t>MUSIC</a:t>
            </a: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2269800" y="3794040"/>
            <a:ext cx="46782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Yesle Le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iyeon Le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BLK:B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HY목각파임B"/>
                <a:ea typeface="HY목각파임B"/>
              </a:rPr>
              <a:t>International Musicians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193080" cy="396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68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68" fill="hold"/>
                                        <p:tgtEl>
                                          <p:spTgt spid="10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68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68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041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041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10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ohnnys &amp;association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285480" y="1571760"/>
            <a:ext cx="442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Johnny&amp;Associates (</a:t>
            </a:r>
            <a:r>
              <a:rPr b="1" lang="ja-JP" sz="1600" spc="-1" strike="noStrike">
                <a:solidFill>
                  <a:srgbClr val="000000"/>
                </a:solidFill>
                <a:latin typeface="Candara"/>
                <a:ea typeface="HY바다L"/>
              </a:rPr>
              <a:t>ジャニーズ</a:t>
            </a:r>
            <a:r>
              <a:rPr b="1" lang="ko-KR" sz="1600" spc="-1" strike="noStrike">
                <a:solidFill>
                  <a:srgbClr val="000000"/>
                </a:solidFill>
                <a:latin typeface="Candara"/>
                <a:ea typeface="HY바다L"/>
              </a:rPr>
              <a:t>事務所</a:t>
            </a: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, janīzu jimusho), a well-known boys idol entertainment company in Japan, was established in 1963 by Johnny Kitagawa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It accepts and trains talented boys and promotes their debuts to the entertainment industry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ndara"/>
                <a:ea typeface="HY바다L"/>
              </a:rPr>
              <a:t>Starting with group name "Johnnys" in 1962, Johnny&amp;Associates has debuted over twenty groups so far. The most famous groups of today include SMAP(debuted in 1991), TOKIO(1994), V6(1996), Kinki Kids(1997), Arashi(1999), Tackey and Tsubasa(2001), NewS(2003), Kanjani∞(2005), KAT-TUN(2006), and Hey! Say! JUMP(2007)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4" name="그림 7" descr="heysayjumpheysayjump.jpg"/>
          <p:cNvPicPr/>
          <p:nvPr/>
        </p:nvPicPr>
        <p:blipFill>
          <a:blip r:embed="rId1"/>
          <a:stretch/>
        </p:blipFill>
        <p:spPr>
          <a:xfrm>
            <a:off x="4643280" y="1628640"/>
            <a:ext cx="3929400" cy="2372040"/>
          </a:xfrm>
          <a:prstGeom prst="rect">
            <a:avLst/>
          </a:prstGeom>
          <a:ln w="0">
            <a:noFill/>
          </a:ln>
        </p:spPr>
      </p:pic>
      <p:pic>
        <p:nvPicPr>
          <p:cNvPr id="1045" name="그림 8" descr="imagesCA7O2IJ0.jpg"/>
          <p:cNvPicPr/>
          <p:nvPr/>
        </p:nvPicPr>
        <p:blipFill>
          <a:blip r:embed="rId2"/>
          <a:stretch/>
        </p:blipFill>
        <p:spPr>
          <a:xfrm>
            <a:off x="5435640" y="4076640"/>
            <a:ext cx="2357280" cy="2357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그림 1" descr="wallpaper-arashi-co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2"/>
          <p:cNvSpPr/>
          <p:nvPr/>
        </p:nvSpPr>
        <p:spPr>
          <a:xfrm>
            <a:off x="1143000" y="100008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ありがとうごさいま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HY목판L"/>
                <a:ea typeface="HY목판L"/>
              </a:rPr>
              <a:t>CHAR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Traditional music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New Age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J-Pop 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International musician 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Y바다L"/>
                <a:ea typeface="HY바다L"/>
              </a:rPr>
              <a:t>Johnnys &amp; Association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Traditional Music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02944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둥근헤드라인"/>
                <a:ea typeface="휴먼둥근헤드라인"/>
              </a:rPr>
              <a:t>There are a several types of Japanese traditional music;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SzPct val="1764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-고딩M"/>
              </a:rPr>
              <a:t>が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ncient court music from China and Korea. It is the oldest type of Japanese, traditional music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びわ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4" action="ppaction://hlinksldjump"/>
              </a:rPr>
              <a:t>Biwa,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 kind of guitar with four string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のほ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during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6" action="ppaction://hlinksldjump"/>
              </a:rPr>
              <a:t>Noh performances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t basically consists of a chorus, the Hayashi flute, the Tsuzumi drum, and other instrument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そきょ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8" action="ppaction://hlinksldjump"/>
              </a:rPr>
              <a:t>Koto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type of zither with 13 strings. Later also accompanied by Shamisen and Shakuhachi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しぁくはち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10" action="ppaction://hlinksldjump"/>
              </a:rPr>
              <a:t>Shakuhachi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bamboo flute that is about 55 cm long. The name of the flute is its length expressed in 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</a:rPr>
              <a:t>shaku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an old Japanese unit of length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しぁみせのんがく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usic played with the </a:t>
            </a:r>
            <a:r>
              <a:rPr b="0" lang="en-US" sz="1400" spc="-1" strike="noStrike" u="sng">
                <a:solidFill>
                  <a:srgbClr val="657a56"/>
                </a:solidFill>
                <a:uFillTx/>
                <a:latin typeface="굴림"/>
                <a:hlinkClick r:id="rId12" action="ppaction://hlinksldjump"/>
              </a:rPr>
              <a:t>Shamisen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, a kind of guitar with only three strings. Kabuki and Bunraku performances are accompanied by the shamisen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SzPct val="17640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굴림"/>
              </a:rPr>
              <a:t>みんよ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Japanese folk songs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6" name="雅楽：越天楽  Gagaku-Etenraku.mp3" descr=""/>
          <p:cNvPicPr/>
          <p:nvPr/>
        </p:nvPicPr>
        <p:blipFill>
          <a:blip r:embed="rId14"/>
          <a:stretch/>
        </p:blipFill>
        <p:spPr>
          <a:xfrm>
            <a:off x="1571760" y="1643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7" name="HeikeOdori(Japanese Minyo).mp3" descr=""/>
          <p:cNvPicPr/>
          <p:nvPr/>
        </p:nvPicPr>
        <p:blipFill>
          <a:blip r:embed="rId15"/>
          <a:stretch/>
        </p:blipFill>
        <p:spPr>
          <a:xfrm>
            <a:off x="1571760" y="5572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06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06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582059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82795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그림 5" descr="untitled.bmp"/>
          <p:cNvPicPr/>
          <p:nvPr/>
        </p:nvPicPr>
        <p:blipFill>
          <a:blip r:embed="rId1"/>
          <a:stretch/>
        </p:blipFill>
        <p:spPr>
          <a:xfrm>
            <a:off x="5815080" y="0"/>
            <a:ext cx="3328920" cy="2103480"/>
          </a:xfrm>
          <a:prstGeom prst="rect">
            <a:avLst/>
          </a:prstGeom>
          <a:ln w="0">
            <a:noFill/>
          </a:ln>
        </p:spPr>
      </p:pic>
      <p:pic>
        <p:nvPicPr>
          <p:cNvPr id="1009" name="그림 6" descr="Shakuhachi_Set_1-anak1981.jpg"/>
          <p:cNvPicPr/>
          <p:nvPr/>
        </p:nvPicPr>
        <p:blipFill>
          <a:blip r:embed="rId2"/>
          <a:stretch/>
        </p:blipFill>
        <p:spPr>
          <a:xfrm>
            <a:off x="6467400" y="4037040"/>
            <a:ext cx="2676600" cy="2820960"/>
          </a:xfrm>
          <a:prstGeom prst="rect">
            <a:avLst/>
          </a:prstGeom>
          <a:ln w="0">
            <a:noFill/>
          </a:ln>
        </p:spPr>
      </p:pic>
      <p:sp>
        <p:nvSpPr>
          <p:cNvPr id="1010" name="TextBox 7"/>
          <p:cNvSpPr/>
          <p:nvPr/>
        </p:nvSpPr>
        <p:spPr>
          <a:xfrm>
            <a:off x="6983280" y="20001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to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こ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8"/>
          <p:cNvSpPr/>
          <p:nvPr/>
        </p:nvSpPr>
        <p:spPr>
          <a:xfrm>
            <a:off x="4857840" y="5429160"/>
            <a:ext cx="26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kuha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ゃくは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그림 9" descr="biwa.jpg"/>
          <p:cNvPicPr/>
          <p:nvPr/>
        </p:nvPicPr>
        <p:blipFill>
          <a:blip r:embed="rId3"/>
          <a:stretch/>
        </p:blipFill>
        <p:spPr>
          <a:xfrm>
            <a:off x="0" y="4324320"/>
            <a:ext cx="2571840" cy="2533680"/>
          </a:xfrm>
          <a:prstGeom prst="rect">
            <a:avLst/>
          </a:prstGeom>
          <a:ln w="0">
            <a:noFill/>
          </a:ln>
        </p:spPr>
      </p:pic>
      <p:sp>
        <p:nvSpPr>
          <p:cNvPr id="1013" name="TextBox 10"/>
          <p:cNvSpPr/>
          <p:nvPr/>
        </p:nvSpPr>
        <p:spPr>
          <a:xfrm>
            <a:off x="0" y="38577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wa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び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그림 10" descr="250px-Noh3.jpg"/>
          <p:cNvPicPr/>
          <p:nvPr/>
        </p:nvPicPr>
        <p:blipFill>
          <a:blip r:embed="rId4"/>
          <a:stretch/>
        </p:blipFill>
        <p:spPr>
          <a:xfrm>
            <a:off x="0" y="0"/>
            <a:ext cx="3643200" cy="2681280"/>
          </a:xfrm>
          <a:prstGeom prst="rect">
            <a:avLst/>
          </a:prstGeom>
          <a:ln w="0">
            <a:noFill/>
          </a:ln>
        </p:spPr>
      </p:pic>
      <p:pic>
        <p:nvPicPr>
          <p:cNvPr id="1015" name="그림 11" descr="images.jpg"/>
          <p:cNvPicPr/>
          <p:nvPr/>
        </p:nvPicPr>
        <p:blipFill>
          <a:blip r:embed="rId5"/>
          <a:stretch/>
        </p:blipFill>
        <p:spPr>
          <a:xfrm>
            <a:off x="2500200" y="4714920"/>
            <a:ext cx="2357640" cy="2143080"/>
          </a:xfrm>
          <a:prstGeom prst="rect">
            <a:avLst/>
          </a:prstGeom>
          <a:ln w="0">
            <a:noFill/>
          </a:ln>
        </p:spPr>
      </p:pic>
      <p:sp>
        <p:nvSpPr>
          <p:cNvPr id="1016" name="직사각형 12"/>
          <p:cNvSpPr/>
          <p:nvPr/>
        </p:nvSpPr>
        <p:spPr>
          <a:xfrm>
            <a:off x="2643120" y="400068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m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みせ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직사각형 13"/>
          <p:cNvSpPr/>
          <p:nvPr/>
        </p:nvSpPr>
        <p:spPr>
          <a:xfrm>
            <a:off x="0" y="264312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h Performance(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の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그림 3" descr="32_ilosnow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New age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837720" y="1428840"/>
            <a:ext cx="80074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New age is music of various styles, which is intended to create inspiration, relaxation, and positive feelings, often used by listeners for yoga, massage, inspiration, relaxation, meditation and reading as a method of stress management or to create a peaceful atmosphere in their home or other environments often associated with environmentalism and New Age spirituality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lnSpc>
                <a:spcPct val="15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The most famous New Age music artists are Japanese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Yuki Guramoto</a:t>
            </a:r>
            <a:r>
              <a:rPr b="1" lang="ja-JP" sz="1900" spc="-1" strike="noStrike">
                <a:solidFill>
                  <a:srgbClr val="ffffff"/>
                </a:solidFill>
                <a:latin typeface="굴림"/>
                <a:ea typeface="MS PGothic"/>
              </a:rPr>
              <a:t>（ゆき　ぐらもと）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is called the father of new age music in the world.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Also Hisaishi</a:t>
            </a:r>
            <a:r>
              <a:rPr b="1" lang="ja-JP" sz="1900" spc="-1" strike="noStrike">
                <a:solidFill>
                  <a:srgbClr val="ffffff"/>
                </a:solidFill>
                <a:latin typeface="굴림"/>
                <a:ea typeface="MS PGothic"/>
              </a:rPr>
              <a:t>（ひさいし）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Joe and Ryuischi</a:t>
            </a:r>
            <a:r>
              <a:rPr b="1" lang="ko-KR" sz="19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Sakamoto are the famous artist, too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  <a:p>
            <a:pPr marL="332640" indent="-332640"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굴림"/>
              </a:rPr>
              <a:t>the reason why Japanese' new age music are popular is because the music is introduced through Japanese animation suitably</a:t>
            </a:r>
            <a:endParaRPr b="0" lang="en-US" sz="19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그림 12" descr="6_ilosnow.gif"/>
          <p:cNvPicPr/>
          <p:nvPr/>
        </p:nvPicPr>
        <p:blipFill>
          <a:blip r:embed="rId2"/>
          <a:stretch/>
        </p:blipFill>
        <p:spPr>
          <a:xfrm>
            <a:off x="0" y="0"/>
            <a:ext cx="9275760" cy="6858000"/>
          </a:xfrm>
          <a:prstGeom prst="rect">
            <a:avLst/>
          </a:prstGeom>
          <a:ln w="0">
            <a:noFill/>
          </a:ln>
        </p:spPr>
      </p:pic>
      <p:pic>
        <p:nvPicPr>
          <p:cNvPr id="1022" name="그림 6" descr="joe-hisaishi.jpg"/>
          <p:cNvPicPr/>
          <p:nvPr/>
        </p:nvPicPr>
        <p:blipFill>
          <a:blip r:embed="rId3"/>
          <a:stretch/>
        </p:blipFill>
        <p:spPr>
          <a:xfrm>
            <a:off x="0" y="0"/>
            <a:ext cx="4243320" cy="3962520"/>
          </a:xfrm>
          <a:prstGeom prst="rect">
            <a:avLst/>
          </a:prstGeom>
          <a:ln w="0">
            <a:noFill/>
          </a:ln>
        </p:spPr>
      </p:pic>
      <p:pic>
        <p:nvPicPr>
          <p:cNvPr id="1023" name="그림 7" descr="767485.jpg"/>
          <p:cNvPicPr/>
          <p:nvPr/>
        </p:nvPicPr>
        <p:blipFill>
          <a:blip r:embed="rId4"/>
          <a:stretch/>
        </p:blipFill>
        <p:spPr>
          <a:xfrm>
            <a:off x="728676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024" name="그림 8" descr="lake louise.jpg"/>
          <p:cNvPicPr/>
          <p:nvPr/>
        </p:nvPicPr>
        <p:blipFill>
          <a:blip r:embed="rId5"/>
          <a:stretch/>
        </p:blipFill>
        <p:spPr>
          <a:xfrm>
            <a:off x="4929120" y="1571760"/>
            <a:ext cx="4214880" cy="2514600"/>
          </a:xfrm>
          <a:prstGeom prst="rect">
            <a:avLst/>
          </a:prstGeom>
          <a:ln w="0">
            <a:noFill/>
          </a:ln>
        </p:spPr>
      </p:pic>
      <p:pic>
        <p:nvPicPr>
          <p:cNvPr id="1025" name="그림 9" descr="ryuichi-sakamoto.jpg"/>
          <p:cNvPicPr/>
          <p:nvPr/>
        </p:nvPicPr>
        <p:blipFill>
          <a:blip r:embed="rId6"/>
          <a:stretch/>
        </p:blipFill>
        <p:spPr>
          <a:xfrm>
            <a:off x="0" y="4495680"/>
            <a:ext cx="3548160" cy="2362320"/>
          </a:xfrm>
          <a:prstGeom prst="rect">
            <a:avLst/>
          </a:prstGeom>
          <a:ln w="0">
            <a:noFill/>
          </a:ln>
        </p:spPr>
      </p:pic>
      <p:pic>
        <p:nvPicPr>
          <p:cNvPr id="1026" name="그림 11" descr="mrlawrenceost_cover.jpg"/>
          <p:cNvPicPr/>
          <p:nvPr/>
        </p:nvPicPr>
        <p:blipFill>
          <a:blip r:embed="rId7"/>
          <a:stretch/>
        </p:blipFill>
        <p:spPr>
          <a:xfrm>
            <a:off x="3500280" y="4500720"/>
            <a:ext cx="2857680" cy="2357280"/>
          </a:xfrm>
          <a:prstGeom prst="rect">
            <a:avLst/>
          </a:prstGeom>
          <a:ln w="0">
            <a:noFill/>
          </a:ln>
        </p:spPr>
      </p:pic>
      <p:sp>
        <p:nvSpPr>
          <p:cNvPr id="1027" name="TextBox 12"/>
          <p:cNvSpPr/>
          <p:nvPr/>
        </p:nvSpPr>
        <p:spPr>
          <a:xfrm>
            <a:off x="0" y="41432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るゅいち さかも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13"/>
          <p:cNvSpPr/>
          <p:nvPr/>
        </p:nvSpPr>
        <p:spPr>
          <a:xfrm>
            <a:off x="4929120" y="5716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らもと ゆう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14"/>
          <p:cNvSpPr/>
          <p:nvPr/>
        </p:nvSpPr>
        <p:spPr>
          <a:xfrm>
            <a:off x="4311720" y="0"/>
            <a:ext cx="5461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ひさい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ぞ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0" name="Yuhki Kuramoto 'Lake Louise'.mp3" descr=""/>
          <p:cNvPicPr/>
          <p:nvPr/>
        </p:nvPicPr>
        <p:blipFill>
          <a:blip r:embed="rId8"/>
          <a:stretch/>
        </p:blipFill>
        <p:spPr>
          <a:xfrm>
            <a:off x="514836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31" name="Ryuichi Sakamoto - Rain.mp3" descr=""/>
          <p:cNvPicPr/>
          <p:nvPr/>
        </p:nvPicPr>
        <p:blipFill>
          <a:blip r:embed="rId9"/>
          <a:stretch/>
        </p:blipFill>
        <p:spPr>
          <a:xfrm>
            <a:off x="0" y="4643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2" name="菊次郎の夏　summer.mp3" descr=""/>
          <p:cNvPicPr/>
          <p:nvPr/>
        </p:nvPicPr>
        <p:blipFill>
          <a:blip r:embed="rId10"/>
          <a:stretch/>
        </p:blipFill>
        <p:spPr>
          <a:xfrm>
            <a:off x="3851280" y="357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032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32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86304" fill="hold"/>
                                        <p:tgtEl>
                                          <p:spTgt spid="10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03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3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28256" fill="hold"/>
                                        <p:tgtEl>
                                          <p:spTgt spid="10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15723" fill="hold"/>
                                        <p:tgtEl>
                                          <p:spTgt spid="10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Y목각파임B"/>
                <a:ea typeface="HY목각파임B"/>
              </a:rPr>
              <a:t>J-Pop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  <a:ea typeface="HY바다L"/>
              </a:rPr>
              <a:t>J- Pop means ‘Japanese pop’ but is also a loosely defined musical genre that entered the musical mainstream of Japan in the 1990s. 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  <a:ea typeface="HY바다L"/>
              </a:rPr>
              <a:t>The Japanese music industry is the second largest country in the world. 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</a:rPr>
              <a:t>The Most j-pop singers are organized by in a group. The largest group of j-pop singer is 108 members in a group.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2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Candara"/>
              </a:rPr>
              <a:t>It was coined by the Japanese media to distinguish Japanese music from foreign music and now refers to most of Japanese popular music.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marL="402840" indent="-402840" algn="just">
              <a:lnSpc>
                <a:spcPct val="100000"/>
              </a:lnSpc>
              <a:spcBef>
                <a:spcPts val="499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" dur="20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6697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03dff"/>
                </a:solidFill>
                <a:latin typeface="HY얕은샘물M"/>
                <a:ea typeface="HY얕은샘물M"/>
              </a:rPr>
              <a:t>J-Pop</a:t>
            </a:r>
            <a:endParaRPr b="0" lang="en-US" sz="8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6" name="동영상_0001.wmv" descr=""/>
          <p:cNvPicPr/>
          <p:nvPr/>
        </p:nvPicPr>
        <p:blipFill>
          <a:blip r:embed="rId1"/>
          <a:stretch/>
        </p:blipFill>
        <p:spPr>
          <a:xfrm>
            <a:off x="1714680" y="1714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036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036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10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그림 3" descr="10_ilosnow.gif"/>
          <p:cNvPicPr/>
          <p:nvPr/>
        </p:nvPicPr>
        <p:blipFill>
          <a:blip r:embed="rId1"/>
          <a:stretch/>
        </p:blipFill>
        <p:spPr>
          <a:xfrm>
            <a:off x="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HY목각파임B"/>
                <a:ea typeface="HY목각파임B"/>
              </a:rPr>
              <a:t>International musicians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In Japan, there are many international musicians; Caucasian(American, Canadians, Australian, Korean, Chinese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HY센스L"/>
              </a:rPr>
              <a:t>…</a:t>
            </a: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.)</a:t>
            </a:r>
            <a:endParaRPr b="0" lang="en-US" sz="3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HY센스L"/>
                <a:ea typeface="HY센스L"/>
              </a:rPr>
              <a:t>Because people wants to listen more variety songs.</a:t>
            </a:r>
            <a:endParaRPr b="0" lang="en-US" sz="3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68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68" fill="hold"/>
                                        <p:tgtEl>
                                          <p:spTgt spid="10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68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7:57:29Z</dcterms:created>
  <dc:creator>SD#34</dc:creator>
  <dc:description/>
  <dc:language>en-US</dc:language>
  <cp:lastModifiedBy>Owner</cp:lastModifiedBy>
  <dcterms:modified xsi:type="dcterms:W3CDTF">2009-12-17T05:45:15Z</dcterms:modified>
  <cp:revision>66</cp:revision>
  <dc:subject/>
  <dc:title> JAPANESE MUSIC </dc:title>
</cp:coreProperties>
</file>