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4538-F705-4C69-B678-B6094869C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D62B-4D2D-4DEE-A751-2AD51AF937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F4A6-4CF5-4CFF-A1B3-99E296B40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ACB6-F399-4152-9A1C-0A92AA0C2A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0E53-88CF-43BC-B1B6-AA95A69291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992C-A8F7-44B6-A9B0-14780157C9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B0C6-9D82-410A-98DF-096CF420FC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2E3D-D907-44FD-BF91-AD639A3F8D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BB61-6C24-4662-B8A3-CF0F5AE695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E0A-8E90-4BBC-AC73-803F69B1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8D2-A92E-4AB7-B2F4-9E488EDB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256-F60F-45A8-9615-649D8F68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7F6-EAD3-482F-896A-03B3AE95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06AD-0C56-495F-AA1F-ECD0FC19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ED07-5429-48C8-9C4C-EBFBD643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E019-EA6F-41A3-9B64-9390C4CF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6362-062E-4443-8E7E-E59689C6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0337-4D46-47DF-AE8A-1CA0336B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32E5-647F-4457-976A-95293B89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DD12-0676-43B1-A1C1-E05F4831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8A8-F1A3-4412-B2B0-598743DE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934A-34C6-4EF7-9E4D-28E8D5D5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6B16-6954-4817-9D94-2E054B2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0A4C-8414-4579-8860-7F3C6ED6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3BCF-1C34-4AA4-9016-A481C3D9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8226-0F83-47AE-A563-235CE64B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67D-BB8D-48D2-9841-2A46D305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EAF-0F41-42BD-B410-F170ABA0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9CF-0B08-4C99-98CD-32404C9C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260-A3D0-4868-8CA4-2E11195C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0AE-04B5-4DBF-B51E-D515D837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895-32C1-4A66-B3E5-A4E6F2C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0CB-6E8E-4CA8-B1BB-7F8B448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E624-7774-4C29-8EEA-8350A5BF0FD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>
              <a:gd name="textAreaLeft" fmla="*/ 0 w 150840"/>
              <a:gd name="textAreaRight" fmla="*/ 151200 w 150840"/>
              <a:gd name="textAreaTop" fmla="*/ 0 h 4845240"/>
              <a:gd name="textAreaBottom" fmla="*/ 4845600 h 4845240"/>
            </a:gdLst>
            <a:ahLst/>
            <a:rect l="textAreaLeft" t="textAreaTop" r="textAreaRight" b="textAreaBottom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6A39-341E-44E1-8A22-96DF1D07720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　スポー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サツカ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すも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　　　　　　やきゆう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People fill the Baseball Stadium’s in Japan the by Thousa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y come in team colours and aren’t afraid to express their feeling about the g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927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076760" y="106848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Fans and their Love for the game.</a:t>
            </a: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247" name="Picture 7" descr="tokyodome"/>
          <p:cNvPicPr/>
          <p:nvPr/>
        </p:nvPicPr>
        <p:blipFill>
          <a:blip r:embed="rId1"/>
          <a:stretch/>
        </p:blipFill>
        <p:spPr>
          <a:xfrm>
            <a:off x="4572000" y="2286000"/>
            <a:ext cx="426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Sumo Wrest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In a sumo bout, a wrestler attempts to force his opponent out of a circular r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 Sport originated in Japan where the sport is practiced profession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re are six grand tournaments annu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 sumo wrestler is also known as a Rikish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Wrestlers have training every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Beginner wrestlers get up earlier than m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&lt;--- Daily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250px-Sumoworkout"/>
          <p:cNvPicPr/>
          <p:nvPr/>
        </p:nvPicPr>
        <p:blipFill>
          <a:blip r:embed="rId1"/>
          <a:stretch/>
        </p:blipFill>
        <p:spPr>
          <a:xfrm>
            <a:off x="685800" y="2484360"/>
            <a:ext cx="39243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are required to live in sumo training stable known as Hehy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All Their daily activities such as eating and clothing are dictated by strict tra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throw salt onto the ring to purify it, before figh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merican Typewriter"/>
              </a:rPr>
              <a:t>The 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4" descr="JapanSumoMatch.jpg"/>
          <p:cNvPicPr/>
          <p:nvPr/>
        </p:nvPicPr>
        <p:blipFill>
          <a:blip r:embed="rId1"/>
          <a:stretch/>
        </p:blipFill>
        <p:spPr>
          <a:xfrm>
            <a:off x="4143240" y="1674720"/>
            <a:ext cx="4429440" cy="43974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The matches are in a ring 4.55 m in diameter and 16.26 square met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Wrestlers enter the stadium in seperate wings of the stadium to make sure they dont see there opponent  before the mat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Before the match wrestlers swat facing each other to show that they don’t have any wepon’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rth American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 rot="16200000">
            <a:off x="2139120" y="3239280"/>
            <a:ext cx="6324480" cy="55483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ost North Americans consider sumo wrestling as jo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me people realize the importance of sumo wrestling  to Japan and respect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サツカ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occer in Japan started in Hi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chools and Universities in the m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19th century. Soccer is a 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popular sport in the country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apan, many people start at an ear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ge.The Japanese people are b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pporters of the J.Leag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JONakamura"/>
          <p:cNvPicPr/>
          <p:nvPr/>
        </p:nvPicPr>
        <p:blipFill>
          <a:blip r:embed="rId1"/>
          <a:stretch/>
        </p:blipFill>
        <p:spPr>
          <a:xfrm>
            <a:off x="5424480" y="1981080"/>
            <a:ext cx="2367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J.Leagu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most popular soccer league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2 major leagues, 18 teams in ea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J. League board had to goals for the fu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have 100 clubs in the league by their 100th sea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separate teams and produce another Div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Foreigne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Gary Linek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(England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Nagoya Grampu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Dunga (Coach of Brazil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ubilo Iw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Zico (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Brazil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Leonardo (Coach of AC Milan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images"/>
          <p:cNvPicPr/>
          <p:nvPr/>
        </p:nvPicPr>
        <p:blipFill>
          <a:blip r:embed="rId1"/>
          <a:stretch/>
        </p:blipFill>
        <p:spPr>
          <a:xfrm>
            <a:off x="5743440" y="4071960"/>
            <a:ext cx="1756080" cy="1596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images-1"/>
          <p:cNvPicPr/>
          <p:nvPr/>
        </p:nvPicPr>
        <p:blipFill>
          <a:blip r:embed="rId2"/>
          <a:stretch/>
        </p:blipFill>
        <p:spPr>
          <a:xfrm>
            <a:off x="5591160" y="1981080"/>
            <a:ext cx="20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Compet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Most Championships: Kashima Antler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Longest Reigning Champions: Kashima Antlers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J.League Cup: Tamagawa Cla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Emperor’s Cup: Gamba Os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images"/>
          <p:cNvPicPr/>
          <p:nvPr/>
        </p:nvPicPr>
        <p:blipFill>
          <a:blip r:embed="rId1"/>
          <a:stretch/>
        </p:blipFill>
        <p:spPr>
          <a:xfrm>
            <a:off x="4794120" y="1981080"/>
            <a:ext cx="3632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やきゅ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  <a:ea typeface="ヒラギノ角ゴ Pro W3"/>
              </a:rPr>
              <a:t>Baseball was introduced to japan in 1872,B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y horace wilson, who taught at the Kaisei School in Tok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Hiroshi Hiraoka, who was in United States studying engineering, introduced the game to his co-workers at Japan national railways in 1878.He created the first baseball t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Now baseball is one of the most popular sports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high school teams have 2 annual tournaments nation wide.accumulating at a final match at Hanshin Koshien Stadium in Nishinomiy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t’s a common site to see the losing teams players coming off the field in tears after being elimntaed  by  the tournament by a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Na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922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Ichiro is</a:t>
            </a:r>
            <a:r>
              <a:rPr b="1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rguably the best baseball player Japan has produc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Ichiro holds 9 Japanese baseball records including: Seven-time PL batting champ (‘94-’00) hits in a season (‘94) Got on base in a record 69 consecutive games (‘94) 216 consecutive at-bats without a strikeout (‘9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first started to play when he was 8.He took part twice in the National High School Baseball Tournament at Koshein Stad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6" descr="suzuki_ichiro"/>
          <p:cNvPicPr/>
          <p:nvPr/>
        </p:nvPicPr>
        <p:blipFill>
          <a:blip r:embed="rId1"/>
          <a:stretch/>
        </p:blipFill>
        <p:spPr>
          <a:xfrm>
            <a:off x="731880" y="1981080"/>
            <a:ext cx="3602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Nippon Professional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st level of Baseball in Jap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s call it Puro Yaky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s traced back to Tokyo Baseball 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currently 12 teams in the NP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Rival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Saitama Seibu Lions and the Chiba Lotte Mari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n the Centrel League there is fierce competitions between The Yokohama Baystars and The Yomiuri Gia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images-1"/>
          <p:cNvPicPr/>
          <p:nvPr/>
        </p:nvPicPr>
        <p:blipFill>
          <a:blip r:embed="rId1"/>
          <a:stretch/>
        </p:blipFill>
        <p:spPr>
          <a:xfrm>
            <a:off x="4952880" y="2286000"/>
            <a:ext cx="37720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20:09Z</dcterms:created>
  <dc:creator>SD#34</dc:creator>
  <dc:description/>
  <dc:language>en-US</dc:language>
  <cp:lastModifiedBy>dilraj brar</cp:lastModifiedBy>
  <dcterms:modified xsi:type="dcterms:W3CDTF">2009-12-15T04:58:31Z</dcterms:modified>
  <cp:revision>26</cp:revision>
  <dc:subject/>
  <dc:title>スポーツ</dc:title>
</cp:coreProperties>
</file>