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A4B8-6F64-425F-B9C8-5FC8D295F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B2C5-4890-483E-B9DD-BD7EACE951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9464-4A1B-4131-94CA-50BCD5F02D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5BF0-19EE-4B59-A317-FDCB11E2A2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CDFD-8BAB-4DEE-A67C-0CE630F194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876D-B95F-4D4A-8702-C92CE17F6A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8476-B3E8-4B6D-AC2B-223A78643F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6750-CAAA-475F-A193-0236FDC1B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10E1-1656-43D9-BD61-B9E2A5183D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2F2-E547-48D1-83E7-F4CF1FDB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C8B-0F84-40DF-B582-89B1AE03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E49-E6A3-4A28-8C18-249273C6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B8A-872A-43C9-ABD9-B70DC152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7074-6BAA-4387-82F9-3E757555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674F-4FD3-4A1B-96AC-466E6F2C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D339-1264-4C77-9A8A-D01024C1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C5C3-AC71-44C5-8CCA-637CD949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89FB-DB03-4997-96C4-7A2BCEF0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3104-237D-4355-8866-ED7F3427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3EE0-5069-4527-AC61-3836DF36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45D-72E4-4824-BD7E-34E1C00A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713A-0F63-4C64-ADFA-5B6B556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3FD0-DA7D-464B-A36C-B0596784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B879-D311-4F80-8DD5-D3CCD2B8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CD39-3523-4EF0-A83F-28B3F08A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09F1-0CF7-494B-B599-4676A082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93D-E35E-40CF-A526-403C7B8F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211-B71E-4860-BD3D-CFA29640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83F-4DD7-4FE9-9B23-5AC21CA3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7EC-FE45-4C4F-ADD2-5B7F3C59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0D8-9331-4A2C-9CC3-876844F7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DD8-7017-408A-B295-D87759DE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7F7-578F-451A-9DB5-16A0ABA4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AE35-A204-438D-969F-0C3D5468492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>
              <a:gd name="textAreaLeft" fmla="*/ 0 w 150840"/>
              <a:gd name="textAreaRight" fmla="*/ 151200 w 150840"/>
              <a:gd name="textAreaTop" fmla="*/ 0 h 4845240"/>
              <a:gd name="textAreaBottom" fmla="*/ 4845600 h 4845240"/>
            </a:gdLst>
            <a:ahLst/>
            <a:rect l="textAreaLeft" t="textAreaTop" r="textAreaRight" b="textAreaBottom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340C-A4D4-47D4-BDBE-7EBFB6C52A4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　スポー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サツカ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すも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　　　　　　やきゆう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People fill the Baseball Stadium’s in Japan the by Thousa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y come in team colours and aren’t afraid to express their feeling about the g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927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076760" y="106848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Fans and their Love for the game.</a:t>
            </a: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247" name="Picture 7" descr="tokyodome"/>
          <p:cNvPicPr/>
          <p:nvPr/>
        </p:nvPicPr>
        <p:blipFill>
          <a:blip r:embed="rId1"/>
          <a:stretch/>
        </p:blipFill>
        <p:spPr>
          <a:xfrm>
            <a:off x="4572000" y="2286000"/>
            <a:ext cx="426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Sumo Wrest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In a sumo bout, a wrestler attempts to force his opponent out of a circular r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 Sport originated in Japan where the sport is practiced profession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re are six grand tournaments annu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 sumo wrestler is also known as a Rikish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Wrestlers have training every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Beginner wrestlers get up earlier than m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&lt;--- Daily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250px-Sumoworkout"/>
          <p:cNvPicPr/>
          <p:nvPr/>
        </p:nvPicPr>
        <p:blipFill>
          <a:blip r:embed="rId1"/>
          <a:stretch/>
        </p:blipFill>
        <p:spPr>
          <a:xfrm>
            <a:off x="685800" y="2484360"/>
            <a:ext cx="39243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are required to live in sumo training stable known as Hehy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All Their daily activities such as eating and clothing are dictated by strict tra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throw salt onto the ring to purify it, before figh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merican Typewriter"/>
              </a:rPr>
              <a:t>The 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4" descr="JapanSumoMatch.jpg"/>
          <p:cNvPicPr/>
          <p:nvPr/>
        </p:nvPicPr>
        <p:blipFill>
          <a:blip r:embed="rId1"/>
          <a:stretch/>
        </p:blipFill>
        <p:spPr>
          <a:xfrm>
            <a:off x="4143240" y="1674720"/>
            <a:ext cx="4429440" cy="43974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The matches are in a ring 4.55 m in diameter and 16.26 square met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Wrestlers enter the stadium in seperate wings of the stadium to make sure they dont see there opponent  before the mat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Before the match wrestlers swat facing each other to show that they don’t have any wepon’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rth American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 rot="16200000">
            <a:off x="2139120" y="3239280"/>
            <a:ext cx="6324480" cy="55483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ost North Americans consider sumo wrestling as jo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me people realize the importance of sumo wrestling  to Japan and respect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サツカ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occer in Japan started in Hi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chools and Universities in the m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19th century. Soccer is a 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popular sport in the country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apan, many people start at an ear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ge.The Japanese people are b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pporters of the J.Leag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JONakamura"/>
          <p:cNvPicPr/>
          <p:nvPr/>
        </p:nvPicPr>
        <p:blipFill>
          <a:blip r:embed="rId1"/>
          <a:stretch/>
        </p:blipFill>
        <p:spPr>
          <a:xfrm>
            <a:off x="5424480" y="1981080"/>
            <a:ext cx="2367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J.Leagu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most popular soccer league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2 major leagues, 18 teams in ea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J. League board had to goals for the fu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have 100 clubs in the league by their 100th sea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separate teams and produce another Div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Foreigne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Gary Linek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(England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Nagoya Grampu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Dunga (Coach of Brazil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ubilo Iw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Zico (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Brazil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Leonardo (Coach of AC Milan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images"/>
          <p:cNvPicPr/>
          <p:nvPr/>
        </p:nvPicPr>
        <p:blipFill>
          <a:blip r:embed="rId1"/>
          <a:stretch/>
        </p:blipFill>
        <p:spPr>
          <a:xfrm>
            <a:off x="5743440" y="4071960"/>
            <a:ext cx="1756080" cy="1596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images-1"/>
          <p:cNvPicPr/>
          <p:nvPr/>
        </p:nvPicPr>
        <p:blipFill>
          <a:blip r:embed="rId2"/>
          <a:stretch/>
        </p:blipFill>
        <p:spPr>
          <a:xfrm>
            <a:off x="5591160" y="1981080"/>
            <a:ext cx="20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Compet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Most Championships: Kashima Antler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Longest Reigning Champions: Kashima Antlers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J.League Cup: Tamagawa Cla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Emperor’s Cup: Gamba Os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images"/>
          <p:cNvPicPr/>
          <p:nvPr/>
        </p:nvPicPr>
        <p:blipFill>
          <a:blip r:embed="rId1"/>
          <a:stretch/>
        </p:blipFill>
        <p:spPr>
          <a:xfrm>
            <a:off x="4794120" y="1981080"/>
            <a:ext cx="3632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やきゅ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  <a:ea typeface="ヒラギノ角ゴ Pro W3"/>
              </a:rPr>
              <a:t>Baseball was introduced to japan in 1872,B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y horace wilson, who taught at the Kaisei School in Tok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Hiroshi Hiraoka, who was in United States studying engineering, introduced the game to his co-workers at Japan national railways in 1878.He created the first baseball t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Now baseball is one of the most popular sports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high school teams have 2 annual tournaments nation wide.accumulating at a final match at Hanshin Koshien Stadium in Nishinomiy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t’s a common site to see the losing teams players coming off the field in tears after being elimntaed  by  the tournament by a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Na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922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Ichiro is</a:t>
            </a:r>
            <a:r>
              <a:rPr b="1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rguably the best baseball player Japan has produc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Ichiro holds 9 Japanese baseball records including: Seven-time PL batting champ (‘94-’00) hits in a season (‘94) Got on base in a record 69 consecutive games (‘94) 216 consecutive at-bats without a strikeout (‘9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first started to play when he was 8.He took part twice in the National High School Baseball Tournament at Koshein Stad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6" descr="suzuki_ichiro"/>
          <p:cNvPicPr/>
          <p:nvPr/>
        </p:nvPicPr>
        <p:blipFill>
          <a:blip r:embed="rId1"/>
          <a:stretch/>
        </p:blipFill>
        <p:spPr>
          <a:xfrm>
            <a:off x="731880" y="1981080"/>
            <a:ext cx="3602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Nippon Professional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st level of Baseball in Jap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s call it Puro Yaky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s traced back to Tokyo Baseball 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currently 12 teams in the NP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Rival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Saitama Seibu Lions and the Chiba Lotte Mari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n the Centrel League there is fierce competitions between The Yokohama Baystars and The Yomiuri Gia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images-1"/>
          <p:cNvPicPr/>
          <p:nvPr/>
        </p:nvPicPr>
        <p:blipFill>
          <a:blip r:embed="rId1"/>
          <a:stretch/>
        </p:blipFill>
        <p:spPr>
          <a:xfrm>
            <a:off x="4952880" y="2286000"/>
            <a:ext cx="37720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20:09Z</dcterms:created>
  <dc:creator>SD#34</dc:creator>
  <dc:description/>
  <dc:language>en-US</dc:language>
  <cp:lastModifiedBy>dilraj brar</cp:lastModifiedBy>
  <dcterms:modified xsi:type="dcterms:W3CDTF">2009-12-15T04:58:31Z</dcterms:modified>
  <cp:revision>26</cp:revision>
  <dc:subject/>
  <dc:title>スポーツ</dc:title>
</cp:coreProperties>
</file>