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8EB5-71EC-4FB9-8BE2-FF9C68F9E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747E-62DA-4B9B-9D96-EBB441EE2F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50A3-FB06-41ED-A116-36B6C46B21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2643-3169-4059-B758-F5075766DD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2CCA-1140-485A-B100-081A7CF6DC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DC3C-F03C-4031-B2FF-E24C5C055A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4F2E-21C0-4232-BFE9-C4D16086E5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1DB1-FFAD-41CB-9DA2-A281B0C489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FB93-EC73-4D4C-81E5-69C846E3D2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02D-203E-4AE7-A25D-B0B1C44F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E21-C2FE-4EFF-B789-A6FEDA4C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3C8-72DA-4E49-9A23-E3AC1860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858-258C-4DF6-A1A5-05425400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BAB0-9FD4-4960-B5F8-97D6A5AF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350B-F976-492F-951C-C1DD7B23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61BF-E1E5-4DD1-BB6A-C613C1F0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3E7B-FC77-472A-A7CB-7EB271E1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70A3-86CC-49CA-AB9E-75B2FE4C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46AA-102C-461F-BAD7-F9BF7636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44E4-02AA-4877-9AA5-348A6AE8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77C-9237-4701-97C0-96EFAD82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5175-9499-4C03-AC7F-E866F365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A274-CD1E-4536-A44E-77C1117E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072A-B1A6-4048-9356-195C73D9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2C82-A9D3-43D9-B3CB-E6B6D027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0848-9868-490E-B005-BDE2B691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5C4-EB40-4C8A-9D35-54D02A49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65D-EBB3-4D2B-80F9-B6B379CA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CF2-E66B-4426-B130-8003F0E3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5FF-D2D0-4BA0-A2B3-5EA5FDBC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05E-45C4-44E4-B562-F8B87514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AFC-B599-4245-86DA-C756CE31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B2B-C9E4-4663-AF79-D645BAD6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6944-043D-4F9F-9348-55BE3632176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>
              <a:gd name="textAreaLeft" fmla="*/ 0 w 150840"/>
              <a:gd name="textAreaRight" fmla="*/ 151200 w 150840"/>
              <a:gd name="textAreaTop" fmla="*/ 0 h 4845240"/>
              <a:gd name="textAreaBottom" fmla="*/ 4845600 h 4845240"/>
            </a:gdLst>
            <a:ahLst/>
            <a:rect l="textAreaLeft" t="textAreaTop" r="textAreaRight" b="textAreaBottom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08F6-6FB8-47B1-AE52-70FD7E10F92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　スポー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サツカ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すも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　　　　　　やきゆう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　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People fill the Baseball Stadium’s in Japan the by Thousand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y come in team colours and aren’t afraid to express their feeling about the ga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960" y="2057040"/>
            <a:ext cx="3927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076760" y="106848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Fans and their Love for the game.</a:t>
            </a: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247" name="Picture 7" descr="tokyodome"/>
          <p:cNvPicPr/>
          <p:nvPr/>
        </p:nvPicPr>
        <p:blipFill>
          <a:blip r:embed="rId1"/>
          <a:stretch/>
        </p:blipFill>
        <p:spPr>
          <a:xfrm>
            <a:off x="4572000" y="2286000"/>
            <a:ext cx="42670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Sumo Wrest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In a sumo bout, a wrestler attempts to force his opponent out of a circular r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 Sport originated in Japan where the sport is practiced profession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re are six grand tournaments annu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A sumo wrestler is also known as a Rikish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Tra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924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Wrestlers have training every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Beginner wrestlers get up earlier than m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&lt;--- Daily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250px-Sumoworkout"/>
          <p:cNvPicPr/>
          <p:nvPr/>
        </p:nvPicPr>
        <p:blipFill>
          <a:blip r:embed="rId1"/>
          <a:stretch/>
        </p:blipFill>
        <p:spPr>
          <a:xfrm>
            <a:off x="685800" y="2484360"/>
            <a:ext cx="39243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Trad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Wrestlers are required to live in sumo training stable known as Hehy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All Their daily activities such as eating and clothing are dictated by strict tra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Wrestlers throw salt onto the ring to purify it, before figh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merican Typewriter"/>
              </a:rPr>
              <a:t>The 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Content Placeholder 4" descr="JapanSumoMatch.jpg"/>
          <p:cNvPicPr/>
          <p:nvPr/>
        </p:nvPicPr>
        <p:blipFill>
          <a:blip r:embed="rId1"/>
          <a:stretch/>
        </p:blipFill>
        <p:spPr>
          <a:xfrm>
            <a:off x="4143240" y="1674720"/>
            <a:ext cx="4429440" cy="43974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The matches are in a ring 4.55 m in diameter and 16.26 square met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Wrestlers enter the stadium in seperate wings of the stadium to make sure they dont see there opponent  before the mat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Before the match wrestlers swat facing each other to show that they don’t have any wepon’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orth American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 rot="16200000">
            <a:off x="2139120" y="3239280"/>
            <a:ext cx="6324480" cy="55483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Most North Americans consider sumo wrestling as jo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ome people realize the importance of sumo wrestling  to Japan and respect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　　　　　サツカ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occer in Japan started in Hi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chools and Universities in the m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19th century. Soccer is a 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popular sport in the country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Japan, many people start at an ear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age.The Japanese people are b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pporters of the J.Leagu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JONakamura"/>
          <p:cNvPicPr/>
          <p:nvPr/>
        </p:nvPicPr>
        <p:blipFill>
          <a:blip r:embed="rId1"/>
          <a:stretch/>
        </p:blipFill>
        <p:spPr>
          <a:xfrm>
            <a:off x="5424480" y="1981080"/>
            <a:ext cx="2367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J.Leagu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most popular soccer league in Jap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2 major leagues, 18 teams in ea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J. League board had to goals for the fu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50796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American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o have 100 clubs in the league by their 100th sea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50796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American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o separate teams and produce another Divi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Famous Foreigner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Gary Linek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(England Legend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Nagoya Grampu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Dunga (Coach of Brazil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Jubilo Iwa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Zico (World Cup Champio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Brazil Legend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Kashima Antl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Leonardo (Coach of AC Milan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World Cup Champio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Kashima Antl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images"/>
          <p:cNvPicPr/>
          <p:nvPr/>
        </p:nvPicPr>
        <p:blipFill>
          <a:blip r:embed="rId1"/>
          <a:stretch/>
        </p:blipFill>
        <p:spPr>
          <a:xfrm>
            <a:off x="5743440" y="4071960"/>
            <a:ext cx="1756080" cy="1596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images-1"/>
          <p:cNvPicPr/>
          <p:nvPr/>
        </p:nvPicPr>
        <p:blipFill>
          <a:blip r:embed="rId2"/>
          <a:stretch/>
        </p:blipFill>
        <p:spPr>
          <a:xfrm>
            <a:off x="5591160" y="1981080"/>
            <a:ext cx="2033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Competi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Most Championships: Kashima Antler 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Longest Reigning Champions: Kashima Antlers 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Current Champions of the J.League Cup: Tamagawa Cla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Current Champions of the Emperor’s Cup: Gamba Osa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images"/>
          <p:cNvPicPr/>
          <p:nvPr/>
        </p:nvPicPr>
        <p:blipFill>
          <a:blip r:embed="rId1"/>
          <a:stretch/>
        </p:blipFill>
        <p:spPr>
          <a:xfrm>
            <a:off x="4794120" y="1981080"/>
            <a:ext cx="3632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やきゅ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  <a:ea typeface="ヒラギノ角ゴ Pro W3"/>
              </a:rPr>
              <a:t>Baseball was introduced to japan in 1872,B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y horace wilson, who taught at the Kaisei School in Tok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Hiroshi Hiraoka, who was in United States studying engineering, introduced the game to his co-workers at Japan national railways in 1878.He created the first baseball t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Now baseball is one of the most popular sports in jap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high school teams have 2 annual tournaments nation wide.accumulating at a final match at Hanshin Koshien Stadium in Nishinomiy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It’s a common site to see the losing teams players coming off the field in tears after being elimntaed  by  the tournament by a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Famous Na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922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zuki Ichiro is</a:t>
            </a:r>
            <a:r>
              <a:rPr b="1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arguably the best baseball player Japan has produc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Ichiro holds 9 Japanese baseball records including: Seven-time PL batting champ (‘94-’00) hits in a season (‘94) Got on base in a record 69 consecutive games (‘94) 216 consecutive at-bats without a strikeout (‘9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zuki first started to play when he was 8.He took part twice in the National High School Baseball Tournament at Koshein Stad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6" descr="suzuki_ichiro"/>
          <p:cNvPicPr/>
          <p:nvPr/>
        </p:nvPicPr>
        <p:blipFill>
          <a:blip r:embed="rId1"/>
          <a:stretch/>
        </p:blipFill>
        <p:spPr>
          <a:xfrm>
            <a:off x="731880" y="1981080"/>
            <a:ext cx="3602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Nippon Professional Base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st level of Baseball in Jap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s call it Puro Yaky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s traced back to Tokyo Baseball Cl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currently 12 teams in the NP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Rival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Saitama Seibu Lions and the Chiba Lotte Mari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In the Centrel League there is fierce competitions between The Yokohama Baystars and The Yomiuri Gia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6" descr="images-1"/>
          <p:cNvPicPr/>
          <p:nvPr/>
        </p:nvPicPr>
        <p:blipFill>
          <a:blip r:embed="rId1"/>
          <a:stretch/>
        </p:blipFill>
        <p:spPr>
          <a:xfrm>
            <a:off x="4952880" y="2286000"/>
            <a:ext cx="37720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20:09Z</dcterms:created>
  <dc:creator>SD#34</dc:creator>
  <dc:description/>
  <dc:language>en-US</dc:language>
  <cp:lastModifiedBy>dilraj brar</cp:lastModifiedBy>
  <dcterms:modified xsi:type="dcterms:W3CDTF">2009-12-15T04:58:31Z</dcterms:modified>
  <cp:revision>26</cp:revision>
  <dc:subject/>
  <dc:title>スポーツ</dc:title>
</cp:coreProperties>
</file>