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5831-9709-46AD-AC13-E62E6F338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5398-717F-4118-90F4-4C8F1183B0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A0C1-2ADC-48FF-B91D-A16F0BEC6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1C37-E3CE-4DC0-91ED-9D21E734DF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D10A-D4D8-4B80-B7D7-AC2F5BF60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7CF2-A187-418F-A375-1F05D8BEBF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8A53-C71F-4EF7-B0A8-3AA62D7636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2CC-CE4C-48E1-ABC7-EBDC39B66D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BF6C-5F75-4D29-9367-88B009548E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2A1C-C451-48BA-818E-C1D2D5E1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C2F-4CDD-4CB8-89A8-1570243A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3D9-CE57-497A-98F5-E5E171D7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90F8-AB8A-4792-AD2B-A545E48E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2042-7E03-4FD4-8FC1-390427A9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0F27-88FB-4F60-82B1-2405497C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0317-07F3-47E7-A457-F00F5770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E93D-5765-428E-B5DD-8F46AD60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0516-1382-4960-BC0E-C002E47F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B143-F762-4971-AFC8-3D4AC674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2E9A-B939-4024-B0F6-AB621DD5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24AE-E64C-4219-8648-579A4435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2A36-1157-46F8-A0C7-B367A9C5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C93B-33D2-4D9A-BF58-C2B1AF9C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53D8-DCBD-4B42-8579-A2B9B27F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248D-65DC-4516-B58D-A0862656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042F-5DA8-4AE6-87F6-393DBD42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212-3DCE-437F-8A45-FBBCB437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D2A-9CB5-4DB9-9194-20A37121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034-8941-4D03-B8DD-EE493094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40A9-0288-4B56-BFBA-4E071373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361-A86B-46BB-93D6-AE178D3C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037-95FB-4AC9-A190-F4E767F9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196-9115-4F1A-B5F6-020ACD1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7118-3A47-4D8F-B543-A5B965C75A4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merican Typewriter"/>
              </a:endParaRPr>
            </a:p>
          </p:txBody>
        </p:sp>
      </p:grpSp>
      <p:sp>
        <p:nvSpPr>
          <p:cNvPr id="170" name="Freeform 70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>
              <a:gd name="textAreaLeft" fmla="*/ 0 w 150840"/>
              <a:gd name="textAreaRight" fmla="*/ 151200 w 150840"/>
              <a:gd name="textAreaTop" fmla="*/ 0 h 4845240"/>
              <a:gd name="textAreaBottom" fmla="*/ 4845600 h 4845240"/>
            </a:gdLst>
            <a:ahLst/>
            <a:rect l="textAreaLeft" t="textAreaTop" r="textAreaRight" b="textAreaBottom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5380-F1A2-4397-BE24-B65E411465A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ff"/>
                </a:solidFill>
                <a:latin typeface="Arial"/>
              </a:rPr>
              <a:t>　スポー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サツカ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すも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6"/>
              </a:rPr>
              <a:t>　　　　　　やきゆう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People fill the Baseball Stadium’s in Japan the by Thousand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y come in team colours and aren’t afraid to express their feeling about the ga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3927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076760" y="106848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Fans and their Love for the game.</a:t>
            </a:r>
            <a:endParaRPr b="0" lang="en-US" sz="24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247" name="Picture 7" descr="tokyodome"/>
          <p:cNvPicPr/>
          <p:nvPr/>
        </p:nvPicPr>
        <p:blipFill>
          <a:blip r:embed="rId1"/>
          <a:stretch/>
        </p:blipFill>
        <p:spPr>
          <a:xfrm>
            <a:off x="4572000" y="2286000"/>
            <a:ext cx="426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Sumo Wrest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In a sumo bout, a wrestler attempts to force his opponent out of a circular r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 Sport originated in Japan where the sport is practiced profession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There are six grand tournaments ann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A sumo wrestler is also known as a Rikish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9243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Wrestlers have training every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Beginner wrestlers get up earlier than m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&lt;--- Daily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250px-Sumoworkout"/>
          <p:cNvPicPr/>
          <p:nvPr/>
        </p:nvPicPr>
        <p:blipFill>
          <a:blip r:embed="rId1"/>
          <a:stretch/>
        </p:blipFill>
        <p:spPr>
          <a:xfrm>
            <a:off x="685800" y="2484360"/>
            <a:ext cx="39243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Trad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are required to live in sumo training stable known as Hehy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All Their daily activities such as eating and clothing are dictated by strict tra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Wrestlers throw salt onto the ring to purify it, before figh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merican Typewriter"/>
              </a:rPr>
              <a:t>The B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4" descr="JapanSumoMatch.jpg"/>
          <p:cNvPicPr/>
          <p:nvPr/>
        </p:nvPicPr>
        <p:blipFill>
          <a:blip r:embed="rId1"/>
          <a:stretch/>
        </p:blipFill>
        <p:spPr>
          <a:xfrm>
            <a:off x="4143240" y="1674720"/>
            <a:ext cx="4429440" cy="43974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The matches are in a ring 4.55 m in diameter and 16.26 square met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Wrestlers enter the stadium in seperate wings of the stadium to make sure they dont see there opponent  before the mat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Arial"/>
              </a:rPr>
              <a:t>Before the match wrestlers swat facing each other to show that they don’t have any wepon’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rth American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 rot="16200000">
            <a:off x="2139120" y="3239280"/>
            <a:ext cx="6324480" cy="55483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ost North Americans consider sumo wrestling as jo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7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me people realize the importance of sumo wrestling  to Japan and respect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　　　　　サツカ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occer in Japan started in Hig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chools and Universities in the m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19th century. Soccer is a 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popular sport in the country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apan, many people start at an ear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ge.The Japanese people are bi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pporters of the J.Leag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JONakamura"/>
          <p:cNvPicPr/>
          <p:nvPr/>
        </p:nvPicPr>
        <p:blipFill>
          <a:blip r:embed="rId1"/>
          <a:stretch/>
        </p:blipFill>
        <p:spPr>
          <a:xfrm>
            <a:off x="5424480" y="1981080"/>
            <a:ext cx="2367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J.Leagu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most popular soccer league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2 major leagues, 18 teams in ea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J. League board had to goals for the fu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have 100 clubs in the league by their 100th sea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50796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o separate teams and produce another Divi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Foreigne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27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Gary Linek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(England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Nagoya Grampu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Dunga (Coach of Brazil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Jubilo Iw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Zico (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Brazil Legend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Leonardo (Coach of AC Milan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World Cup Champ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Kashima Antl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26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images"/>
          <p:cNvPicPr/>
          <p:nvPr/>
        </p:nvPicPr>
        <p:blipFill>
          <a:blip r:embed="rId1"/>
          <a:stretch/>
        </p:blipFill>
        <p:spPr>
          <a:xfrm>
            <a:off x="5743440" y="4071960"/>
            <a:ext cx="1756080" cy="1596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images-1"/>
          <p:cNvPicPr/>
          <p:nvPr/>
        </p:nvPicPr>
        <p:blipFill>
          <a:blip r:embed="rId2"/>
          <a:stretch/>
        </p:blipFill>
        <p:spPr>
          <a:xfrm>
            <a:off x="5591160" y="1981080"/>
            <a:ext cx="2033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Competi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Most Championships: Kashima Antler (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Longest Reigning Champions: Kashima Antlers 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J.League Cup: Tamagawa Clas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merican Typewriter"/>
              </a:rPr>
              <a:t>Current Champions of the Emperor’s Cup: Gamba Os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images"/>
          <p:cNvPicPr/>
          <p:nvPr/>
        </p:nvPicPr>
        <p:blipFill>
          <a:blip r:embed="rId1"/>
          <a:stretch/>
        </p:blipFill>
        <p:spPr>
          <a:xfrm>
            <a:off x="4794120" y="1981080"/>
            <a:ext cx="3632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やきゅ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  <a:ea typeface="ヒラギノ角ゴ Pro W3"/>
              </a:rPr>
              <a:t>Baseball was introduced to japan in 1872,B</a:t>
            </a: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y horace wilson, who taught at the Kaisei School in Tok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Hiroshi Hiraoka, who was in United States studying engineering, introduced the game to his co-workers at Japan national railways in 1878.He created the first baseball t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Now baseball is one of the most popular sports in jap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The high school teams have 2 annual tournaments nation wide.accumulating at a final match at Hanshin Koshien Stadium in Nishinomiy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920" indent="-334800">
              <a:lnSpc>
                <a:spcPct val="10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t’s a common site to see the losing teams players coming off the field in tears after being elimntaed  by  the tournament by a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Famous Na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92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Ichiro is</a:t>
            </a:r>
            <a:r>
              <a:rPr b="1" lang="en-US" sz="1600" spc="-1" strike="noStrike">
                <a:solidFill>
                  <a:srgbClr val="ffffff"/>
                </a:solidFill>
                <a:latin typeface="American Typewriter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arguably the best baseball player Japan has produc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Ichiro holds 9 Japanese baseball records including: Seven-time PL batting champ (‘94-’00) hits in a season (‘94) Got on base in a record 69 consecutive games (‘94) 216 consecutive at-bats without a strikeout (‘9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00000"/>
              </a:lnSpc>
              <a:spcBef>
                <a:spcPts val="400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merican Typewriter"/>
              </a:rPr>
              <a:t>Suzuki first started to play when he was 8.He took part twice in the National High School Baseball Tournament at Koshein Stad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6" descr="suzuki_ichiro"/>
          <p:cNvPicPr/>
          <p:nvPr/>
        </p:nvPicPr>
        <p:blipFill>
          <a:blip r:embed="rId1"/>
          <a:stretch/>
        </p:blipFill>
        <p:spPr>
          <a:xfrm>
            <a:off x="731880" y="1981080"/>
            <a:ext cx="3602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Nippon Professional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st level of Baseball in Jap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s call it Puro Yaky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s traced back to Tokyo Baseball Cl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currently 12 teams in the NP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39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</a:rPr>
              <a:t>Rival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981080"/>
            <a:ext cx="392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Saitama Seibu Lions and the Chiba Lotte Mari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960" indent="-35244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merican Typewriter"/>
              </a:rPr>
              <a:t>In the Centrel League there is fierce competitions between The Yokohama Baystars and The Yomiuri Gia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6" descr="images-1"/>
          <p:cNvPicPr/>
          <p:nvPr/>
        </p:nvPicPr>
        <p:blipFill>
          <a:blip r:embed="rId1"/>
          <a:stretch/>
        </p:blipFill>
        <p:spPr>
          <a:xfrm>
            <a:off x="4952880" y="2286000"/>
            <a:ext cx="37720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20:09Z</dcterms:created>
  <dc:creator>SD#34</dc:creator>
  <dc:description/>
  <dc:language>en-US</dc:language>
  <cp:lastModifiedBy>dilraj brar</cp:lastModifiedBy>
  <dcterms:modified xsi:type="dcterms:W3CDTF">2009-12-15T04:58:31Z</dcterms:modified>
  <cp:revision>26</cp:revision>
  <dc:subject/>
  <dc:title>スポーツ</dc:title>
</cp:coreProperties>
</file>